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B053-157B-493B-886A-D89A666682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Ø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50D-9C38-4439-A7BC-983529D0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BEA-2734-407F-9BA7-DEEFA65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4A8-AB89-4FAB-8C42-1FF2DE13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887-92EB-4A52-B18F-08766F10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7758-DD15-4241-B49B-3F5E688B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B4A5-50C1-44B4-948C-FF7C7E57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EB4E-29D9-4D55-AB10-5F3F879A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A0B8-85AF-4273-9985-21219327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6EBE-26B6-4F28-A571-2A7B126C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BD5A-9103-4525-BEFB-0CBB852C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9EAF-B312-48E6-905E-46C90AD0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A46-4541-47E2-BF6F-85D6878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1E1B-928F-46E6-875D-FDC06FC8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B8E6-DEC7-43CB-9937-FBB96B8A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B844-C89C-4BCD-BC3E-522DF3D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0A94-CD94-4CE2-AE74-01297732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9C84-CA08-4B1B-BF42-CFCBB42E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748-5972-414A-95D9-0A41018B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E5E-2A11-4716-88A9-864BF83B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8B8-9C84-4833-AED6-2231845E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468-01F6-487A-8C25-266F0382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AC8-B107-4D3F-BA07-675F7DD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0BA-D087-4D7E-AE5D-2BBD8061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4BA-C0EC-4209-9CB4-83B8C8C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2D5-FB41-4FAA-8F99-8765D8860DC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287F-2C3A-4FE1-97F2-32C98FE8F7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K plomb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20480" y="450864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Verdana"/>
              </a:rPr>
              <a:t>http://www.naktuinbouw.nl/nederlands/nederlands.htm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 is beter dan 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geeft minder uit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=  2 jarig, beuk 3-jarig, naaldhout 3 jari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Wortelgestel compact met haar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orbeelde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39600"/>
            <a:ext cx="849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waliteitsverlies door v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11280" cy="305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76720" y="2579760"/>
            <a:ext cx="369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Afwijkingshoek m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maximaal 3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º zij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ze plant is onbruikba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ditie van de 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Uitgedroogde topp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Rimpelige b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Lichtere kleur wortels</a:t>
            </a:r>
            <a:br>
              <a:rPr sz="2800"/>
            </a:b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Afdekken bij vervo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Niet leveren op maandag/vrijda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Direkt opkui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 recht en onbeschadig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hoogte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dikte op 1 m boven de gro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50% bezet met 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4 sterke takken van max.  3 jr. ou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optak + 3 goed geplaatste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 boom moet verplant zij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telgestel van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oldoende vertakt, regelmatig gespreid, doorlopende hood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knikken, rondgegroeide of wurg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ziek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wortelgestel=4 tot 6Xstamomva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luit of container: regelmatig spreidend verdee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aadkorven aanbevol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cc"/>
                </a:solidFill>
                <a:latin typeface="Arial"/>
              </a:rPr>
              <a:t>Na het ingazen wordt bij zware kluiten een ijzeren draadkorf er omheen getrokken om de kluit te beschermen.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ering en maatvoer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m. omtrek op 1 m.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20 cm trapsgewijs per 2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Betula costata 6-8 1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50 cm trapsgewijs per 5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Acer pseudoplatanus 20-25 3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ven 50 cm trapsgewijs per 10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. Boom-X 50-6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 is kwalite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teit (soort- en rasechthei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zondhe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 (vorm en opbou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ische teel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heems materiaal -&gt; rassenlij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leur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0-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2-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14-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el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6-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8-2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20-2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25-3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olitair (So) natuurlijke vorm is bij het kweekproces gehandhaaf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om (B) takken op min.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emanteld: dunnen zijtakken over hele stam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NAKB gekeurd (N) plombe aanwezi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pil (S) jonge bo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veerde spil (GS) jonge boom, regelmatig met dunne zijtakken bez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er (V) recht, doorgaande kop en regelmatig bezet met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1836720" cy="616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666720"/>
            <a:ext cx="3554280" cy="619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56360" y="692280"/>
            <a:ext cx="2705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(P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12 cm (P 12) 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  12 cm 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(C) meer dan 1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2 liter (C2) inhoud: 2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5 tak (3-5T ): 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 2-tak: min.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0-80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0-op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133720"/>
            <a:ext cx="505080" cy="5540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0 éénjarige zaail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 tweejarige zaailing, verspe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a1 tweejarige zaailing afgep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2 driejarige zaailing als één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2+1 driejarige zaailing als twee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2279880" cy="328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51560" y="3573360"/>
            <a:ext cx="1792440" cy="3284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571400" cy="309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2086200" cy="309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56000" y="189000"/>
            <a:ext cx="1817640" cy="30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516720" y="18900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0" y="3500280"/>
            <a:ext cx="2228760" cy="335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268360" y="3500280"/>
            <a:ext cx="2401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+1: na elk groei-jaar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0+1: één-jarig beworteld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0-12: stamomtrek op 1 m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Met kluit (M.K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gegaasd (I.G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Draadkorf nr. 2, of 3 of 4 of 5 =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draadkorf 50 of 60 of 70 of 9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lmaat 12-14 omvang van de bol in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bbele neus (DN) alleen bij Narc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kwaliteit alleen bij rozen, min 3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 kwaliteit alleen bij rozen, min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lik op  het boompje voor meer informati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0348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1480" y="3622680"/>
          <a:ext cx="1585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622680"/>
                    <a:ext cx="1585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slag en groe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hankelijk va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dit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rfelijk bepaa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Herkomst zaad, stek- enthout (de identiteit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den -&gt; NAK-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ekken – enten -&gt; “select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ultuurvarieteiten (CV’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hankelijk van teelt- en vermeerderingswijz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ijv. één-jarig geënt kan veel groter zijn dan twee-jarig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Vermeerdings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omer- of winter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nt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culer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aai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aien of ste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toiler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ruim worden opgekweekt vragen meer grond en zijn duur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weinig ruimte krijgen worden wel lang maar niet di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j veel gewassen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ngte/dikteverhoud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dent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 Nederland toezicht door de NAKtuinbouw d.m.v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andaardkeu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Europese richtlijn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Nederlandse wetgev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ertifice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Fytosanitaire inspec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Plantenziektekundige dien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43:03Z</dcterms:created>
  <dc:creator>Peter</dc:creator>
  <dc:description/>
  <dc:language>en-US</dc:language>
  <cp:lastModifiedBy>default</cp:lastModifiedBy>
  <dcterms:modified xsi:type="dcterms:W3CDTF">2008-01-30T07:22:18Z</dcterms:modified>
  <cp:revision>10</cp:revision>
  <dc:subject/>
  <dc:title>Slide 1</dc:title>
</cp:coreProperties>
</file>