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0835-10A7-4032-8D93-521DA409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A2F4-E5F2-4953-9E9E-9095D6D4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6914-DD9B-45A2-B7FD-2739C580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8A55-D1AC-46EE-9FD5-804FD5B6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EF86-43D6-445A-9AFF-9C858D49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E592-C562-4699-B79D-9FA273EA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A7D0-F172-4682-AEEC-55830765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AA11-3249-422B-A018-7A64CF3D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A5A3-FD29-4241-8703-2DEA6A37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D4AE-55C7-42C0-B7A5-84F83CA8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9D2C-65F5-4CC2-844E-F2A5BD12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E168-EB5A-41C2-A1B9-FB419E6C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4C93-97AD-4F98-8654-6609D6C4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C959-3519-42FA-939B-7DB252E4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1F91-C771-4DD5-8EEB-DA3F8159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AE48-BA0B-4C0D-8DF1-9A977A24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13BF-1287-471E-8EFB-8C136F9E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3A49-27A8-45FE-8D95-9E5D2EB6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37A1-39CF-4F20-90A5-BEAD918E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D317-3B72-4C91-A380-B6EADFD0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394E-DF97-4A0E-A6A8-7A0F3294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C112-46D4-480F-AF25-C1927D6A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0B0F-A6AC-4DED-AA27-DEE486A8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B51F-6C59-4D21-8539-3E632B01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D76E-912B-46E8-B66E-6A1F8AD6FEC8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138C-BFA1-40C3-A1B0-698F4EABCD79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Onderzoek van de bodem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wind zijn neergeleg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het water zijn afgez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 is een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11-20T16:57:56Z</dcterms:modified>
  <cp:revision>5</cp:revision>
  <dc:subject/>
  <dc:title>Werkvoorbereiding</dc:title>
</cp:coreProperties>
</file>