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938BF-3089-41F8-A763-BE9617D76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D52FB-ACA0-4E35-9790-B953E389B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6EA09-F0BD-473C-82CB-2486B8DC8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A3993-CF3E-4FCF-9EC9-188A6CB72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B71E2-F756-474F-A8F8-74FE1822E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F6C0E-CC72-4EE9-B586-961C39D05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7B81F-DF5E-470D-B286-B1114DBF4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264F5-AB73-44CF-A7E0-263766984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9756D-0DD5-46FC-9C8B-187A3E21F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02CBB-1FF4-4A73-99C8-2E7705ED6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BA81D-E680-4E03-815C-92D7AB446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868ED-CF77-45E7-A4C8-F4BD84BB4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EBA85-CF39-4AF7-94FA-DED92327A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8B66C-777B-4C72-90DF-EB02C9FE1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D00AB-32E9-4078-B390-D73257193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163D3-C8A9-4BB8-BA67-9ECF72879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69188-9046-43EE-8B7C-AA13D6B06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F4B82-11BA-4CBC-B663-AD4A60951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1672B-AB7E-4B76-8BF3-F1A7AB3BD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EFF52-AA0D-451E-888E-7BF725333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37F9D-AF30-4ECD-9712-C3754FFD1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8DAAF-A894-4F89-A44B-6E740B05A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D3799-7717-4EE6-882E-E6B8F35D8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5D09B-B4F1-447F-A088-BD6FCD175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64BF9-2E49-4EAC-8E84-12FD7CE896AE}" type="slidenum">
              <a:rPr b="0" lang="nl-NL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08C6A-AE0B-464B-BC74-0CCFABCF608F}" type="slidenum">
              <a:rPr b="0" lang="nl-NL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Advies en planning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erst denken, dan do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Onderhouden van tuin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971640" y="1565280"/>
            <a:ext cx="7056360" cy="52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Onderhouden van tuin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at heb je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at wil je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at moet je dan doen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oor wie doe je dit eigenlijk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eb jij er wat aan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s de klant er gelukkig mee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Wat heb je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ventariseren van alle tuinelement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ppervlak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antall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ort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engtes (of strekkende meter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og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 kwaliteit van het materiaal of element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ebrek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Wat bekijk je nog meer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aar ligt het object of tuin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e is de toegankelijkheid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Zijn er beperkingen door bijv. de buurt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un je overal met je materiaal bijkomen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Zijn er beperkende werktijden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8280360" cy="412596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Overal toegang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Wat ga je navragen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s er een tekening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Zijn er speciale wens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fspraken over afvalverwerk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egang tot het terrein/tui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fspraken over registratie werktij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oorkeuren voor het werk, tijden, personeel, enz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Een tekening geeft duidelijkheid,</a:t>
            </a:r>
            <a:br>
              <a:rPr sz="3800"/>
            </a:b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maar is er niet altijd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476360" y="1554120"/>
            <a:ext cx="5256360" cy="43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8T12:33:23Z</dcterms:created>
  <dc:creator>default</dc:creator>
  <dc:description/>
  <dc:language>en-US</dc:language>
  <cp:lastModifiedBy>default</cp:lastModifiedBy>
  <dcterms:modified xsi:type="dcterms:W3CDTF">2008-09-18T12:47:27Z</dcterms:modified>
  <cp:revision>5</cp:revision>
  <dc:subject/>
  <dc:title>Advies en planning</dc:title>
</cp:coreProperties>
</file>