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9ACF-6200-4417-8D19-5C8108AD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8774-AD6B-4349-A458-768D7318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F2F-A419-4579-BAEB-E876114C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EF2C-61FA-44D9-9BB0-717A94C1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4F32-87BD-42B5-9E4D-DB56B28E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9686-42DC-4BF7-BAB4-215352C8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1BE-B687-4994-B1FD-12DD68FC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F1C-D814-4375-8B17-EF652318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1C5-03E2-4C97-BF4E-107CFB67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2A67-639B-4105-8D67-9222395C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FD4-D0C5-4661-A83A-6F1D014F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3157-9FAF-4A75-963C-2A980035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3BEE-DA16-4212-B074-1C20FC6AE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 van het onderhoud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pl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betekent dit alle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is geen re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passen aan de wensen van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k als tegenvoorstellen niet aan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eel op schrift vast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sschien in de vorm van een werkomschrijving of een best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grote klanten: beeldbe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843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 je dit zonder overleg uitvoeren omdat je het nodig vind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401840"/>
            <a:ext cx="72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otaal van alle werkzaamheden in een tu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verschillende onderhouds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sei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materialen noemen (bijv. bem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len goed toel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odig noodzakelijke machines no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mee kan worden gecalculeerd en offertes gema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kmanschap vraagt om veel kennis en ervaring en geen gezw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289320"/>
            <a:ext cx="5184720" cy="356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857680" cy="3695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51280" y="1268280"/>
            <a:ext cx="20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werkzaamheden die nodig zijn om het gewenste niveau te bereiken of be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 noodzakelijke werkzaamheden het ee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seizoen uitspl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nt kan bepalen welke werkzaamheden hij zelf kan of w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w vaktechnische inzicht is belangr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sadvies: vaak ter plaat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57184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1125360"/>
            <a:ext cx="3381480" cy="512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588000" y="2060640"/>
            <a:ext cx="2238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stel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oud in een tuin moet ergens to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nten hebben vaak een verwa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vaktechnische obstakels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financiele belemmering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klant betaalt, dus ook: bepa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76464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l elke klant dit mooi vin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 van een bedo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oppervlakte die begroeid is met gras kan dien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p te voetb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kinderen tenten te laten b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ok begroeid te zijn met bloeiende pla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ieren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et onkruidvrij zijn, of juist n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v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hoog stel je een grasmachin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11400"/>
            <a:ext cx="61930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er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onderhoud je een speelveld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siergaz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bloemrijk grasvel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gazon wat in de schaduw l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als er dieren worden gehou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et pad onkruidvrij zijn of mag er ook wat op of overheen groe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1168560"/>
            <a:ext cx="5977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weet je wat is gewen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inventarisatie goed rond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raag van de klant beoordelen op de haalbaarheid en zonodig een tegenvoorstel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kun je het gewoon z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5148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9:21:36Z</dcterms:created>
  <dc:creator>Administrator</dc:creator>
  <dc:description/>
  <dc:language>en-US</dc:language>
  <cp:lastModifiedBy>Administrator</cp:lastModifiedBy>
  <dcterms:modified xsi:type="dcterms:W3CDTF">2009-10-15T19:48:36Z</dcterms:modified>
  <cp:revision>2</cp:revision>
  <dc:subject/>
  <dc:title>Doel van het onderhoud, Onderhoudsplan Onderhoudsadvies</dc:title>
</cp:coreProperties>
</file>