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8ED9-84EC-43DC-AC54-D38E9B81D5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Ø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581-F823-4081-BB9D-A358DEB3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A81-0AAF-4E1A-AE88-A36E6E67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5DF1-972B-42C6-B32D-ABC3599B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6A1-5844-4C95-91FC-8C3A2B59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FEF4-A2CF-4EE7-AABF-A0717E87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57DA-ED65-478D-974E-82C1CA09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3ABE-D5BA-4D55-B28F-BE7107C4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CB78-7C6F-4802-8BAD-1AFF81DA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7AAB-17CB-4263-838B-F453EAFF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3C13-B535-4650-A25D-2323D50A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C2AD-1DFD-4709-89B2-A0D10233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092-048D-453E-8D37-63B63E8A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C4F7-50F5-4E84-A09D-76B79D1B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3EA0-070D-424C-BCFC-7B3B21C9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EFB2-27A5-40AB-B190-114CC317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39EF-9B65-4759-9FF7-75CCE92A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7549-F25A-4466-9F91-154CE01B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EDB-148B-412F-ACFA-44539E61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265A-0F6F-48AE-8CCF-A3D0E9E7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911-D87E-4601-B056-EEFC5668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8E2-D9BE-4AFD-B1B4-20B8BD83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87E-C2B0-49E6-8A7F-CB5D759A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493-D242-4E64-9503-459C1438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1DA-92C1-4FD5-A854-196A8DB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D0BA-8C48-43C8-B691-595A09969BF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1C97-ABDE-4424-BF70-A149E394264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K plomb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20480" y="450864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Verdana"/>
              </a:rPr>
              <a:t>http://www.naktuinbouw.nl/nederlands/nederlands.htm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 is beter dan 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geeft minder uitv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Jong plantsoen =  2 jarig, beuk 3-jarig, naaldhout 3 jarig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Wortelgestel compact met haar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5438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oorbeelde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39600"/>
            <a:ext cx="8496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waliteitsverlies door v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3311280" cy="305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76720" y="2579760"/>
            <a:ext cx="369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Afwijkingshoek m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maximaal 30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º zij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ze plant is onbruikba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ditie van de 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Uitgedroogde topp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Rimpelige b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Lichtere kleur wortels</a:t>
            </a:r>
            <a:br>
              <a:rPr sz="2800"/>
            </a:b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Afdekken bij vervo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Niet leveren op maandag/vrijda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aeaea"/>
                </a:solidFill>
                <a:latin typeface="Verdana"/>
              </a:rPr>
              <a:t>Direkt opkuil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 recht en onbeschadig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hoogte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mdikte op 1 m boven de gro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50% bezet met 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stens 4 sterke takken van max.  3 jr. ou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optak + 3 goed geplaatste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 boom moet verplant zij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telgestel van bom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oldoende vertakt, regelmatig gespreid, doorlopende hood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knikken, rondgegroeide of wurgworte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Geen ziek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wortelgestel=4 tot 6Xstamomva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luit of container: regelmatig spreidend verdee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aadkorven aanbevol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cc"/>
                </a:solidFill>
                <a:latin typeface="Arial"/>
              </a:rPr>
              <a:t>Na het ingazen wordt bij zware kluiten een ijzeren draadkorf er omheen getrokken om de kluit te beschermen.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rtering en maatvoer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m. omtrek op 1 m.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20 cm trapsgewijs per 2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Betula costata 6-8 1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Tot 50 cm trapsgewijs per 5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: Acer pseudoplatanus 20-25 3 X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ven 50 cm trapsgewijs per 10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b. Boom-X 50-6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 is kwalite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teit (soort- en rasechtheid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ezondhei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 (vorm en opbou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ische teel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heems materiaal -&gt; rassenlij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leurco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0-1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2-1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14-16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el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16-18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od betekent: sortering 18-2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 betekent: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rtering 20-2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lauw betekent: sortering 25-30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olitair (So) natuurlijke vorm is bij het kweekproces gehandhaaf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oom (B) takken op min. 18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emanteld: dunnen zijtakken over hele stam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NAKB gekeurd (N) plombe aanwezi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pil (S) jonge boo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Boomkwekersjargo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veerde spil (GS) jonge boom, regelmatig met dunne zijtakken beze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er (V) recht, doorgaande kop en regelmatig bezet met zij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067280" y="692280"/>
            <a:ext cx="1836720" cy="616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50920" y="666720"/>
            <a:ext cx="3554280" cy="6191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156360" y="692280"/>
            <a:ext cx="27050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(P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Pot 12 cm (P 12) 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  12 cm of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(C) meer dan 1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tainer 2 liter (C2) inhoud: 2 li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5 tak (3-5T ): 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 2-tak: min.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0-80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80-op lengte vanaf wortelh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716360" y="2133720"/>
            <a:ext cx="505080" cy="5540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0 éénjarige zaail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 tweejarige zaailing, verspe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a1 tweejarige zaailing afgepe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2 driejarige zaailing als één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2+1 driejarige zaailing als tweejarige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03640" y="3573360"/>
            <a:ext cx="2279880" cy="3284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51560" y="3573360"/>
            <a:ext cx="1792440" cy="3284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571400" cy="3095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2086200" cy="3095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356000" y="189000"/>
            <a:ext cx="1817640" cy="3024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516720" y="189000"/>
            <a:ext cx="2224080" cy="302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0" y="3500280"/>
            <a:ext cx="2228760" cy="335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268360" y="3500280"/>
            <a:ext cx="2401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+1+1: na elk groei-jaar verpl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0+1: één-jarig beworteld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10-12: stamomtrek op 1 m hoo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Met kluit (M.K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gegaasd (I.G.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Draadkorf nr. 2, of 3 of 4 of 5 =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Ø draadkorf 50 of 60 of 70 of 90 c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duidingen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lmaat 12-14 omvang van de bol in c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bbele neus (DN) alleen bij Narc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kwaliteit alleen bij rozen, min 3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 kwaliteit alleen bij rozen, min 2 gestelta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Klik op  het boompje voor meer informati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0348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281480" y="3622680"/>
          <a:ext cx="158580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622680"/>
                    <a:ext cx="15858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anslag en groe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fhankelijk va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itwendige kwalitei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diti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rfelijk bepaa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Herkomst zaad, stek- enthout (de identiteit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den -&gt; NAK-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ekken – enten -&gt; “select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ultuurvarieteiten (CV’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itwendige kwal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hankelijk van teelt- en vermeerderingswijz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Bijv. één-jarig geënt kan veel groter zijn dan twee-jarig 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Vermeerdings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omer- of winterst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nt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culeren (op een onderstam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aai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Zaaien of stekk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Afpenn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Verplant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Etoiler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eltwijz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ruim worden opgekweekt vragen meer grond en zijn duurd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ten die weinig ruimte krijgen worden wel lang maar niet di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j veel gewassen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ngte/dikteverhoud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leng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dentite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In Nederland toezicht door de NAKtuinbouw d.m.v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Standaardkeu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Europese richtlijne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Nederlandse wetgev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Certificering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Verdana"/>
              </a:rPr>
              <a:t>Fytosanitaire inspec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Verdana"/>
              </a:rPr>
              <a:t>Plantenziektekundige dien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9:43:03Z</dcterms:created>
  <dc:creator>Peter</dc:creator>
  <dc:description/>
  <dc:language>en-US</dc:language>
  <cp:lastModifiedBy>default</cp:lastModifiedBy>
  <dcterms:modified xsi:type="dcterms:W3CDTF">2008-01-30T07:22:18Z</dcterms:modified>
  <cp:revision>10</cp:revision>
  <dc:subject/>
  <dc:title>Slide 1</dc:title>
</cp:coreProperties>
</file>