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4AA2-C426-41CB-A54E-17805F856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13C5-651D-4356-9610-4C75875B3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CE29-353C-49BB-B35D-0EFF4B9FC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2F10-1F19-484F-B117-CD442D93A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3B9FF-EA1A-460B-92C3-BA0A178EB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A6348-1857-4725-A272-25E15899D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380BB-D819-439A-BCA6-336326EF5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470CD-0EDE-4E91-B6E8-B80446D16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37ADA-0052-483F-98AD-6654BA7F3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51FD7-6B1D-4189-9B2A-E8556C35E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A2E87-BC48-42EC-A21E-C7B2447DA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0FD9-AA90-4948-88A1-8861902A9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6F4AE-99B9-41AA-BDA1-122EFA01F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8B20E-7FA0-4163-95A1-69D6035AD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A97F7-BCCD-46F9-A7B7-F105B4290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D0790-1A8C-4019-A5C2-15F6B5828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C62A5-BE44-4205-8B75-B74ED7890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A399-CF27-485C-A637-3C1F0C863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86FE-5B3E-4A78-B382-BC1FBA1CA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1C2D-1816-4883-B769-5DAC985E2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6FF0-2BBC-40EF-952A-FE63F2954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ED7F-37DC-4FAF-9EF4-2E5BE7A86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AE28-DBA5-46E4-A049-B9F744CFB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3FB8-C34D-46B4-8565-A2232D9BB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F5553-219E-43D9-9374-7AF9D019DB1C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AAA60-4936-42E8-8C1F-099EDFB5C4A0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groenadviesburohoff.nl/fotoprojecten%20pag.%2011.htm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06633"/>
                </a:solidFill>
                <a:latin typeface="Garamond"/>
              </a:rPr>
              <a:t>Werkvoorbereiding Onderhoud van Tuinen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inventarisa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at heb i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Je moet veel vrag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oorkeur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eschiedenis van de tu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Is er een tekening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oet er wat worden veranderd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oe zit het met de verwerking van het afval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Enz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333360"/>
            <a:ext cx="8424720" cy="55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Je kunt meestal maar 1 x met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eet jui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ouw controles 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raa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zoek het terrein/gebi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Teken 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schrij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Beschrijf de toestan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Onderhoudstoest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Kwaliteite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ens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perking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ogelijkhe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Wees helde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oor je werkvoorbereid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oor je kla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oor je persone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oor je leveranci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aak je informatie overdraagbaar!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Maak/gebruik lijst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Inventarisatiesystem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schrijving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tandaar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24000" y="907920"/>
            <a:ext cx="2857320" cy="21909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50920" y="3716280"/>
            <a:ext cx="3238560" cy="22384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3686040" y="2762280"/>
            <a:ext cx="5457960" cy="40957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6524640" y="0"/>
            <a:ext cx="2619360" cy="26193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5"/>
          <a:stretch/>
        </p:blipFill>
        <p:spPr>
          <a:xfrm>
            <a:off x="3419640" y="0"/>
            <a:ext cx="238104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755640" y="404640"/>
            <a:ext cx="7561440" cy="567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Nieuw onderhoudswerk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Je kent het werk ni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Je kent de klant ni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Je moet een prijsopgave do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Je moet een planning ma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Je moet het juiste personeel uitkiez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Je moet het juiste materiaal inzett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Je moet de randvoorwaarden wet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De inventarisati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aar is h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oe is de toegankelijkhei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at kan wel en wat kan niet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ijn er andere beperkinge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at is er allemaal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at verwacht de klant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at mag het koste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24000" y="316080"/>
            <a:ext cx="8569080" cy="59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8360" y="1700280"/>
            <a:ext cx="3682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6633"/>
                </a:solidFill>
                <a:latin typeface="Garamond"/>
              </a:rPr>
              <a:t>Hoe is de ligging in de buurt?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981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Je moet dus veel wet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oeveelhe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Aantall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Leng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Inhou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Afsta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oog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enz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Je moet dus veel met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Oppervlak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Ra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oog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Aantall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schrijven van ongeregelde za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4T21:09:10Z</dcterms:created>
  <dc:creator>Peter</dc:creator>
  <dc:description/>
  <dc:language>en-US</dc:language>
  <cp:lastModifiedBy>Peter</cp:lastModifiedBy>
  <dcterms:modified xsi:type="dcterms:W3CDTF">2008-09-18T19:19:59Z</dcterms:modified>
  <cp:revision>4</cp:revision>
  <dc:subject/>
  <dc:title>Werkvoorbereiding</dc:title>
</cp:coreProperties>
</file>