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1D32-A35E-4D45-A58B-939D4CFB6E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Ø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614-2D5A-4738-B45A-5486C598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BF1-F432-48E0-A1A9-DA567766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908-6691-4734-A8B1-67866CC1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63B-5BED-4F22-93F1-CB62D438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E6B6-4B72-47F2-90EF-4F371B00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75E9-9061-494D-B669-0E86AFB4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1517-4662-4BD2-92E7-1314A6AE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6AB1-5B28-4BEF-B539-33642FBC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79A7-8351-427F-94B0-60035490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6068-7AB5-4EE5-A39B-0C290D9A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FDFD-FEDC-4178-810C-AF6B6D93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29F-C855-43E6-BEC5-D249216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2712-E77B-42E2-9343-7251419A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6EC9-F9C5-41F0-A156-AB665075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948E-0EC9-4FC7-B85A-1B09B374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23A6-2F10-4F8E-8CDE-8B33252B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A8CF-F0F6-493E-AF3F-74F59A5E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FD2-DBD1-4251-B04F-332002AE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D36-EEBC-4DBA-B9A4-48943824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662-2806-4C6A-B66A-1C1F83B9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5A9-326A-41D5-B190-842F17F1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416-B4A7-4B0B-8FD8-B7C1BE7F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A1F-1ADC-49D8-AF59-C06EE036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D1A-70D6-4E75-9FA6-FD90EAE7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64D0-E233-4342-996F-889AA7A5732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FAE2-C874-4B61-BB55-E35AF57455E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K plomb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20480" y="4508640"/>
            <a:ext cx="629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Verdana"/>
              </a:rPr>
              <a:t>http://www.naktuinbouw.nl/nederlands/nederlands.htm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 is beter dan 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geeft minder uitv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=  2 jarig, beuk 3-jarig, naaldhout 3 jarig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Wortelgestel compact met haar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5438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oorbeelde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39600"/>
            <a:ext cx="8496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waliteitsverlies door v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11280" cy="305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076720" y="2579760"/>
            <a:ext cx="369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Afwijkingshoek m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maximaal 3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º zij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ze plant is onbruikba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ditie van de 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Uitgedroogde topp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Rimpelige b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Lichtere kleur wortels</a:t>
            </a:r>
            <a:br>
              <a:rPr sz="2800"/>
            </a:b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Afdekken bij vervo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Niet leveren op maandag/vrijda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Direkt opkui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 recht en onbeschadig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hoogte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dikte op 1 m boven de gro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50% bezet met 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4 sterke takken van max.  3 jr. ou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optak + 3 goed geplaatste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 boom moet verplant zij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telgestel van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oldoende vertakt, regelmatig gespreid, doorlopende hood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knikken, rondgegroeide of wurg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ziek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wortelgestel=4 tot 6Xstamomva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luit of container: regelmatig spreidend verdee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aadkorven aanbevol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cc"/>
                </a:solidFill>
                <a:latin typeface="Arial"/>
              </a:rPr>
              <a:t>Na het ingazen wordt bij zware kluiten een ijzeren draadkorf er omheen getrokken om de kluit te beschermen.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ering en maatvoer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m. omtrek op 1 m.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20 cm trapsgewijs per 2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Betula costata 6-8 1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50 cm trapsgewijs per 5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Acer pseudoplatanus 20-25 3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ven 50 cm trapsgewijs per 10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. Boom-X 50-6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 is kwalite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teit (soort- en rasechthei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zondhei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 (vorm en opbou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ologische teel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heems materiaal -&gt; rassenlij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leurco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0-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2-1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14-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el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6-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8-2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20-2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25-3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olitair (So) natuurlijke vorm is bij het kweekproces gehandhaaf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om (B) takken op min.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emanteld: dunnen zijtakken over hele stam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NAKB gekeurd (N) plombe aanwezi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pil (S) jonge bo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veerde spil (GS) jonge boom, regelmatig met dunne zijtakken bez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er (V) recht, doorgaande kop en regelmatig bezet met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1836720" cy="616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666720"/>
            <a:ext cx="3554280" cy="619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56360" y="692280"/>
            <a:ext cx="2705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(P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12 cm (P 12) 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  12 cm of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(C) meer dan 1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2 liter (C2) inhoud: 2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-5 tak (3-5T ): 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 2-tak: min.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0-80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0-op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2133720"/>
            <a:ext cx="505080" cy="5540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0 éénjarige zaail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 tweejarige zaailing, verspe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a1 tweejarige zaailing afgep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2 driejarige zaailing als één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2+1 driejarige zaailing als twee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2279880" cy="3284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51560" y="3573360"/>
            <a:ext cx="1792440" cy="3284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571400" cy="309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2086200" cy="309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356000" y="189000"/>
            <a:ext cx="1817640" cy="302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516720" y="189000"/>
            <a:ext cx="2224080" cy="3024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0" y="3500280"/>
            <a:ext cx="2228760" cy="3357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2268360" y="3500280"/>
            <a:ext cx="2401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+1: na elk groei-jaar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0+1: één-jarig beworteld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0-12: stamomtrek op 1 m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Met kluit (M.K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gegaasd (I.G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Draadkorf nr. 2, of 3 of 4 of 5 =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draadkorf 50 of 60 of 70 of 9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lmaat 12-14 omvang van de bol in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bbele neus (DN) alleen bij Narci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kwaliteit alleen bij rozen, min 3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 kwaliteit alleen bij rozen, min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Klik op  het boompje voor meer informati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03480" y="474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81480" y="3622680"/>
          <a:ext cx="15858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622680"/>
                    <a:ext cx="15858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slag en groe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hankelijk va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dit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rfelijk bepaa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Herkomst zaad, stek- enthout (de identiteit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den -&gt; NAK-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ekken – enten -&gt; “select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ultuurvarieteiten (CV’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hankelijk van teelt- en vermeerderingswijz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ijv. één-jarig geënt kan veel groter zijn dan twee-jarig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Vermeerdings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omer- of winter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nt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culer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aai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aien of ste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toiler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ruim worden opgekweekt vragen meer grond en zijn duur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weinig ruimte krijgen worden wel lang maar niet di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j veel gewassen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ngte/dikteverhoud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imum 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dent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 Nederland toezicht door de NAKtuinbouw d.m.v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andaardkeu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Europese richtlijn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Nederlandse wetgev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ertifice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Fytosanitaire inspec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Plantenziektekundige dien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43:03Z</dcterms:created>
  <dc:creator>Peter</dc:creator>
  <dc:description/>
  <dc:language>en-US</dc:language>
  <cp:lastModifiedBy>default</cp:lastModifiedBy>
  <dcterms:modified xsi:type="dcterms:W3CDTF">2008-01-30T07:22:18Z</dcterms:modified>
  <cp:revision>10</cp:revision>
  <dc:subject/>
  <dc:title>Slide 1</dc:title>
</cp:coreProperties>
</file>