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418E-F0C2-4EBA-9666-B95B9FB5B9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Ø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F89-86D4-4CCD-8611-F2B96B8F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EE3-C73D-458C-A44B-FF5DE2B1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2E5-9A7B-4247-8906-CB96EB23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009-CFE0-4EB8-9B4B-84DB3C4E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5FA6-1883-4E19-9490-931CB63C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F11A-4865-4565-93DC-0AF482C1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EDBE-527E-4431-883A-44F8E788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E623-5205-431C-BE71-7D433979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087D-3923-4156-A4F0-A8CFD304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556E-92EA-468E-86CA-01927ECD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D346-9331-4B65-B971-B89329A8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31E-3BC9-44DE-A9E5-D78F1F73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7E65-B45F-4134-868A-58DC91AF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3CEB-CD68-4121-8255-1F8917CD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7977-82D9-42E6-B77B-BA00EDEE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39F7-7D29-4F94-9FD6-4B646081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6DF4-DCD8-4D84-8F0F-20C1BF80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BDC-F14F-4006-8EEE-15AC246B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12C-7521-4FF9-9147-AB184A82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A3B-4BE8-4A81-8B8E-7EF61C57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4C3-D307-4446-9D19-E7737138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D2C-5BE5-426D-9DFF-00D988E3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18D-D5DE-4126-BD59-0095140D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C93-3A3A-4EB8-944E-C94A52DB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71E3-382D-427A-9E68-10D54570DC4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AC39-5C54-4141-BC9A-64968224CAF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K plomb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20480" y="4508640"/>
            <a:ext cx="629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Verdana"/>
              </a:rPr>
              <a:t>http://www.naktuinbouw.nl/nederlands/nederlands.htm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splantso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 is beter dan 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geeft minder uitv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=  2 jarig, beuk 3-jarig, naaldhout 3 jarig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Wortelgestel compact met haar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5438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oorbeelde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39600"/>
            <a:ext cx="8496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waliteitsverlies door v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311280" cy="3057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076720" y="2579760"/>
            <a:ext cx="369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Afwijkingshoek m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maximaal 30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º zijn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ze plant is onbruikba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ditie van de 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Uitdrog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Uitgedroogde topp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Rimpelige b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Lichtere kleur wortels</a:t>
            </a:r>
            <a:br>
              <a:rPr sz="2800"/>
            </a:b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Afdekken bij vervo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Niet leveren op maandag/vrijda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Direkt opkui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 recht en onbeschadig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hoogte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dikte op 1 m boven de gro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50% bezet met 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4 sterke takken van max.  3 jr. ou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optak + 3 goed geplaatste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 boom moet verplant zij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telgestel van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oldoende vertakt, regelmatig gespreid, doorlopende hood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knikken, rondgegroeide of wurg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ziek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wortelgestel=4 tot 6Xstamomva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luit of container: regelmatig spreidend verdee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aadkorven aanbevol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530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cc"/>
                </a:solidFill>
                <a:latin typeface="Arial"/>
              </a:rPr>
              <a:t>Na het ingazen wordt bij zware kluiten een ijzeren draadkorf er omheen getrokken om de kluit te beschermen.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rtering en maatvoer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m. omtrek op 1 m.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20 cm trapsgewijs per 2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Betula costata 6-8 1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50 cm trapsgewijs per 5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Acer pseudoplatanus 20-25 3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ven 50 cm trapsgewijs per 10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. Boom-X 50-6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 is kwalite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dentiteit (soort- en rasechthei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zondhei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 (vorm en opbou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ologische teel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heems materiaal -&gt; rassenlij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leurco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0-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2-1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14-1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el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6-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8-2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20-2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25-3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olitair (So) natuurlijke vorm is bij het kweekproces gehandhaaf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om (B) takken op min.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emanteld: dunnen zijtakken over hele stam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NAKB gekeurd (N) plombe aanwezi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pil (S) jonge bo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veerde spil (GS) jonge boom, regelmatig met dunne zijtakken bez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er (V) recht, doorgaande kop en regelmatig bezet met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067280" y="692280"/>
            <a:ext cx="1836720" cy="616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666720"/>
            <a:ext cx="3554280" cy="6191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56360" y="692280"/>
            <a:ext cx="27050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(P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12 cm (P 12) 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  12 cm of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(C) meer dan 1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2 liter (C2) inhoud: 2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-5 tak (3-5T ): 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 2-tak: min.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0-80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80-op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2133720"/>
            <a:ext cx="505080" cy="5540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0 éénjarige zaail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 tweejarige zaailing, verspe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a1 tweejarige zaailing afgep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2 driejarige zaailing als één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2+1 driejarige zaailing als twee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2279880" cy="3284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51560" y="3573360"/>
            <a:ext cx="1792440" cy="3284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571400" cy="309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2086200" cy="309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356000" y="189000"/>
            <a:ext cx="1817640" cy="302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516720" y="189000"/>
            <a:ext cx="2224080" cy="3024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0" y="3500280"/>
            <a:ext cx="2228760" cy="3357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2268360" y="3500280"/>
            <a:ext cx="24019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+1: na elk groei-jaar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0+1: één-jarig beworteld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0-12: stamomtrek op 1 m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Met kluit (M.K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gegaasd (I.G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Draadkorf nr. 2, of 3 of 4 of 5 =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draadkorf 50 of 60 of 70 of 9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lmaat 12-14 omvang van de bol in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bbele neus (DN) alleen bij Narci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kwaliteit alleen bij rozen, min 3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 kwaliteit alleen bij rozen, min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Klik op  het boompje voor meer informati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03480" y="4740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81480" y="3622680"/>
          <a:ext cx="15858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622680"/>
                    <a:ext cx="15858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slag en groe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hankelijk va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dit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rfelijk bepaa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Herkomst zaad, stek- enthout (de identiteit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den -&gt; NAK-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ekken – enten -&gt; “select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ultuurvarieteiten (CV’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hankelijk van teelt- en vermeerderingswijz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ijv. één-jarig geënt kan veel groter zijn dan twee-jarig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Vermeerdings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omer- of winter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nt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culer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aai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aien of ste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toiler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ruim worden opgekweekt vragen meer grond en zijn duurd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weinig ruimte krijgen worden wel lang maar niet di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j veel gewassen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ngte/dikteverhoud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imum 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dent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 Nederland toezicht door de NAKtuinbouw d.m.v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andaardkeu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Europese richtlijn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Nederlandse wetgev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ertifice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Fytosanitaire inspec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Plantenziektekundige dien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43:03Z</dcterms:created>
  <dc:creator>Peter</dc:creator>
  <dc:description/>
  <dc:language>en-US</dc:language>
  <cp:lastModifiedBy>default</cp:lastModifiedBy>
  <dcterms:modified xsi:type="dcterms:W3CDTF">2008-01-30T07:22:18Z</dcterms:modified>
  <cp:revision>10</cp:revision>
  <dc:subject/>
  <dc:title>Slide 1</dc:title>
</cp:coreProperties>
</file>