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1CF1-93CE-44F8-9A85-6035BF27CED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Ø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4141-FB33-4F39-AD7E-19AC3CCFB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6407-BEBF-44D5-911A-09ECE604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7773-AE6C-46C2-88E2-78E2B067E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8DCB-F9ED-4AB6-9EA5-F770F54AC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248C-10B6-40D4-A777-695D270BA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F16FC-0F86-4087-870F-96B388BB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6C09-B604-4D05-8423-C198C494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2398-8DA4-4064-B78F-8CFDC865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9602-7AB6-4CFF-98EC-28123706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8E61-FA51-4B30-819E-211DCE17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578D-89E4-4725-93F1-7D81CB41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22D9-A6DC-4269-83FB-BA033F23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A2AC-FD9A-40F7-8BF5-3D04B2E7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2D69-D19E-4FBC-98A1-0E615556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5AAA-314F-47E2-972F-62AFEE58F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D8E7-ED7D-44C6-B6C7-A0553F15F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1613-3A99-4F89-8D79-03A1B3C67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26A8-5F17-4B87-96DD-7C109C3E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600E-2B45-477D-AA9C-13A71F0F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B685-5776-4EA7-8979-93FE9255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BB65-40D5-4913-B0DA-2D03BDE9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E355-748B-4902-9ED8-8756FB1E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1631-C7F3-4355-BE64-4CADDD37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EA13-08F5-4830-AD0E-9402699C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5289-8086-4936-8510-C2B413CE9D3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A081-2388-45BC-8F13-7265C948CF5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03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AK plomb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229600" cy="1981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320480" y="4508640"/>
            <a:ext cx="629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Verdana"/>
              </a:rPr>
              <a:t>http://www.naktuinbouw.nl/nederlands/nederlands.htm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osplantsoe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Verplanten is beter dan afpenn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Jong plantsoen geeft minder uitv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Jong plantsoen =  2 jarig, beuk 3-jarig, naaldhout 3 jarig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Wortelgestel compact met haarwortel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1419120"/>
            <a:ext cx="9144000" cy="54388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Voorbeelden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24000" y="39600"/>
            <a:ext cx="8496000" cy="677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Kwaliteitsverlies door verplante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4360" y="2492280"/>
            <a:ext cx="3311280" cy="3057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076720" y="2579760"/>
            <a:ext cx="369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Verdana"/>
              </a:rPr>
              <a:t>Afwijkingshoek ma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Verdana"/>
              </a:rPr>
              <a:t>maximaal 30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º zijn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eze plant is onbruikbaa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ditie van de plante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Uitdrogin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Verdana"/>
              </a:rPr>
              <a:t>Uitgedroogde topp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Verdana"/>
              </a:rPr>
              <a:t>Rimpelige bas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Verdana"/>
              </a:rPr>
              <a:t>Lichtere kleur wortels</a:t>
            </a:r>
            <a:br>
              <a:rPr sz="2800"/>
            </a:br>
            <a:r>
              <a:rPr b="0" lang="nl-NL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Verdana"/>
              </a:rPr>
              <a:t>Afdekken bij vervo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Verdana"/>
              </a:rPr>
              <a:t>Niet leveren op maandag/vrijda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Verdana"/>
              </a:rPr>
              <a:t>Direkt opkuil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Uitwendige kwaliteit Bome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am recht en onbeschadig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amhoogte 180 c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amdikte op 1 m boven de gron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instens 50% bezet met takk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instens 4 sterke takken van max.  3 jr. ou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Koptak + 3 goed geplaatste zijtakk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e boom moet verplant zij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ortelgestel van bome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Voldoende vertakt, regelmatig gespreid, doorlopende hoodwortel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Geen knikken, rondgegroeide of wurgwortel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Geen ziekt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Ø wortelgestel=4 tot 6Xstamomvan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Kluit of container: regelmatig spreidend verdeel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raadkorven aanbevol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6624720" cy="49672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530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cc"/>
                </a:solidFill>
                <a:latin typeface="Arial"/>
              </a:rPr>
              <a:t>Na het ingazen wordt bij zware kluiten een ijzeren draadkorf er omheen getrokken om de kluit te beschermen.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rtering en maatvoer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cm. omtrek op 1 m. Hoogt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Tot 20 cm trapsgewijs per 2 c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Vb: Betula costata 6-8 1 x verpla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Tot 50 cm trapsgewijs per 5 c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Vb: Acer pseudoplatanus 20-25 3 X verpla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Boven 50 cm trapsgewijs per 10 cm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Vb. Boom-X 50-60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at is kwaliteit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wendige kwaliteit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dentiteit (soort- en rasechtheid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ezondhei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Uitwendige kwaliteit (vorm en opbouw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iologische teel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heems materiaal -&gt; rassenlijs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Kleurco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ood betekent: sortering 10-12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it betekent: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rtering 12-14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lauw betekent: sortering 14-16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eel betekent: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rtering 16-18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ood betekent: sortering 18-20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it betekent: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rtering 20-25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lauw betekent: sortering 25-30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Boomkwekersjargon 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Solitair (So) natuurlijke vorm is bij het kweekproces gehandhaaf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Boom (B) takken op min. 180 c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Bemanteld: dunnen zijtakken over hele stamlengt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NAKB gekeurd (N) plombe aanwezi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Spil (S) jonge boo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Boomkwekersjargon 2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eveerde spil (GS) jonge boom, regelmatig met dunne zijtakken beze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Veer (V) recht, doorgaande kop en regelmatig bezet met zijtakk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067280" y="692280"/>
            <a:ext cx="1836720" cy="61657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50920" y="666720"/>
            <a:ext cx="3554280" cy="61912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6156360" y="692280"/>
            <a:ext cx="270504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anduidingen 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Pot (P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Pot 12 cm (P 12) </a:t>
            </a: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  12 cm of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Ø c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ntainer (C) meer dan 1 lit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ntainer 2 liter (C2) inhoud: 2 lit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3-5 tak (3-5T ):  gesteltakk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f 2-tak: min. 2 gesteltakk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60-80 lengte vanaf wortelhal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80-op lengte vanaf wortelhal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4716360" y="2133720"/>
            <a:ext cx="505080" cy="55404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anduidingen 2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1+0 éénjarige zaailin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1+1 tweejarige zaailing, verspeen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1a1 tweejarige zaailing afgepen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1+2 driejarige zaailing als éénjarige verpla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2+1 driejarige zaailing als tweejarige verpla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003640" y="3573360"/>
            <a:ext cx="2279880" cy="3284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351560" y="3573360"/>
            <a:ext cx="1792440" cy="3284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1571400" cy="3095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2050920" y="189000"/>
            <a:ext cx="2086200" cy="3095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4356000" y="189000"/>
            <a:ext cx="1817640" cy="3024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6516720" y="189000"/>
            <a:ext cx="2224080" cy="3024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0" y="3500280"/>
            <a:ext cx="2228760" cy="33577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8"/>
          <a:stretch/>
        </p:blipFill>
        <p:spPr>
          <a:xfrm>
            <a:off x="2268360" y="3500280"/>
            <a:ext cx="24019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anduidingen 3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1+1+1: na elk groei-jaar verpla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0+1: één-jarig beworteld ste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10-12: stamomtrek op 1 m hoogt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Met kluit (M.K.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Ingegaasd (I.G.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Draadkorf nr. 2, of 3 of 4 of 5 =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Ø draadkorf 50 of 60 of 70 of 90 c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anduidingen 4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olmaat 12-14 omvang van de bol in cm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ubbele neus (DN) alleen bij Narci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kwaliteit alleen bij rozen, min 3 gesteltakk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 kwaliteit alleen bij rozen, min 2 gesteltakk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Klik op  het boompje voor meer informati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03480" y="4740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281480" y="3622680"/>
          <a:ext cx="1585800" cy="132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1480" y="3622680"/>
                    <a:ext cx="158580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anslag en groe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fhankelijk van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wendige kwalitei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Uitwendige kwalitei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nditi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INDE PRESENTATI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nwendige kwalitei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Erfelijk bepaal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Herkomst zaad, stek- enthout (de identiteit)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Zaden -&gt; NAK-B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Stekken – enten -&gt; “select”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Cultuurvarieteiten (CV’s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Uitwendige kwalitei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Afhankelijk van teelt- en vermeerderingswijz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Bijv. één-jarig geënt kan veel groter zijn dan twee-jarig ste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Vermeerdingswijz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34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Zomer- of winterste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nten (op een onderstam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culeren (op een onderstam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Zaai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eeltwijze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Zaaien of stekk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Afpenn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Verplant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Etoiler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eeltwijz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lanten die ruim worden opgekweekt vragen meer grond en zijn duurd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lanten die weinig ruimte krijgen worden wel lang maar niet di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ij veel gewassen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engte/dikteverhoudin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inimum lengt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dentitei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In Nederland toezicht door de NAKtuinbouw d.m.v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Standaardkeuring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Verdana"/>
              </a:rPr>
              <a:t>Europese richtlijne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Verdana"/>
              </a:rPr>
              <a:t>Nederlandse wetgevin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Certificering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Fytosanitaire inspecti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Verdana"/>
              </a:rPr>
              <a:t>Plantenziektekundige diens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4T19:43:03Z</dcterms:created>
  <dc:creator>Peter</dc:creator>
  <dc:description/>
  <dc:language>en-US</dc:language>
  <cp:lastModifiedBy>default</cp:lastModifiedBy>
  <dcterms:modified xsi:type="dcterms:W3CDTF">2008-01-30T07:22:18Z</dcterms:modified>
  <cp:revision>10</cp:revision>
  <dc:subject/>
  <dc:title>Slide 1</dc:title>
</cp:coreProperties>
</file>