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662880" cy="9926640"/>
          </a:xfrm>
          <a:custGeom>
            <a:avLst/>
            <a:gdLst>
              <a:gd name="textAreaLeft" fmla="*/ 360 w 6662880"/>
              <a:gd name="textAreaRight" fmla="*/ 6662520 w 66628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80">
                <a:moveTo>
                  <a:pt x="5" y="0"/>
                </a:moveTo>
                <a:arcTo wR="5" hR="5" stAng="16200000" swAng="-5400000"/>
                <a:lnTo>
                  <a:pt x="0" y="32175"/>
                </a:lnTo>
                <a:arcTo wR="5" hR="5" stAng="10800000" swAng="-5400000"/>
                <a:lnTo>
                  <a:pt x="21595" y="3218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4240"/>
                <a:tab algn="l" pos="287172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4240"/>
                <a:tab algn="l" pos="287172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4240"/>
                <a:tab algn="l" pos="287172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8488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29440" cy="44625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942660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4240"/>
                <a:tab algn="l" pos="287172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4240"/>
                <a:tab algn="l" pos="287172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774600" y="942660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4240"/>
                <a:tab algn="l" pos="287172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7480"/>
                <a:tab algn="l" pos="1436760"/>
                <a:tab algn="l" pos="2154240"/>
                <a:tab algn="l" pos="287172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  <a:tab algn="l" pos="10260000"/>
                <a:tab algn="l" pos="10706040"/>
              </a:tabLst>
            </a:pPr>
            <a:fld id="{AB2C95A0-EAFE-4139-80E3-C881FEFAAE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29440" cy="44625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angrijk tijdens deze cursus om echt te luisteren naar elkaar. Probeer te begrijpen waarom iemand vindt wat ie vin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Je krijgt eruit wat je erin stee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trouw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imte geven en gun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29440" cy="44625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eten we hier een minimum aantal stakeholders aangev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29440" cy="44625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e oud ben je d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e zal de veehouderij in 2030 eruit zi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k je dat het hetzelfde gaat als n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e dan w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29440" cy="44625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 de bril van een 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29440" cy="44625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 grote plaat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492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720" y="4716360"/>
            <a:ext cx="5329440" cy="44625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zamenlijk pro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ucces van de cursus bepalen we s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mbitieuze doelstelli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kennis maar houding centra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E18-4685-4BB5-8435-6AF72EBE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570-6E7B-470C-8E6F-18F5B8F2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81C-BA0C-4A28-B7D8-7AB4FDD7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983-A7D7-4C97-8053-FE33F604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B7F-DB67-4418-92BF-51AC8D3C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A62-A122-49BE-B5B9-CC29AAAE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6FF-337A-41AF-A7D8-8F3A0732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E10-4B45-4963-97C8-D4B5C04A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C58-F7B9-42B4-9F12-B96AF09C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DE9-B7C3-4566-8F8F-E71077E5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A62-A428-49FA-A162-905944BE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E8B-33DD-4828-BE47-66B5859A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6B11CD-F0A6-450E-A313-4FB005E2F8C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ah.nl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1368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Introducti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ehouden in de Toekom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rijdag 16 oktober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kveeproefbedrijf Zegv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n Metho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ni Jans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tien Lijftog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k Lenssin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s van Vli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5311800"/>
            <a:ext cx="2266920" cy="154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8904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31964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urs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fstvakan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les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-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les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stvakan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atste les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bbel blokuur Eindpresen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rganis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ep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dracht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boar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oorbeeld van inrichting laten z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Groepsindeling - ocht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2098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Leanne Aan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armen Wolth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ndrik Mul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Walter Heith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1527120"/>
            <a:ext cx="2530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ilde Haas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Albertine v. ‘t Ho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rard Sm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Dirk Groot Korme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1527120"/>
            <a:ext cx="2098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Carla H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rjan Th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Thijs Kampkui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Corne vd Ho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Luuk ten D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149720"/>
            <a:ext cx="209880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Sanne vd K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Diane 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arc Schilder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Toon Aarn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37200" y="1528920"/>
            <a:ext cx="209880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arije Huit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Wouter Wijnh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nry Kraai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Arjan van Die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4149720"/>
            <a:ext cx="238572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Lisette van Zui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Joost Rei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Arjan Kreg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Jeroen van Do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4149720"/>
            <a:ext cx="238608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overig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inus van Ross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Arjen Vrie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ien van Bruc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Lucian Hulsh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4149720"/>
            <a:ext cx="248436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overig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eike van Omm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Johan Rump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Anko Zw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Groepsindeling - midda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720" y="1557000"/>
            <a:ext cx="24476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M/G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arieke vd 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Kees Magr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Nicoline de W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aarten Cornelis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1557360"/>
            <a:ext cx="2098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M/G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Eveline de Rooi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Zias Luk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Jan van Ass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Johan Damsteeg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8920" y="1557360"/>
            <a:ext cx="23050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M/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Chantal Schrij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ikkert E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onique Schou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Edwin Stokk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Berend Jan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30920" y="1557360"/>
            <a:ext cx="23050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M/G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arieke Wisp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Laura Buitenh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rwin van Gink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rtjan Stokk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Sjoerd Ribber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6360" y="4264200"/>
            <a:ext cx="2447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M/G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Alma Dij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Leonie Bork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Elsbeth Velt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atthijs P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ndrik Jan Roete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4264200"/>
            <a:ext cx="23050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3DVM/G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arjon Sch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ick Walderv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José Mein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Eduard Vissc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Wouter Schr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221000"/>
            <a:ext cx="2484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overig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ob Blijdor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Niek Bo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in Jan Kooij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emco Overe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67640" y="4221000"/>
            <a:ext cx="2484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overig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arina de Rooi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Thomas Rot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Michiel Sinkgra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Arie Wijn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oordel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indbeoordeling cursu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waliteit presentatie eindopdrac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nderbouwing eindopdrac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ctieve en positieve bijdrage aan cur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ussenopdrach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ns doel: </a:t>
            </a:r>
            <a:br>
              <a:rPr sz="2800"/>
            </a:b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oor actieve deelname is een examen overb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Zien wij dit go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dracht 1: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ventarisatie Stakehold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n persoon, groep, organisatie of systeem, dat invloed heeft op de acties van een organisatie of erdoor beïnvloed wor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dracht 1: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ventarisatie Stakehold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ak een inventarisatie van stakeholders met wie de ondernemer te maken he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ef aan wat het belang is van de stakeholder (= wat willen ze bereik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e staan ze daardoor t.o.v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 melkveehouderij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00720" y="4371840"/>
            <a:ext cx="28432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dracht 1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Inventarisatie Stakehold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oad resultaat uiterlijk vrijdag 23 oktober op Black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gvel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54508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gram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orstel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 is Veehouden in de Toekom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sus organis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efbedrijf Zegv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erne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dleiding bedrij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edback naar Frank Lenssin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ehouderij 203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en ander perspectie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9672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 is d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2311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7868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t grote plaat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172360" y="5300640"/>
            <a:ext cx="752400" cy="1333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1552680"/>
            <a:ext cx="794376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og een groter plaat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2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e zijn julli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wil er later iets met veehouderij of akker/ tuinbouw do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heeft er thuis een bedrij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wil dat bedrijf later overne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wil er bij een adviesbureau gaan werk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wil er bij een beleidsorganisatie gaan werk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ehouderij 203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hankelijk v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ge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wikk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li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l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e zo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 veehouderij in de toekomst willen vormgev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7:24:45Z</dcterms:created>
  <dc:creator/>
  <dc:description/>
  <dc:language>en-US</dc:language>
  <cp:lastModifiedBy>Arni Janssen</cp:lastModifiedBy>
  <dcterms:modified xsi:type="dcterms:W3CDTF">2010-02-03T14:18:23Z</dcterms:modified>
  <cp:revision>27</cp:revision>
  <dc:subject/>
  <dc:title>Veehouden in de Toekomst</dc:title>
</cp:coreProperties>
</file>