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EFD-974F-4E2C-ACA3-F1994108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82A-5B9A-45B0-93C6-18F2DE78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C83-7438-4DC4-85A8-0C2ACE65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028-C79D-4D33-9868-EF2A506C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0DB4-E7BA-4AD4-B609-A71BD4EB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062E-11EB-4E34-B761-DFEC4AF2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540C-FAD6-43AC-B7C4-4FB8B8EF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0A8C-A2DE-4AEC-8663-CA2E8081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05F7-4B71-491C-A7B5-E590DAA7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2F2A-59AC-4C6D-87B0-A8656C30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9772-A5E4-488A-9AE1-E89DB2CA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F8F-9A45-4BA1-9E16-625B1105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0252-4F78-4034-A2E5-F71A19E5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3F50-FEEE-4CCE-8CCC-B908FD58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9D57-3A17-4BB3-AE41-8C8BD808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D9E7-B696-4327-AF9C-543B20FE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6DD1-3400-45CF-AF13-1411F21E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4A4-F640-4D54-9F64-FE059024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2BF-00FA-426F-80D8-01C27D0A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D13-F9FB-4865-91D2-30DD29B4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6A8C-630C-4125-8EE2-A852A769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5A2-B785-404A-A098-CD5D9CAA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3B7-B55F-46DA-B0A9-B76233D4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E0E-2230-43F8-B04F-1C205210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FAA0-B6B0-421D-8E72-F69E04D14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0E65-59E8-4FE4-AA5C-7131D0CB3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500" spc="-1" strike="noStrike">
                <a:solidFill>
                  <a:srgbClr val="ccecff"/>
                </a:solidFill>
                <a:latin typeface="Arial"/>
              </a:rPr>
              <a:t>Stakeholders in debat!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insdag 8 decemb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Arni Jan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Jantien Lijftog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Ron Methor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Jeannette Wol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nde 2 10.15 – 10.4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ike (dierenar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ees (natuur en milie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velina (med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ikkert (consument / burg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lsbeth (wetensch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rwin (boerenbela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elling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32056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gabedrijven zijn dé mogelijkheid om dierwelzijn te verbeter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nde 2 10.45 – 11.1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icoline (natuur en milie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onique (overhe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rieke W. (dienstverlenende industr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onie (wetensch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Jan (toeleveranc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rtjan (boerenbela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elling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32092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or technologie zijn alle milieuproblemen van de melkveehouderij op te loss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nde 2 11:15 – 11:4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dwin (burger / consu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ucian (med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rieke (dierenar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ick (afnem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Zias (toeleveranc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tthijs (boerenbela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elling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2056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n goede boer laat iedereen zien wat hij do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zet van het deb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3 rondes van 20 minu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6 stakeholders per ro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lrege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at elkaar uitpr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et door de speech van een andere spreker heen blijven pr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ef aan wanneer je ergens op wilt reag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227640" y="4365720"/>
            <a:ext cx="27320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nde 1 08:30 – 10:0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outer (dierenwelzij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ilde (natuur en milie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rard (med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ijs (burger / consu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anne (boerenbela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rije (dierenar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elling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2056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gabedrijven zijn dé mogelijkheid om dierwelzijn te verbeter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nde 1 09.00 – 09.3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lbertine (natuur en milie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jan (onderwij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isette (overhe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armen (toeleveranc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rné (dienstverlenende sec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iane (boerenbela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elling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32056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or technologie zijn alle milieuproblemen op te loss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nde 1 09.30 – 10.0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irk (med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uuk (burger / consu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jen (dierenwelzij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outer (controle organisat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rend Jan (afnem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oon (boerenbela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elling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2056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n goede boer laat zie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 hij do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7:31:59Z</dcterms:created>
  <dc:creator>ic</dc:creator>
  <dc:description/>
  <dc:language>en-US</dc:language>
  <cp:lastModifiedBy>ic</cp:lastModifiedBy>
  <dcterms:modified xsi:type="dcterms:W3CDTF">2009-12-04T15:05:37Z</dcterms:modified>
  <cp:revision>13</cp:revision>
  <dc:subject/>
  <dc:title>Stakeholders in debat!</dc:title>
</cp:coreProperties>
</file>