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58C-961F-45F0-98A8-8F4ADB12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85884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854-BAA8-4257-A671-82BF61B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41300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85884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85884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CD7-F26F-4338-BD28-AE4D0E58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2502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413000"/>
            <a:ext cx="2502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413000"/>
            <a:ext cx="2502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858840"/>
            <a:ext cx="2502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858840"/>
            <a:ext cx="2502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858840"/>
            <a:ext cx="2502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9A6-33EC-40D7-9440-EF55F310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F11-F9C2-4ABD-9EA4-E8CA008F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B5C-D5AC-4D21-87BC-3839DAB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92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13000"/>
            <a:ext cx="3792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BC9-70A3-4C2A-8415-23F4CC7A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2E6-578B-4965-9C37-185F302C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5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7A1-4E4B-4DA0-A6F4-D0334893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13000"/>
            <a:ext cx="3792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5884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234-4EFE-41B3-9CBE-8EEFF06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92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1300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85884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448-261D-432F-A869-6A51A06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13000"/>
            <a:ext cx="379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5884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1A7-8979-402F-81E4-E42F20C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Les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ikingen, Groenland en Gewoo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7B0F-12DE-483C-AF89-D74E96851E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79280" y="260280"/>
            <a:ext cx="0" cy="1008000"/>
          </a:xfrm>
          <a:prstGeom prst="line">
            <a:avLst/>
          </a:prstGeom>
          <a:ln w="76320">
            <a:solidFill>
              <a:srgbClr val="46d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179280" y="4508640"/>
            <a:ext cx="0" cy="1009440"/>
          </a:xfrm>
          <a:prstGeom prst="line">
            <a:avLst/>
          </a:prstGeom>
          <a:ln w="76320">
            <a:solidFill>
              <a:srgbClr val="46d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6316560"/>
            <a:ext cx="2398680" cy="509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486400" y="632448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dia  </a:t>
            </a:r>
            <a:fld id="{31A7E334-34FA-45F7-B55E-49F8050A8A6E}" type="slidenum">
              <a:rPr b="1" lang="nl-NL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6226200"/>
            <a:ext cx="76197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6225200">
            <a:off x="-1508760" y="2561400"/>
            <a:ext cx="33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46d2fe"/>
                </a:solidFill>
                <a:latin typeface="Arial"/>
              </a:rPr>
              <a:t>Ondernemen in de Toekom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tradition-orale.ca/img/photos/grandes/1215-photo-Young-Inuit-girl-carrying-a-baby-in-her-amauti-hood_g.jpg&amp;imgrefurl=http://www.tradition-orale.ca/english/photo-47.html&amp;usg=__KJpohI1m57RD0s-9Kte-nIJAToc=&amp;h=640&amp;w=421&amp;sz=52&amp;hl=en&amp;start=35&amp;um=1&amp;tbnid=AHP6cQIA47IasM:&amp;tbnh=137&amp;tbnw=90&amp;prev=/images%3Fq%3Dinuit%2Bimages%26ndsp%3D20%26hl%3Den%26sa%3DN%26start%3D20%26um%3D1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glenniacampbell.typepad.com/.shared/image.html?/photos/uncategorized/2007/07/17/discovery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glenniacampbell.typepad.com/.shared/image.html?/photos/uncategorized/2007/07/17/brattahlidview_copy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glenniacampbell.typepad.com/.shared/image.html?/photos/uncategorized/2007/07/17/brattahlidstream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6226200"/>
            <a:ext cx="76197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268280"/>
            <a:ext cx="860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04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BN - cursus Ondernemen in de Toekom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1413000"/>
            <a:ext cx="403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Times New Roman"/>
              </a:rPr>
              <a:t>VIKINGEN, GROENLAND en GEWOO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20040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67640" y="4581360"/>
            <a:ext cx="9572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e trokken graag naar nieuw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angzaam aan werden steeds meer gebieden door hen gekolonisee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rmandië, delen van Engeland, Orkney eilanden, Faroër eilanden, IJsland, Groenland en Vinland: (ook wel bekend als Noord Ameri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eel van deze gebieden is ook weer verlaten: Vinland na 10 jaar en Groenland na bijna 500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3080" y="46080"/>
            <a:ext cx="8766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ikingen als kolonis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al werden kolonies gesticht die leken op de thuisbasis: Noorwegen (en omstrek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e werd meegenomen evenals de kennis om ijzer te maken en zuivel te kunnen bewaren voor de lange winterper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rde mensen, die konden wel iets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ikingen op Groen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roenland is gedurende 500 jaar in twee kolonies bewoond geweest door de Noormannen, de Vikin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tdekt rond 900 en 978, enkel de oostkust met veel ijs en onbewoon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983 ontdekte Erik de Rode dat de westkant meer perspectief had in een aantal fj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ikingen op Groenlan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k de Rode heeft Groenland gekolonisee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tdat ergens in de 15e eeuw de Vikingen  op Groenland weer verdw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was niet gelukt om daar te overl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uï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62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r hoe zit het dan met de Inuït (eskimo’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 leefden op het zelfde ei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lfs nog veel noordelij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 hebben elkaar ontmoet, daar is bewijs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kan een Eskimo er wel overleven en een echte stoere Viking ni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Inuit village 1575"/>
          <p:cNvPicPr/>
          <p:nvPr/>
        </p:nvPicPr>
        <p:blipFill>
          <a:blip r:embed="rId1"/>
          <a:stretch/>
        </p:blipFill>
        <p:spPr>
          <a:xfrm>
            <a:off x="168120" y="46080"/>
            <a:ext cx="375300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inuit in kayaks"/>
          <p:cNvPicPr/>
          <p:nvPr/>
        </p:nvPicPr>
        <p:blipFill>
          <a:blip r:embed="rId2"/>
          <a:stretch/>
        </p:blipFill>
        <p:spPr>
          <a:xfrm>
            <a:off x="4427640" y="0"/>
            <a:ext cx="4041720" cy="324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2852640"/>
            <a:ext cx="2174760" cy="331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rcRect l="12224" t="0" r="0" b="0"/>
          <a:stretch/>
        </p:blipFill>
        <p:spPr>
          <a:xfrm>
            <a:off x="4356000" y="3573360"/>
            <a:ext cx="4138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 gaan het gewoon herbel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kunnen we beter doen dan in de huid kruipen van een nazaat van Erik de Ro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 leefden ze, welke keuzes maakten z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t we weten waarom die Vikingen niet konden wat de Inuït wel konden / kun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art Groen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45674"/>
          <a:stretch/>
        </p:blipFill>
        <p:spPr>
          <a:xfrm>
            <a:off x="468360" y="1341360"/>
            <a:ext cx="4002120" cy="403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36886" r="0" b="0"/>
          <a:stretch/>
        </p:blipFill>
        <p:spPr>
          <a:xfrm>
            <a:off x="4681440" y="1844640"/>
            <a:ext cx="4283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rik de R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te Viking: een heethoofd met losse ha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 praten hier over het jaar 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uzie gemaakt in thuisland Noor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oor en moest het land verlaten, hij was blijkbaar een slecht verlie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mt op IJsland tere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eblogs.nos.nl/klimaat/2009/09/23/vreemd-soort-tweestrijd-op-groenland/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rik de Rod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k had wel zichzelf meegenomen, dus binnen no-time had hij weer ruzie en een paar man doodgem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volg: voor drie jaar van IJsland verba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j had net gehoord van nieuw land in het Westen en stapt in de 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e vinden land en gaan aan w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Viking Longship in full sail."/>
          <p:cNvPicPr/>
          <p:nvPr/>
        </p:nvPicPr>
        <p:blipFill>
          <a:blip r:embed="rId1"/>
          <a:stretch/>
        </p:blipFill>
        <p:spPr>
          <a:xfrm>
            <a:off x="685800" y="1413000"/>
            <a:ext cx="3808440" cy="468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Cargo and storage on a Viking Longship"/>
          <p:cNvPicPr/>
          <p:nvPr/>
        </p:nvPicPr>
        <p:blipFill>
          <a:blip r:embed="rId2"/>
          <a:stretch/>
        </p:blipFill>
        <p:spPr>
          <a:xfrm>
            <a:off x="4695840" y="1413000"/>
            <a:ext cx="3713040" cy="22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hip2"/>
          <p:cNvPicPr/>
          <p:nvPr/>
        </p:nvPicPr>
        <p:blipFill>
          <a:blip r:embed="rId3"/>
          <a:stretch/>
        </p:blipFill>
        <p:spPr>
          <a:xfrm>
            <a:off x="4992840" y="3830760"/>
            <a:ext cx="31208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stkust Groen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pe fj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chut van de koude poolwi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chut voor het zee-ij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te grasvla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rme periode, het klimaat was er toen zo  ongeveer als 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bepaald een Costa del Sol, maar voor een Viking prima om te l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Southgreenland by Greenland Tourism"/>
          <p:cNvPicPr/>
          <p:nvPr/>
        </p:nvPicPr>
        <p:blipFill>
          <a:blip r:embed="rId1"/>
          <a:srcRect l="0" t="0" r="4226" b="0"/>
          <a:stretch/>
        </p:blipFill>
        <p:spPr>
          <a:xfrm>
            <a:off x="468360" y="476280"/>
            <a:ext cx="3529080" cy="29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Greenland Odyssey  "/>
          <p:cNvPicPr/>
          <p:nvPr/>
        </p:nvPicPr>
        <p:blipFill>
          <a:blip r:embed="rId2"/>
          <a:stretch/>
        </p:blipFill>
        <p:spPr>
          <a:xfrm>
            <a:off x="4140360" y="2421000"/>
            <a:ext cx="46767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Discove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720960"/>
            <a:ext cx="3881520" cy="2570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Brattahlidview_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357720"/>
            <a:ext cx="3809880" cy="2523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Brattahlidstrea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62064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oe zag het leven eruit?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 gaan eens een paar onderdelen la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imaat en omstandig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le ver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ouwen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d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ul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limaat en omstan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ud, wisselvallig, winderig en mist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ssen 800 en 1300 betrekkelijk z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e zomers, lange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winteren is dan de kunst: hoe kom je sterk de winter weer uit is de vra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asland en lage bomen op beschutte plaat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ciale verban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rk hiërarchisch: een sterke leider is de ba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ven, vrije mannen, hoofdma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cht van de sterk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leider bes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korte termijn belang van de leider is sterk van invloed op besluit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uwen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nen muren, houten delen voor de dakconstructie en plaggen d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kker dik, dat isoleert goed (tot soms 1.5 meter dik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el veen afgeplagd voor bouwwer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ederzettingen bouw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31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constructie van huizen op New Foun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0501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wee melkveebedrij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ls en Gar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izenden kilometers van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ide de grootste en meest welvarende van de re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derne, grote st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ide koeien buiten in de z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ide produceren eigen ruwvo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ide kunnen het land irrig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ehouderij en j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eien en varkens dan schapen en geiten dan, eenden en g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haalbaar op Groenland: aanpass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rkens eruit, minder koeien, eenden en ganzen overleefden n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lkproducten: kaas boter en sky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eeho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 analyse blijkt dat aandeel voedsel uit zee van 20% in begin steeg naar 80% aan het e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r: geen v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t is vreemd! In Noorwegen en op IJsland wel, niet op Groenl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ared Diamond verklaart dit door een lokale cultuur: wellicht is Erik de Rode ziek geworden van een bedorven vis en is men toen gestopt vis te ete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ijft g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s te welvarender des te meer rundvl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846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e winter, veel voer nod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veel vee kun je houden met het voer dat je heb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lang wordt de win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verig vee slach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vt zeewier bijvoe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gedwonge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image"/>
          <p:cNvPicPr/>
          <p:nvPr/>
        </p:nvPicPr>
        <p:blipFill>
          <a:blip r:embed="rId1"/>
          <a:stretch/>
        </p:blipFill>
        <p:spPr>
          <a:xfrm>
            <a:off x="5083200" y="3179880"/>
            <a:ext cx="380988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houden van vee op Groenland was mogelijk, maar ook erg kwetsb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ult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schappelijk leven (je kon niet anders, je had elkaar nodi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eldda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ërarchisch: kleine boerderijen konden niet overleven zonder de steun van de grote centrale boerderi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rvatief: geen veran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urocentri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nservatief / eurocentris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d ook een goede reden: het milieu was te kwetsbaar om te experimenteren met ‘nieuwigheden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n wilde ‘europeaan’ zijn en bl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 gebruiken die in Europa opkwamen werden ook in Groenland overge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l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start met germaanse g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uislanden bekeerden zich tot Christen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loniën gingen ‘gedwongen’ m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te kerken, veel energie aan best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ot deel van kostbare goederen (hout!) hieraan best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erk had veel geza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valsey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hvalsey church, Greenland"/>
          <p:cNvPicPr/>
          <p:nvPr/>
        </p:nvPicPr>
        <p:blipFill>
          <a:blip r:embed="rId1"/>
          <a:stretch/>
        </p:blipFill>
        <p:spPr>
          <a:xfrm>
            <a:off x="1763640" y="1940040"/>
            <a:ext cx="594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a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otreis van een week naar Noorwegen (minimaal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ot ri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kel waardevolle goe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J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oed hout voor bouw en meub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er als smeermiddel en houtconser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erkbenodigdh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wee melkveebedrijv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ide lange winter en korte z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voelig voor droogte (Huls) of koude (Gard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ide vrij ver van afzetgebi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otste versch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andel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port van ivoor (walrustan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lrushuid (konden sterke touwen van gemaakt wo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Jsberen (levend of gevil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nden van de Narw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ierval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oe kom je aan export goeder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Noord Groenland gaan j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g riskant (ijsbeertje vangen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nkracht voor nodig juist als het druk is in de zom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t legde dus veel druk op de samenl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 ‘kocht’ je ervoo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t in stand kunnen houden van een Europese levensti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k, maar waarom ging het dan m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gatief effect op leefmilieu: hout werd snel gekapt en gebruikt, ook veen als brandstof overmatig gebrui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te behoefte aan een schaarse bron: 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uw, ijzerbereiding, skyr bere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ot gebrek aan ijzer hier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door slechter gereedschap en wap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ar oo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werd kouder (kleine ijstij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echtere groeiseizoenen, lagere oog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vee na de winter etc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systeem van melkvee dat hun voedsel produceerde raakte uitgeput en er was geen verva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handel met europa (wegvallen van de vraag naar ivo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zwakking van de bevol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uï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de laatste periode van de Vikingen werden de Inuït juist ste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tere jagers, betere boten, beter bestand tegen de winter, betere energiebron (walvistraan bijvoorbeeld), beter aangepast aan omstandig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arom niet samenwerken met en leren van de Inuï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ven terug naar cultuu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elddadig: dat helpt niet om vrienden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rvatief: geen verandering, helpt niet om nieuwsgierig te zijn naar andere mog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urocentrisch: wij zijn be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r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t die ‘wilden’ gaan we niet handelen en we gaan zeker niet van ze l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Cargo and storage on a Viking Longship"/>
          <p:cNvPicPr/>
          <p:nvPr/>
        </p:nvPicPr>
        <p:blipFill>
          <a:blip r:embed="rId1"/>
          <a:stretch/>
        </p:blipFill>
        <p:spPr>
          <a:xfrm>
            <a:off x="2190600" y="2301840"/>
            <a:ext cx="4762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ship2"/>
          <p:cNvPicPr/>
          <p:nvPr/>
        </p:nvPicPr>
        <p:blipFill>
          <a:blip r:embed="rId1"/>
          <a:stretch/>
        </p:blipFill>
        <p:spPr>
          <a:xfrm>
            <a:off x="2190600" y="2025720"/>
            <a:ext cx="4762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611360"/>
            <a:ext cx="65451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wee melkveebedrijv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 van beide is al ruim 500 jaar een ruïne en de streek waar het bedrijf lag is ook sinds 500 jaar verl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kan het dat een modern, vooruitstrevend, welvarend bedrijf ten onder gegaan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at is daar gebeu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t verhaal van de Vikingen op Groen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image"/>
          <p:cNvPicPr/>
          <p:nvPr/>
        </p:nvPicPr>
        <p:blipFill>
          <a:blip r:embed="rId1"/>
          <a:stretch/>
        </p:blipFill>
        <p:spPr>
          <a:xfrm>
            <a:off x="168120" y="46080"/>
            <a:ext cx="3829320" cy="2638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image"/>
          <p:cNvPicPr/>
          <p:nvPr/>
        </p:nvPicPr>
        <p:blipFill>
          <a:blip r:embed="rId2"/>
          <a:stretch/>
        </p:blipFill>
        <p:spPr>
          <a:xfrm>
            <a:off x="4716360" y="765000"/>
            <a:ext cx="3848040" cy="270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image"/>
          <p:cNvPicPr/>
          <p:nvPr/>
        </p:nvPicPr>
        <p:blipFill>
          <a:blip r:embed="rId3"/>
          <a:stretch/>
        </p:blipFill>
        <p:spPr>
          <a:xfrm>
            <a:off x="250920" y="328464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image"/>
          <p:cNvPicPr/>
          <p:nvPr/>
        </p:nvPicPr>
        <p:blipFill>
          <a:blip r:embed="rId4"/>
          <a:stretch/>
        </p:blipFill>
        <p:spPr>
          <a:xfrm>
            <a:off x="4356000" y="3573360"/>
            <a:ext cx="38102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Hvalsey Fjord Church Norse Greenland"/>
          <p:cNvPicPr/>
          <p:nvPr/>
        </p:nvPicPr>
        <p:blipFill>
          <a:blip r:embed="rId1"/>
          <a:stretch/>
        </p:blipFill>
        <p:spPr>
          <a:xfrm>
            <a:off x="2050920" y="14842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uines van boerderi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Brattahlid farm, Greenland"/>
          <p:cNvPicPr/>
          <p:nvPr/>
        </p:nvPicPr>
        <p:blipFill>
          <a:blip r:embed="rId1"/>
          <a:stretch/>
        </p:blipFill>
        <p:spPr>
          <a:xfrm>
            <a:off x="1116000" y="1892160"/>
            <a:ext cx="583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econstructie Newfound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6960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Vikingen hadden goede, snelle bo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Viking Longship in full sail."/>
          <p:cNvPicPr/>
          <p:nvPr/>
        </p:nvPicPr>
        <p:blipFill>
          <a:blip r:embed="rId1"/>
          <a:stretch/>
        </p:blipFill>
        <p:spPr>
          <a:xfrm>
            <a:off x="2666880" y="1413000"/>
            <a:ext cx="380844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ikingen waren avontu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nelle boten, harde mannen, makkelijk te grijpen b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t was de manier om je imago op te poetsen in Vikingland: zomers een paar steden en kloosters ber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ren het echt zulke rov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 leefden ze van? Hoe was hun samenleving georganisee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ikingen ware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igenlijk waren ze in hun hart veeh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n leven draaide om het houden van rundv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ikingen waren avonturier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r ja, als jonge viking wil je wel eens wat en je gaat erop uit met de 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ltuur van macht en recht van de sterkste: dus kom je iets tegen wat je past, dan neem je het gewoon m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ontstaat het beeld van de Vi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t we nu ke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4560" y="3645000"/>
            <a:ext cx="2225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9:56:34Z</dcterms:created>
  <dc:creator>IC</dc:creator>
  <dc:description/>
  <dc:language>en-US</dc:language>
  <cp:lastModifiedBy>Ron Methorst</cp:lastModifiedBy>
  <cp:lastPrinted>2003-11-18T13:49:25Z</cp:lastPrinted>
  <dcterms:modified xsi:type="dcterms:W3CDTF">2009-10-26T21:34:55Z</dcterms:modified>
  <cp:revision>68</cp:revision>
  <dc:subject/>
  <dc:title>Geen diatitel</dc:title>
</cp:coreProperties>
</file>