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CEFD-DB26-4614-B60A-0F1F76551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 individueel ideeen op geeltjes schrijven, die de teamleden daarna uitleggen aan elka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 individueel ideeen op geeltjes schrij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AB2C-55DE-4F0C-B1A2-B6A94C9E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E69A-BB32-47B3-996C-C60CCDE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07F5-7DBD-417C-9417-71486FAA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7AF3-D1CD-45D2-8645-EAA8C138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5C96-655B-4210-956B-992E02D2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6AD4-12E3-4F42-BDD6-6162291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BE66-17A2-4EC4-AB88-0ECBBFE0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1F8-440B-42B9-B52C-5DC8D6A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11DD-AED4-46A2-BE14-4FBA4C99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5581-A4A8-4CF2-B2CC-A3809D66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0B6D-3F98-4BF6-AAF5-3AFB50A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F789-3915-45B1-9F8F-1DA39E7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3927-119D-4EB3-A34A-3A2BB71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67F4-C652-46BA-93C7-9AB7263E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067-B80F-46AD-892B-647E33F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A24C-64B9-4F4A-88AC-108E3690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D06-713D-4A67-B77F-F191DE9F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F068-9D64-4069-98CB-29B2C157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F206-3B0E-4748-A933-CA4BCD0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72BF-4AF7-499B-9B7A-42C29FC2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3ACE-9E9C-4D15-9F70-2D531971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349A-7EB1-443D-A05B-8B5CCA0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8F7D-F669-4052-9D86-FB2F68A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5E8C-026A-4FFB-9C07-B160A2E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A67-F02D-4220-9671-E4A16A1BF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8397-32B9-4DF2-99E8-7572D9CD4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oekomstscenario’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dernemen in de Toekom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 december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n Metho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ni Jan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 van het bedrij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zijn de doelen van je bedrijf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20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or wat betre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moet er gebeuren vanuit het scenarioverhaal om die doelen te behalen op het bedrijf? Welke stappen moet je zetten? Hoe zouden de ontwikkelingen door moeten g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scenari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35280" y="1390680"/>
            <a:ext cx="6192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de volgende keer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 januari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dracht 7 Scenario uit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nemen Programma’s van Eisen van de koe, ondernemer, burger/consument en mili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d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oemen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ezen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wikkel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te presentatie scenari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volgende keer: Opdracht 7 + programma’s v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dopdracht (zie blackbo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enteer jouw bedrijf van de toekom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e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sentatie 21 janua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bouwde invulling t.a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schapp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versla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janu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dversla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janu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te, consistente en plausibele omschrijving van een mogelijke toekomstige toestand van d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aseerd op aannames over de manier waarop een aantal trends, zoals bevolkingsgroei, economische groei en klimaatverandering zich ontwik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ontwikkelingen ten aanzien van de (melk)veehouderij zijn ga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he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 maatschapp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 ma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e 2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jvende kra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ngrijk voor de toekom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zeker hoe de trend zich ontwikk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eef voor iedere trend een bron a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e uitersten van de 2 trends tegen elkaar uit op een assen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27640" y="5084640"/>
            <a:ext cx="1728720" cy="94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1800360" cy="8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78200" y="3500280"/>
            <a:ext cx="5402160" cy="2745000"/>
            <a:chOff x="1978200" y="3500280"/>
            <a:chExt cx="5402160" cy="2745000"/>
          </a:xfrm>
        </p:grpSpPr>
        <p:sp>
          <p:nvSpPr>
            <p:cNvPr id="130" name=""/>
            <p:cNvSpPr/>
            <p:nvPr/>
          </p:nvSpPr>
          <p:spPr>
            <a:xfrm>
              <a:off x="1978200" y="494172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urlij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914560" y="3500280"/>
              <a:ext cx="4465800" cy="2745000"/>
              <a:chOff x="2914560" y="3500280"/>
              <a:chExt cx="4465800" cy="2745000"/>
            </a:xfrm>
          </p:grpSpPr>
          <p:sp>
            <p:nvSpPr>
              <p:cNvPr id="132" name=""/>
              <p:cNvSpPr/>
              <p:nvPr/>
            </p:nvSpPr>
            <p:spPr>
              <a:xfrm>
                <a:off x="2914560" y="4869000"/>
                <a:ext cx="23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067280" y="3860640"/>
                <a:ext cx="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08720" y="465300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echnologi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1840" y="350028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ctie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16360" y="587700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actie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nario 1: wat zou er gebeuren al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l je voor dat het huidige bedrijf op het kruispunt van de twee assen 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ul, voor een door jullie gekozen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aantrekkelijk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ntwikkelrichting van beide variabelen, in hoe het bedrijf eruit zou kunnen zien in de toekom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rek in je verhaal hoe de eerder genoemde ontwikkelingen effect hebben op het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 dit uit in een verhaal, waarin je aangeeft hoe het het bedrijf en zijn omgeving zich ontwikke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enario 2: wat zou er gebeuren al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ul nu voor de tegenovergestelde ontwikkelrichting van beide variabelen, in hoe het bedrijf eruit zou kunnen zien in de toekom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k in je verhaal hoe de eerder genoemde ontwikkelingen effect hebben op het bedrij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dit uit in een verhaal, waarin je aangeeft hoe het het bedrijf en zijn omgeving zich ontwikk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ontwikkelingsrichting is meer realistis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ontwikkelingsrichting spreekt meer 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0:12:20Z</dcterms:created>
  <dc:creator>Arni Janssen</dc:creator>
  <dc:description/>
  <dc:language>en-US</dc:language>
  <cp:lastModifiedBy>Arni Janssen</cp:lastModifiedBy>
  <dcterms:modified xsi:type="dcterms:W3CDTF">2009-12-14T15:39:09Z</dcterms:modified>
  <cp:revision>3</cp:revision>
  <dc:subject/>
  <dc:title>Toekomstscenario’s</dc:title>
</cp:coreProperties>
</file>