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51B0A-B04A-48D4-B49C-FF4C0F1D58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192-DB64-4BB6-BA24-D33B784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B6E-A310-4133-8394-EB6F07A3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80A-388F-43FF-87D6-60FD7F3F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BE8-5141-47A3-9890-803CC071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B9BA-62E5-44B3-85DC-9B82FBF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2E0-7663-4E34-B980-D83E07E4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04A-554C-4ABF-8102-D8B6838D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9154-FC20-48AE-984F-ECEA2708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C8A-0152-4D6A-8792-ACED6A26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ECE-D987-427D-AF9E-0448C63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87D7-ED29-4E99-B692-DF04BCC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7D0-772C-487F-9C44-EFD32DCA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60DB-3E14-4C87-9B7A-04012B6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F652-66B2-4D41-A470-9E07B75B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B95-0E5C-4B95-89C0-CB8C5CF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5AC0-A865-4465-AE4E-B57BB068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216072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561560"/>
            <a:ext cx="291960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5ED9-5BB0-4BAB-BBC1-BA06E4A6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918-4D28-4E13-82A5-A149BA4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F27-9405-4EF4-9F4C-5AB3EA34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39B-B197-4EC8-A584-288E830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2C4-89C4-42B6-879B-835A38EE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A6A-CEDE-402B-9522-D12C71A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56156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507-0DE8-490B-A117-D979AD3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0720"/>
            <a:ext cx="442476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561560"/>
            <a:ext cx="906768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2DC-6E37-4F25-A8F0-7BF5638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34762-6CD0-4942-B33D-D261AEBE0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0720"/>
            <a:ext cx="906768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D814C-DDC3-402B-962E-ED27C8E8CB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ah.nl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Ondernemen in de 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 Unicode MS"/>
              </a:rPr>
              <a:t>Les 4 Voorbereiding De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Dinsdag 17 novemb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Ron Metho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rni Jan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5940360"/>
            <a:ext cx="226692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5083200"/>
            <a:ext cx="4425840" cy="1936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efdeb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39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l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Gewelddadige computerspellen leiden tot meer geweld in de samenleving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minu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uo's binnen basisgro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deling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re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aib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techn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n afspr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oudelijke voorbere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s (10 min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persoon, groep, organisatie of systeem, dat invloed heeft op de acties van een organisatie of erdoor beïnvloed wor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 1 Stakeholderinventaris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ander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epeer d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ats ze in een mindmap om de landbouw h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dma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2160360"/>
            <a:ext cx="90709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3240000"/>
            <a:ext cx="3240000" cy="10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0360" y="1979640"/>
            <a:ext cx="288000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149880" y="2878200"/>
            <a:ext cx="720720" cy="544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rdeling stakehold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el stakehold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ilen met wederzijds goedkeuren mogelijk → geef door aan doce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224840" y="4046400"/>
            <a:ext cx="249552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5 Interviewdraaibo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eefd zijn → visitekaartje C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op tij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spraak maken over terugkoppeling resultaten (verslag, e-mail, telefonis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dere afspra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7092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fonis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orstel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tleg doel + context int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iste persoon in organisatie vin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odigde tij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n afspra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um, tijd, locatie, adres, wie aanwez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e-mai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vestigen afspraa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t. Toezenden vragenlij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techni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stellen aanwezigen, uitleg doel en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oudelijke vr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ugkoppeling result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techni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oudelijke 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/ Geslo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rend / Object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orvr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viewtechni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oudelijke 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/ Geslo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rend / Object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orvr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leg debat les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reiding 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 5 Interviewdraaibo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 6 Interviewvers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houdelijke voorberei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nemen stakeholder inf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ekomstvi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ere relevante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stellen vragenlij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angrijke trends en ontwikk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gelijke knelpunten voor de landbouw in de toekom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ele oplossingen daarv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derwerpen voor deb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reldmar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edselvoorzi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renwel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ksgezond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sch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ad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novemb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 5 Interviewdraaibo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ek 47 / 48 / 4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decemb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 6 Interviewversla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 decemb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780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cologische voetafdru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69480" cy="488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ugkoppeling via black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es aan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f je 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-350 woo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ak concreet wat je gaat do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 voor tools heeft een minister allema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ek bronnen op het internet om je verhaal te ondersteu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bat Organisati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sdag 8 dec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oderato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30 minu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minuten: de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minuten: refle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42120" y="4859280"/>
            <a:ext cx="44575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ma Deb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97964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'Landbouw in de toekomst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derwerp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eldmar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edselvoorzi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renwel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ksgezondh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42120" y="4861080"/>
            <a:ext cx="445752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ak stakehold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standpunt van de stakeholder over het onderwerp verdedi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oordeling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eve deel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levingsvermogen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e6e6ff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waliteit van argument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1200" y="468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40720" y="5400720"/>
            <a:ext cx="1619280" cy="900000"/>
          </a:xfrm>
          <a:prstGeom prst="ellipse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ak publi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2160360"/>
            <a:ext cx="907092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llen publieksvr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ie op deb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4317840" indent="-428400">
              <a:lnSpc>
                <a:spcPct val="93000"/>
              </a:lnSpc>
              <a:spcAft>
                <a:spcPts val="286"/>
              </a:spcAft>
              <a:buClr>
                <a:srgbClr val="e6e6ff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mene be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4317840" indent="-428400">
              <a:lnSpc>
                <a:spcPct val="93000"/>
              </a:lnSpc>
              <a:spcAft>
                <a:spcPts val="286"/>
              </a:spcAft>
              <a:buClr>
                <a:srgbClr val="e6e6ff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edereen aan het woord gewe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4317840" indent="-428400">
              <a:lnSpc>
                <a:spcPct val="93000"/>
              </a:lnSpc>
              <a:spcAft>
                <a:spcPts val="286"/>
              </a:spcAft>
              <a:buClr>
                <a:srgbClr val="e6e6ff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 heb je inhoudelijk gem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4317840" indent="-428400">
              <a:lnSpc>
                <a:spcPct val="93000"/>
              </a:lnSpc>
              <a:spcAft>
                <a:spcPts val="286"/>
              </a:spcAft>
              <a:buClr>
                <a:srgbClr val="e6e6ff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 had je van tevoren niet verwacht om te hor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4317840" indent="-428400">
              <a:lnSpc>
                <a:spcPct val="93000"/>
              </a:lnSpc>
              <a:spcAft>
                <a:spcPts val="286"/>
              </a:spcAft>
              <a:buClr>
                <a:srgbClr val="e6e6ff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rienden / vijanden → effect op behalen do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6600" y="452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00720"/>
            <a:ext cx="3780000" cy="2160720"/>
          </a:xfrm>
          <a:prstGeom prst="ellipse">
            <a:avLst/>
          </a:pr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2920" y="2204640"/>
            <a:ext cx="90709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8999640" cy="4500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efdeb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3490920"/>
            <a:ext cx="4425840" cy="1936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efdeb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2160360"/>
            <a:ext cx="44258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ever Act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e6e6ff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 van Jeugd en Gezin And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uvo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9:24:02Z</dcterms:created>
  <dc:creator>Me </dc:creator>
  <dc:description/>
  <dc:language>en-US</dc:language>
  <cp:lastModifiedBy/>
  <cp:revision>1</cp:revision>
  <dc:subject/>
  <dc:title/>
</cp:coreProperties>
</file>