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4A35-EB80-4639-9923-6B066C87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47E7-EEC2-442F-935F-2F187456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8561-8952-4F8F-8DC1-E46DA05C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A01A-0A70-459D-8E12-46C33409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E612-1AC9-42A1-824F-F8EAB6C1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6BF1-EF14-4DB7-834D-4B4036E7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EDD8-9D3D-4759-824F-E1DF9682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21AA-A058-439A-BEBF-0061B4F8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1941-E0AE-4E38-A3DE-8DA373A7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2BF9-37FB-4412-8618-A3765B87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7663-BAE6-411B-8E67-5AE6EF70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9C94-EC0C-4351-9842-483894A6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3D02-DA6A-459F-BE4D-92112F3D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22E1-F14F-444E-9808-B1F4A6EE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3370-491C-4EEC-876D-D3D9D8EA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8D7F-934A-40C1-8FE0-98597F57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5740-2851-471B-A59B-525E7375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A220-A8B3-4B9C-9E8E-DC3A1CF2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E9E8-D1B6-4581-8CC8-432E0010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0AD4-16DE-4E6E-89CF-FCD2DE43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4E9-70A7-4866-9C73-D3ACA6D3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C91C-55AF-4EDB-B0F1-80542DEF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E7A7-0DC1-44B1-844C-6EFC4BD9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77B6-2343-46C1-AD31-4C19345D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259E-E914-4C48-984D-25DCB194546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4FF7-D0A0-4AD7-BD7E-6C211A09F7D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330066"/>
                </a:solidFill>
                <a:latin typeface="Arial"/>
              </a:rPr>
              <a:t>Bodem en bemest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ben planten no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69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elke meststoffen zijn e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kelvoudige kunst-mestof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gestelde kunst-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olog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unstm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676944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rganische m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590544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t is nu het best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at hangt af hoe je het toepas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ke eenzijdige bemesting is onvolle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mbinatie van organische stoffen en mineralen is meestal het bes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 voor het bodem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ineralen voor de vo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elke meststoffen zijn e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stmeststoffen (van de chemische industrie d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ststoffen van natuurlijk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unst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ikstofmeststoffen (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osfaatmeststoffen (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limeststoffen (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gnesiummeststoffen (M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ststoffen met spore-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gestelde meststoffen (N+P+K+M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envoudig om het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amensgestelde 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28600" y="2576520"/>
            <a:ext cx="2695680" cy="2695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602320" y="1719360"/>
            <a:ext cx="2128680" cy="212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924360" y="3716280"/>
            <a:ext cx="14018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20072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rganische 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komstig van dierlijk of plantaardig 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composteerd huisvu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vat vaak veel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lage gehaltes aan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een sterk bacterieleven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werk om het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0" t="0" r="0" b="6044"/>
          <a:stretch/>
        </p:blipFill>
        <p:spPr>
          <a:xfrm>
            <a:off x="468360" y="620640"/>
            <a:ext cx="741672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Meststoffen van natuurlijke oorspro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wonnen uit zee (alg, kora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komstig van fossiele oorsprong (guan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droogde organische meststoff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valproducten van slachterij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stproducten uit de industr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ak gemakkelijk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groeiplaats: gro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angrijkste ei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Verankering van 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Voldoende groeikans 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. Bodem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. Bodem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. Vo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voeding van plant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vengronds: vorming van suikers door zonlicht (assimilati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voer naar beneden (buitenste sapstroo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gronds: water met daarin mineralen opgelo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voer naar boven (binnenste sapstroo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pstroom onderbroken: afsterving van wor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24160" y="538200"/>
            <a:ext cx="629568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m welke mineralen gaat he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grote hoeveel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kstof (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Fosfaat (Phosfaat) (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alium (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agnesium (M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wavel 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kleine hoeveel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andere scheikundige elementen zoa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o, Ni, Si, Ba enz. (de zgn spore-elemente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arin zitten deze voedings eleme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In organische meststoff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lmest, compost, slib, champost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In mineralen van biolog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wier, koraal, vogelmest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3. In kunstmatig gefabriceer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stm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684036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Hoe weet je wat er nodig i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worden onderzocht in het labarotor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incent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demkundige laborato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costy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onderzoek -&gt; adv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36Z</dcterms:created>
  <dc:creator>Peter</dc:creator>
  <dc:description/>
  <dc:language>en-US</dc:language>
  <cp:lastModifiedBy>Peter</cp:lastModifiedBy>
  <dcterms:modified xsi:type="dcterms:W3CDTF">2008-10-31T23:07:36Z</dcterms:modified>
  <cp:revision>8</cp:revision>
  <dc:subject/>
  <dc:title>Bodem en groen</dc:title>
</cp:coreProperties>
</file>