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DF8A-BD8C-4EF2-9ABA-657CE2449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38CF-D1FC-4A03-AC80-50137ACA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3DCA-0DD2-48AF-A44A-9B0D64DEA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2410-62D7-486E-83AB-1054F1A93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1B35-7A55-4FA9-B3FF-24B924D36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D3F38-1EB3-4F30-AB9F-28D4AE12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1EC1-62DD-41F3-8B13-41418952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8E2C-F125-4D33-83BB-25D8CF9B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C1314-C9A0-469E-93D2-B613F109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97C87-30BB-471D-A665-C7395EA7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32AC-81D8-4251-B7EB-749B5647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D1C3-B559-4502-ABF6-E3D35A9C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32BD-CE3B-4BCD-9EAC-E1BA8AA8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89E3-F543-4D77-8734-53E98989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E16E-7FFA-4C72-B00F-6EB25815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7DC1-C59D-49BA-BA45-EE913CDAB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26CC-566D-4E8E-BBE9-3BC222BE4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3F29-B08B-4E3E-AC82-3F770515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55C0-8D29-4E51-8B96-CDB7132B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3302-4697-49EC-8DA8-9239D6F1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7948-03A3-4CCF-AB19-FBB96BF4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5679-10C7-419B-9A92-566ECC28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4595-BD32-49F1-B665-74977EB0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39A1-226E-418E-8E2B-CB5F8D7E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C8FA-6EE5-427F-A2A6-449E4E3CB2B0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8B79-F10B-4CD6-8CF3-76355F785560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6633"/>
                </a:solidFill>
                <a:latin typeface="Garamond"/>
              </a:rPr>
              <a:t>Onderzoek van de bodem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Wat kun je onderzoek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pbouw van het prof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er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Grondsoor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aangewaa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aangespo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em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rivier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zee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vel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 die door wind zijn neergeleg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dek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dui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zandkorrels zijn afgeronde kiezelsteen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schuurpapier, je voelt de korrels duidelij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n weinig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 die door het water zijn afgez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ivier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e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korrels zijn scher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grof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n weinig of geen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leemhoudende 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em is een zeer fijne zandkorr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heeft eigenschappen als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houdt veel vocht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roogt op in harde bon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fijn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Kleigronde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er fijn verweerd gesteentemateria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elt tussen de vingers in vochtige toestand aan als een smeermid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udt veel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l plantenvoedende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Zavel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korrelgrootte ligt tussen zand en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oede vocht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rettig te bewerken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een smeermiddel met wat fijn zand er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tijd van organisch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aagveen (wordt onder water gevorm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veen (wordt boven de waterspiegel gevormd) is bijna verdw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21:09:10Z</dcterms:created>
  <dc:creator>Peter</dc:creator>
  <dc:description/>
  <dc:language>en-US</dc:language>
  <cp:lastModifiedBy>Peter</cp:lastModifiedBy>
  <dcterms:modified xsi:type="dcterms:W3CDTF">2008-11-20T16:57:56Z</dcterms:modified>
  <cp:revision>5</cp:revision>
  <dc:subject/>
  <dc:title>Werkvoorbereiding</dc:title>
</cp:coreProperties>
</file>