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0B8EE-B039-4E3C-B11E-C9ECF79F6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FBFBC-B313-4844-891C-7CD0EA9F4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85FD5-CA65-4C41-B84E-E9374355A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2F56E-C58F-471C-A7FE-03FC71872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9227B-4BCE-455D-8C08-C3B7504A2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29DB0-3CE3-4EDE-A031-41685DDEE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5019F-7731-4CDF-8606-4A5B713CA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60D78-E68B-48F0-94B3-CC58EA424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73984-D01B-41C7-8881-912CE918C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85EFD-7CEA-479B-B841-4BFE3348E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2BD8B-1BBF-41E4-96F6-FCDB8BA4B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6DC3A-C1D5-4261-9A10-5D85261DD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00622-3238-4E5C-B472-8F0AB4B7A7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waliteit plantmateria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en op w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nten kweken uit za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a één groeijaar ("1+0") gerooi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erplanten, wederom gerooid. in het vakjargon "1+1". (2 jaar ou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pgeplant voor twee jaar (is dus 3 jaar oud), wordt dan gerooid, gesorteerd en verkocht, dit is de "1+2"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dering (internationaal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1203480"/>
            <a:ext cx="8604360" cy="56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1703520"/>
            <a:ext cx="9144000" cy="34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476360" y="0"/>
            <a:ext cx="5813280" cy="68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459080" y="0"/>
            <a:ext cx="5513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411200" y="0"/>
            <a:ext cx="5811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ste plant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 x 7 (P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 x 9 (P9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Liter (C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omen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2-14 (stamomtrek op 1m hoogt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4-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5T16:04:29Z</dcterms:created>
  <dc:creator>johan</dc:creator>
  <dc:description/>
  <dc:language>en-US</dc:language>
  <cp:lastModifiedBy>johan</cp:lastModifiedBy>
  <dcterms:modified xsi:type="dcterms:W3CDTF">2009-06-12T09:28:42Z</dcterms:modified>
  <cp:revision>4</cp:revision>
  <dc:subject/>
  <dc:title>Kwaliteit plantmateriaal</dc:title>
</cp:coreProperties>
</file>