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wmf" ContentType="image/x-wmf"/>
  <Override PartName="/ppt/media/image23.jpeg" ContentType="image/jpeg"/>
  <Override PartName="/ppt/media/image18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68A6-244E-4654-BB72-31FA61B9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58D4-ACED-4A85-AA33-71190DAC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F9EE-8A09-4BCA-B7B0-45BBD9DC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7F1-6C1F-4C16-A793-C02258DE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7075-46FF-4C5F-9050-635BC094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43A4-D34B-4944-88D3-4B6800C6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FAC1-C2A4-4656-9ABB-E088E144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9F0A-70E4-4B03-BF59-DBA71A4D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DEC7-63E8-4700-98FA-B68CE460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73C0-721F-49CA-A966-0A40C36C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6EEA-CC12-44BD-9F27-938CDFCC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498C-82E4-422A-A782-54514B9B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0D58-05BE-45C7-82CC-9DF1BA2E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2811-1002-4F4C-87BC-D89CCF5C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F5A4-C3B0-4F16-B09B-86AD8828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3D61-1B11-4FA7-A74B-9AB75EDA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1A0C-E598-479A-AF5A-793AE0FF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D6B-EDFC-4653-8228-38EA7D9C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E130-6CA8-4082-AD64-10430F3C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A93-B283-4D73-BA14-7020C865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2B05-9467-4379-AA8E-EC5CAEB1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3E0-EC81-4324-9AF1-3BFBE609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C25E-36B0-4F38-B829-671D381E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DBA-6A37-4E1A-B354-6D88F6D5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BA2A-D9A4-4DAA-98CD-A36CAF7DAB7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1C93-1EE7-49A9-A688-59407D5E148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290041&amp;format=pdf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odem en groe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vo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2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mogelijk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Grondwater is bereikba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tussen 50 en 150 c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Grondwater is niet bereikbaar (water bereikbaar maken of grond waterhoudend m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867280" y="765000"/>
            <a:ext cx="29592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 grondwater is bereikba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heet een grondwaterprofiel of contact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water zit tussen 50 cm en 150 cm vanaf het maaiveld gem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enwortels kunnen direct water opn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 Het grondwater zit dieper dan 150 cm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heet een hangwaterprofiel (alleen het water wat in de grond blijft hangen kan door de plant worden benut en van de neersl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 blijft hangen is vooral afhankelijk van het slibgehalte of het gehalte aan organische sto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door wordt droge grond waterhoude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eer organische stof in de gro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 bemesten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alm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o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a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305160" y="3860640"/>
            <a:ext cx="5838840" cy="2513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neersla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Nederland valt ca 750 mm neerslag per jaar, maar wel ongelijk over het jaar verdeel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284720" y="1719360"/>
            <a:ext cx="4859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24240" y="2004840"/>
            <a:ext cx="6251400" cy="41450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fiek van het KN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wat ondervinden de planten daarv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 groeiperiode is er meer verdamping dan neersla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volg zou kunnen zijn: afsterv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ar de grond houdt ook wat vast en kan worden gebruik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s het grondwater bereikbaar is, is er ook geen proble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verdamp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het groeiseizoen is er verdamping vana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49323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damping in het groeiseizoen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loten beplanting: ong. 500 mm per j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itaire bomen en struiken: ong. 600 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planting in de stad: tussen 750 en 1000 m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le grond verdampt ongeveer 300 mm per groeiseiz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neerslag in het groeiseizoen is ongeveer 350 mm. Er is dus een TEKO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itaire boom of b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moet dat d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lukkig kan de grond ook water vasthou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verschilt per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: wein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: v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: verschillend, maar vaak red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bewortelingsdiepte is ook van bela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grondwater zit soms niet di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moet je in het groen dus doen voordat je gaat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 onderzoeken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rin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reikbaarheid van het grond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doe je m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grondboor en een penetrometer en leg je va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doe je met deze informati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sliss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verva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iep 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 een organische bemesting uitvoert en door de grond werk en hoe di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arna stuur je de klant een juiste rekeni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Een voorbeeld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719360"/>
            <a:ext cx="91440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og een voorbeel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643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dan het planten, maar eerst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 bewerken om gemakkelijker te kunnen plant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het profiel te verbeter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en om onkruiden onder te werk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grondlagen te wissel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mee bewerk je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ien (om het onkruid kort te krij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re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lo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i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torkopeg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2736720" cy="2205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0" y="2998800"/>
            <a:ext cx="5003640" cy="3751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095800" y="2790720"/>
            <a:ext cx="40482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erke verkruimeling van de ondiep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deel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regen werkt de grond als een sp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niet worden betr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gemakkelijk inza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freezen: grond aandrukken met een w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oeg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ikt voor grote oppervlak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een aanwezige vegetatie: voorscha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epte tot ong. 30 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: vóór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: ná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435640" y="2492280"/>
            <a:ext cx="3708360" cy="2554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29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itten met de kra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te en kleine mach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ndb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 diepten mog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men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orden ingehuu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Rotorkope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bewerking van grove grondbe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grote projec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erkruimeling en vlakleg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kun je in het veld zien aan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s://livelink.groenkennisnet.nl/livelink/factsheet.do?request=download.factsheet&amp;id=74290041&amp;format=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bij landbouw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nd bestaat u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Vaste delen (ong. 50%) en is van minerale of organische oorspro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Poriën (ong. 50%) en is gevuld m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211640" y="3645000"/>
            <a:ext cx="40384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hoe zit dat soms bij groenvoorzien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sterke verdichting (bijv. nieuwbouw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ien zijn in elkaar gedrukt, waardoor per volume meer vaste del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minder dan 40% porienvolum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is onbewortelba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orzaak meestal mechanische verdichting onder natte omstandighe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un je dit me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 met een penetro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waarde op de klok mag niet boven 25-30 kg ko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340000" y="2781360"/>
            <a:ext cx="1619280" cy="2990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static cone penetrometer"/>
          <p:cNvPicPr/>
          <p:nvPr/>
        </p:nvPicPr>
        <p:blipFill>
          <a:blip r:embed="rId2"/>
          <a:srcRect l="0" t="0" r="0" b="7346"/>
          <a:stretch/>
        </p:blipFill>
        <p:spPr>
          <a:xfrm>
            <a:off x="5148360" y="2708280"/>
            <a:ext cx="1944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ank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bomen: oorzaak  van omwaaien of scheefz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 bij hoge grondwaterst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e indringing op geringe diep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instens 50 cm diep is nod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1770120"/>
            <a:ext cx="40384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3929040" cy="558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diep wortelen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lu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zuurstof) minstens 16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koolzuurgas) samen met 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21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en bi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water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rottend materiaal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faltbedekking van de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7-09-20T18:53:39Z</dcterms:modified>
  <cp:revision>7</cp:revision>
  <dc:subject/>
  <dc:title>Bodem en groen</dc:title>
</cp:coreProperties>
</file>