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F359-9053-45DD-A41C-3B03A026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0B95-851B-44A7-8B5D-98ADB729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1EF-62E3-4CEA-A957-78C292E4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4CAD-0839-41B2-8FC6-CE423429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BD6A-CD8D-497B-BB2B-6447CA24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D515-AEF5-4F0C-A31B-9FEA7278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FE9B-98BE-4D8D-BD27-642F5AAD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2C80-2232-47DE-A6EE-308C1E2D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A99C-0DC9-471E-BAE3-454BDDB3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24E4-D2C4-4C20-9757-17BA7909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DDC7-FAEE-44E4-938F-39E06E09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A3D-55F2-4669-B259-765AB2F7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D1B0-0058-4012-845F-5173B995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0291-685A-430F-AB26-681283F9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CEBB-40D9-4781-98A4-5D2FD1CD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3D35-EBCE-4B50-8AEF-24876FFE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1A55-755F-4DAB-9B62-D604A82E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F37-C04C-4F37-BEF6-DC9BA77D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E0F-3F24-4EF7-BD2D-BE10AD2F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264B-2D1A-4FCC-B379-8BE22C33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6D5-3204-4417-8D0A-A0A1D131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D1F0-2B55-4198-8FD9-A927FD53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8D4D-50BF-4194-A415-8D40B2DF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22F-8F9C-4E9A-9A1C-3E7DCC20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0916-29A7-48CB-8358-E2FF53850338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C4BF-AB5F-44D7-8A0C-88D34D6618D3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Onderzoek van de bode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wind zijn neergeleg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het water zijn afgez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 is een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11-20T16:57:56Z</dcterms:modified>
  <cp:revision>5</cp:revision>
  <dc:subject/>
  <dc:title>Werkvoorbereiding</dc:title>
</cp:coreProperties>
</file>