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C700-6DF0-4015-8F94-1AA867807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BDD7-40DB-443C-8626-5415A2D3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840D-D346-45A4-A064-49A1E1AC9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2585-8FA6-4F96-8BB5-328E07877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ED8E-6A67-419D-B2F1-B2439F23E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1171-1DD4-4579-8390-F70208D6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5556-2FC4-41F3-8402-75C73DB3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A4F4-FB39-4BAE-A818-E9A8B3C3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58EA-420E-444A-BEEC-AB7CB0E7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11F3-7F4C-46D5-BE3E-A15898AC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D65B-291B-4D8B-AC15-9CB1DD80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97C6-E34E-437D-AA55-6EC71D4B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26C4-7D57-49A9-9850-21D4D46B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DED6-2D65-4DD6-918D-0450F5FE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0421-DB6E-42E4-91FC-7A2554D9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9591-2F78-4BE9-8280-821BAB944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0714-890A-4DEC-95D4-1B9DF9C1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A546-E4C1-41A9-B7BB-49023C8F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6688-D1AA-4ECD-A87D-14C4CF82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2769-1F16-49AB-8D38-5EC58E7D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6182-F641-47C7-8139-B8432898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E57A-939C-4F2D-803E-98250B18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A852-0251-4AD2-A3A9-4BF4543D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6819-A2BC-46CE-A3BB-D19AFE7D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EE06-0D63-4407-BD88-3BCF998120B4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B4F7-4BE7-48D9-896C-D248C7C73331}" type="slidenum">
              <a:rPr b="0" lang="nl-N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Werkbeschrijvingen en bestekke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Het bela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en misverstanden met de kla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rekenen van de kosten (offert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uidelijkheid voor het persone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orkomen van misverstan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Het bestek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juridisch docu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communicatiemidd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Uitgangspunt voor  calculatie en ram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eidraad voor de uitvoer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restatiebeschrijv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olemidd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Juridisch documen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uidelijk over rechten en plich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1187280" y="2232000"/>
            <a:ext cx="518508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Communicatiemiddel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ussen opdrachtgever en uitvoerd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5" name="Picture 4" descr=""/>
          <p:cNvPicPr/>
          <p:nvPr/>
        </p:nvPicPr>
        <p:blipFill>
          <a:blip r:embed="rId1"/>
          <a:stretch/>
        </p:blipFill>
        <p:spPr>
          <a:xfrm>
            <a:off x="1476360" y="2235240"/>
            <a:ext cx="604836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Uitgangspunt voor calculati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owel opdrachgever als uitvoerder kunnen de kosten bereken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8" name="Picture 4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554364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Leidraad voor de uitvoeri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restatiebeschrijving. Het resultaat tel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1403280" y="2297160"/>
            <a:ext cx="655488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Control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ijn de afspraken nagekome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1"/>
          <a:stretch/>
        </p:blipFill>
        <p:spPr>
          <a:xfrm>
            <a:off x="0" y="2465280"/>
            <a:ext cx="4859280" cy="43927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6" descr=""/>
          <p:cNvPicPr/>
          <p:nvPr/>
        </p:nvPicPr>
        <p:blipFill>
          <a:blip r:embed="rId2"/>
          <a:stretch/>
        </p:blipFill>
        <p:spPr>
          <a:xfrm>
            <a:off x="4427640" y="2492280"/>
            <a:ext cx="4716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4c3aa"/>
                </a:solidFill>
                <a:latin typeface="Arial"/>
              </a:rPr>
              <a:t>Waaraan moet een goed bestek voldoen?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actuele gelijkwaardighe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verdeling van verantwoordelijkhede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duidige besteks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geen verschil van mening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richte 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duidelijkheid over te gebruiken materialen en toelaatbare afwijk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ostenhomogenitei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meer- of minderwerk voor afgesproken prijze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RAW- bestekke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RAW bestekken van de CRO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ntworpen voor de grond- water- en wegenbou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Nu ook voor de groene ruim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automatisee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De werkomschrijvi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lle werkzaamheden voor het aanleggen of onderhouden van groen of een tu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 volgorde waarin ze worden uitgevoe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lgens een vast schem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an de hand van de inventaris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verzichtelij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4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09308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Standaardbepalinge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est gebruikte bepal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astgelegd in een standaardwe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an toepassing bep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fwijkingen apart benoe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ofdstuk 51 voor de groenvoorzie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Voorbeeld standaard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1"/>
          <a:stretch/>
        </p:blipFill>
        <p:spPr>
          <a:xfrm>
            <a:off x="611280" y="888840"/>
            <a:ext cx="820872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4c3aa"/>
                </a:solidFill>
                <a:latin typeface="Arial"/>
              </a:rPr>
              <a:t>inschrijvingsstaat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amenvatting van het bestek voor calcul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7" name="Picture 4" descr=""/>
          <p:cNvPicPr/>
          <p:nvPr/>
        </p:nvPicPr>
        <p:blipFill>
          <a:blip r:embed="rId1"/>
          <a:stretch/>
        </p:blipFill>
        <p:spPr>
          <a:xfrm>
            <a:off x="971640" y="2017800"/>
            <a:ext cx="648000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Het overzich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aan te leggen of te beheren oppervlak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wijze van uitvoer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e verwerken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bereikbaarhe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grondsoo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4c3aa"/>
                </a:solidFill>
                <a:latin typeface="Arial"/>
              </a:rPr>
              <a:t>Beschrijving van de werkzaamheden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delen van de werkzaam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mschrijven van de te verrichten werkzaam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veelheden van oppervlakten en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chines en werkmetho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Voorbeeld van een indeli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39" name="Picture 5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4167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Omschrijving per onderdeel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schrijven van de werkzaamheden die nodig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schrijven van de materialen die gebruikt wor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chines noemen die nodig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rkmethoden beschrijv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0" y="1967040"/>
            <a:ext cx="9144000" cy="489096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Een voorbeeld: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e bewerken oppervlak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veelheden dode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veelheden levende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chinekeuzes (afhankelijk van de omstandig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rkmethoden of -volgor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0:18:07Z</dcterms:created>
  <dc:creator>Peter</dc:creator>
  <dc:description/>
  <dc:language>en-US</dc:language>
  <cp:lastModifiedBy>johan</cp:lastModifiedBy>
  <dcterms:modified xsi:type="dcterms:W3CDTF">2014-04-28T15:05:17Z</dcterms:modified>
  <cp:revision>6</cp:revision>
  <dc:subject/>
  <dc:title>Werkbeschrijvingen en bestekken</dc:title>
</cp:coreProperties>
</file>