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4DE-768E-44E2-863C-75AEAFFF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845-4282-4B5F-8E96-8ADCC906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6E37-381C-42BE-9C08-5E6BCC2D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551-DC69-497A-8446-8EDB93C8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1D95-32A9-473C-B51C-177248D2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7FAB-F8B9-464D-B1D0-A397CC8B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ACBD-738E-4E15-B97F-F5ABAE39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8DD7-4FEB-4D47-853E-2965156F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5AA9-591D-49DF-8AE2-70E6A337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6307-4451-4AF5-A8EE-5DE69332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2A22-0145-420B-A30E-A0E375EE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4A8-3EB6-4CAC-A72F-4C0773C9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8E70-7910-435F-BFA9-DEF97B71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59B9-A9A2-4854-BF3C-6E69B36D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5362-94D0-441E-B40D-7B96EFC0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4ED0-DE54-4AC8-BD6D-B2F18D01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1C32-2E5B-4CD1-BFBD-72A83366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B36C-4BAD-479A-95B5-EBFD6C2F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8C2-0DAD-4CA0-99EB-64694FD4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AAA-9C54-41D4-B812-26E21888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2466-0ED1-4670-A400-AF8E1332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DC4-4CE4-4055-8A41-2DC62019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5D5-2683-44AA-B325-968FAA1E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4EF-80F8-468A-A794-A8D87907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ED9C-F44A-4A2B-98F7-8AA9B3B81EC6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C657-6626-48C8-9ECA-486AAB491C8F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oenadviesburohoff.nl/fotoprojecten%20pag.%2011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Onderhoud van Tui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keu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chiedenis van de 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het afv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houdstoe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walitei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28573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3238560" cy="2238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86040" y="2762280"/>
            <a:ext cx="5457960" cy="4095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524640" y="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419640" y="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onderhouds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316080"/>
            <a:ext cx="856908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09-18T19:19:59Z</dcterms:modified>
  <cp:revision>4</cp:revision>
  <dc:subject/>
  <dc:title>Werkvoorbereiding</dc:title>
</cp:coreProperties>
</file>