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5D43-5C85-4984-8D88-3BEE2FB3D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ABB8-78D7-45AA-88E0-4F81C367A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51EA-FB2C-40F6-8B64-262E3A622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0947-1E04-4B7E-854B-E9EBB8EC2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02B1-3116-4C51-8B86-9707F72E7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D1E2-4BAA-42C8-A295-3DAC25AF0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E9B6-16C5-483A-AD28-D1A01EBFC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9BD1-FD68-4E92-86CB-9B35BE54A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A119-AA00-4073-B1C5-3DFE86F21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ADB8-D299-4B29-94B3-FC7CDE8E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FC54-B766-468C-B24C-3E563BD6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8457-6CBA-4109-B7F5-90B18A3B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E91D2-9969-4098-A625-64A6FB483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el van het onderhoud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derhoudspla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derhoudsadv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betekent dit allema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onderhoud is geen re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anpassen aan de wensen van de k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ok als tegenvoorstellen niet aank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tueel op schrift vastleg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isschien in de vorm van een werkomschrijving of een beste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j grote klanten: beeldbes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300720" y="4437000"/>
            <a:ext cx="284328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un je dit zonder overleg uitvoeren omdat je het nodig vind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71640" y="1401840"/>
            <a:ext cx="727236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erhouds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totaal van alle werkzaamheden in een tu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deeld over de verschillende onderhoudsgroe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deeld over de seizoe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ok materialen noemen (bijv. bemest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delen goed toeli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nodig noodzakelijke machines no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iermee kan worden gecalculeerd en offertes gemaa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kmanschap vraagt om veel kennis en ervaring en geen gezw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3289320"/>
            <a:ext cx="5184720" cy="3568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084720" y="1484280"/>
            <a:ext cx="2857680" cy="3695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50920" y="1413000"/>
            <a:ext cx="2857320" cy="23810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3851280" y="1268280"/>
            <a:ext cx="20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erhoudsadv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werkzaamheden die nodig zijn om het gewenste niveau te bereiken of behou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st noodzakelijke werkzaamheden het ee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 seizoen uitsplit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ant kan bepalen welke werkzaamheden hij zelf kan of w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uw vaktechnische inzicht is belangrij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derhoudsadvies: vaak ter plaat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2571840"/>
            <a:ext cx="2857680" cy="42861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987640" y="1125360"/>
            <a:ext cx="3381480" cy="51246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588000" y="2060640"/>
            <a:ext cx="22384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elstell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houd in een tuin moet ergens toe lei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anten hebben vaak een verwac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kunnen vaktechnische obstakels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kunnen financiele belemmeringen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klant betaalt, dus ook: bepa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148000" y="76464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l elke klant dit mooi vind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orbeeld van een bedo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en oppervlakte die begroeid is met gras kan dienen v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s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op te voetba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kinderen tenten te laten bouw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ook begroeid te zijn met bloeiende pla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dieren te hou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et onkruidvrij zijn, of juist ni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vrij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hoog stel je een grasmachine 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03280" y="1211400"/>
            <a:ext cx="6193080" cy="56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onderhoud erva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onderhoud je een speelveldj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en siergaz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en bloemrijk grasveld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en gazon wat in de schaduw lig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als er dieren worden gehoud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et het pad onkruidvrij zijn of mag er ook wat op of overheen groei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76360" y="1168560"/>
            <a:ext cx="5977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e weet je wat is gewen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 de inventarisatie goed rondkij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r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stellen do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vraag van de klant beoordelen op de haalbaarheid en zonodig een tegenvoorstel do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s kun je het gewoon z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476360" y="1197000"/>
            <a:ext cx="551484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19:21:36Z</dcterms:created>
  <dc:creator>Administrator</dc:creator>
  <dc:description/>
  <dc:language>en-US</dc:language>
  <cp:lastModifiedBy>Administrator</cp:lastModifiedBy>
  <dcterms:modified xsi:type="dcterms:W3CDTF">2009-10-15T19:48:36Z</dcterms:modified>
  <cp:revision>2</cp:revision>
  <dc:subject/>
  <dc:title>Doel van het onderhoud, Onderhoudsplan Onderhoudsadvies</dc:title>
</cp:coreProperties>
</file>