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E83-3AEA-423A-BF67-D5C24916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9B7-B942-4243-943C-63EA9FDC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CAD-0693-4CFD-92DC-386DBAA5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5C6-4716-44D6-9EDB-11BAC3BA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E227-26B6-48E1-BAF8-467294C5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4455-112C-4C23-B3F3-DC0B5FC0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ADA6-15B9-43CE-BDB2-71588D98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210A-9449-4AE8-89CD-B83C05BD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6E72-A0D2-4D8C-BE80-7F6ED7CA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8ECA-4387-47FB-B3C6-EE607122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5246-D64C-4D1F-86D4-594934F5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084-3DF0-4997-952E-970911D6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1BDD-00AC-4540-B7E2-A2F59D9A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8C57-5842-4020-9956-51078909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2957-F818-4E16-9F7B-CD016DE2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E916-1272-469F-A31C-52496676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8F07-2BD9-4C3C-90C7-0170F40C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2E6-3589-43EA-8326-31E56ACC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ADC-D0C3-4D30-8917-D0B16A76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D8B-9D5C-4EAA-AF69-286671CE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B62-8820-4A74-8FB9-30B57C54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93C-5158-4B98-8C75-B9DB93BC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4F4-FB15-43AD-B746-3B2D5A71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B17-9A08-4CDE-8B54-528974D9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066B-F308-4A3E-8C1D-C25280425F0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440B-2315-45C1-AC6E-0971EA63BC6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290041&amp;format=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odem en gro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vo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ogelijk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Grondwater is bereikba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ussen 50 en 150 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Grondwater is niet bereikbaar (water bereikbaar maken of grond waterhoudend m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29592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grondwater is bereikba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heet een grondwaterprofiel of contact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water zit tussen 50 cm en 150 cm vanaf het maaiveld gem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enwortels kunnen direct water opn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Het grondwater zit dieper dan 150 cm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heet een hangwaterprofiel (alleen het water wat in de grond blijft hangen kan door de plant worden benut en van de neersl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 blijft hangen is vooral afhankelijk van het slibgehalte of het gehalte aan organische st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door wordt droge grond waterhoude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er organische stof in de gr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 bemesten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lm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a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05160" y="3860640"/>
            <a:ext cx="583884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neersla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Nederland valt ca 750 mm neerslag per jaar, maar wel ongelijk over het jaar verdee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1719360"/>
            <a:ext cx="4859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4240" y="2004840"/>
            <a:ext cx="6251400" cy="414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fiek van het KN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wat ondervinden de planten daarv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 groeiperiode is er meer verdamping dan neersla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volg zou kunnen zijn: afster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ar de grond houdt ook wat vast en kan worden gebruik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 het grondwater bereikbaar is, is er ook geen proble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verdamp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et groeiseizoen is er verdamping va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damping in het groeiseizo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loten beplanting: ong. 500 mm per j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taire bomen en struiken: ong. 600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planting in de stad: tussen 750 en 1000 m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le grond verdampt ongeveer 300 mm per groeiseiz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neerslag in het groeiseizoen is ongeveer 350 mm. Er is dus een TEKO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itaire boom of 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moet dat d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lukkig kan de grond ook water vasthou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verschilt per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: wein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: v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: verschillend, maar vaak red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bewortelingsdiepte is ook van bela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grondwater zit soms niet di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moet je in het groen dus doen voordat je gaat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 onderzoeken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r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eikbaarheid van het grond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doe je m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grondboor en een penetrometer en leg je v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doe je met deze informat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liss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verva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iep 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een organische bemesting uitvoert en door de grond werk en hoe di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arna stuur je de klant een juiste rek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Een voorbeeld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og een voorbee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dan het planten, maar eerst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 bewerken om gemakkelijker te kunnen plant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het profiel te verbeter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en om onkruiden onder te werk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grondlagen te wissel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mee bewerk je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ien (om het onkruid kort te krij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e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lo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torkopeg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2736720" cy="22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2998800"/>
            <a:ext cx="5003640" cy="375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95800" y="2790720"/>
            <a:ext cx="4048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rke verkruimeling van de ondiep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dee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regen werkt de grond als een sp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niet worden betr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gemakkelijk inza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freezen: grond aandrukken met een w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oe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ikt voor grote oppervlak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een aanwezige vegetatie: voorscha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epte tot ong. 30 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: vóór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: ná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255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9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tten met de kra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en kleine mach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ndb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 diepten mog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men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orden ingehuu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Rotorkop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ewerking van grove grondbe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grote projec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erkruimeling en vlakleg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kun je in het veld zien aan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s://livelink.groenkennisnet.nl/livelink/factsheet.do?request=download.factsheet&amp;id=74290041&amp;format=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bij landbou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nd bestaat u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Vaste delen (ong. 50%) en is van minerale of organische oorsp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Poriën (ong. 50%) en is gevuld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8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hoe zit dat soms bij groenvoorzien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sterke verdichting (bijv. nieuwbouw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ien zijn in elkaar gedrukt, waardoor per volume meer vaste de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minder dan 40% porienvolum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is onbewortelba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rzaak meestal mechanische verdichting onder natte omstandighe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un je dit me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 met een penetro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waarde op de klok mag niet boven 25-30 kg k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1619280" cy="299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static cone penetrometer"/>
          <p:cNvPicPr/>
          <p:nvPr/>
        </p:nvPicPr>
        <p:blipFill>
          <a:blip r:embed="rId2"/>
          <a:srcRect l="0" t="0" r="0" b="7346"/>
          <a:stretch/>
        </p:blipFill>
        <p:spPr>
          <a:xfrm>
            <a:off x="5148360" y="270828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ank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bomen: oorzaak  van omwaaien of scheefz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 bij hoge grondwat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e indringing op geringe die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nstens 50 cm diep is nod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3929040" cy="55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diep wortelen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lu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uurstof) minstens 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koolzuurgas) samen met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en bi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water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rottend materiaal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faltbedekking van de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7-09-20T18:53:39Z</dcterms:modified>
  <cp:revision>7</cp:revision>
  <dc:subject/>
  <dc:title>Bodem en groen</dc:title>
</cp:coreProperties>
</file>