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4C72-FA27-4C62-A6A9-E42FC2AB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92AF-5E47-4E61-892B-4326FE84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EF0A-5C67-444F-87F2-9297CE6F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09B9-A997-4058-BC6B-957DC4379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C9B2-A924-43B4-9C23-17E0928B0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1F5C-6D61-4BA9-9E39-782A99F7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AAB2-56AD-45AF-B185-19BF22A9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FB88-1115-46C5-BA58-A9C0141E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E169-94E0-44E6-B657-23F2A284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9276-87F3-4911-A266-4AF362C0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8190-4258-4CD0-A2AA-0A78A2F7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C68F-9822-41BD-8389-34410799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DDF5-FA6A-4B78-ABC3-0ACE6746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39BF-747C-4940-9BE9-9965F2F7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DAA9-6436-4642-9AE0-1A7BE8D2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870F-D54E-4381-A74F-CB1498F9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921F-2B76-4F5D-B3DD-2132F180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ED72-09DF-4635-BAFF-0ED948E6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493E-134A-48BA-BDB4-DE83717B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47B8-0840-4FDC-A8C3-20B065E6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F672-D6C2-4F3C-886C-3134A19A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A148-A752-48D8-966D-BE804288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BC17-F784-4BDC-A882-72D952A4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B5DF-B428-4CF1-A27C-33A9FBD5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1349-9199-4CF2-A3D3-9D255EEB3643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CBDC-7F22-4425-9C06-66F5E3BFC149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factsheet.do?request=download.factsheet&amp;id=74315842&amp;format=x-ms-wmv" TargetMode="External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anwb.nl/published/anwbcms/content/binaire-bestanden/pdfs/over-anwb/test-speeltuinen-931108.pdf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vwa.nl/portal/page?_pageid=119,1639866&amp;_dad=portal&amp;_schema=porta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peeltoestell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t 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eknopt 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knopt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j slechts enkele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 speeltoestel een logbo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gboeken bunde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itgebreid 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j meer dan 10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 wijk of stadsdeel registr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ke speeltoestellen op welke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to’s zijn aanbevo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uterprogramma’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ogboe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rpli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oor het aststellen aansprakelijkheid ongevall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formatie over wat en wa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chnische gegeve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jzigingen die zijn aangebra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uringen die zijn verri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614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Onderhoudsgegeve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222640"/>
            <a:ext cx="9144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Het ongevallenbla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Inspectie-onderhoud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3 soorten inspectie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rot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Functionel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isuel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30840" y="2133720"/>
            <a:ext cx="805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Het onderhoud aan speeltoestel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Klik op de link en bekijk de fil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Grote inspec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 van de algehele veilig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wezigheid van roest, houtrot e.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instens 1 maal per ja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ijst met te inspecteren onderde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oms uit te voeren door de leveranci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Functionele inspectie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 op stabiliteit en sterk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bind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en de lagers no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ldoet het bodemmateria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instens 1 maal per 3 maa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Visuele inspec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kelijks of routinemat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vaarlijke situaties door bijv. het weer, vandalisme of gebrui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ij constatering direct actie onderne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oms kan dagelijkse inspect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02080" cy="4530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45086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Verbindingen control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Verven en andere oppervlaktebehandelin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Schokdempende bodemmateria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Opruimen en schoonhou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44480" y="-360"/>
            <a:ext cx="569916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Preventief 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Correctief 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anging van verbind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anging kapotte delen van de constru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wijderen gevaarlijke vervui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vullen bodemmateria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nderhoud aan alle vrije ruimten van het terre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9640" y="1224000"/>
            <a:ext cx="7885080" cy="5634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Gevaarlijke vervuil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Onderhoud van bodemmateriale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and aanvullen, losmaken of verva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utsnippers aanvul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ras onderhoud als een gaz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uiling verwijd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Rubber tegels control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tontegels en straatklinkers, asfa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ubila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Rubber tegel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Opdrach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ventarisatie van speeltoestellen op de Zwieseb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t behulp van een inventarisatie- syste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Formuleer actiepun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Einde presenta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97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68360" y="5303880"/>
            <a:ext cx="604836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m na te lezen, klik op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Test speeltoestellen door de ANW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etgev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et attractiebesluit verplicht de beheerder de speeltoestellen zodanig te onderhouden dat er geen gevaar voor de gezondheid of de veiligheid van personen besta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oed onderhoud moet gepland wor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ierbij is een goede adminsitratie nod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Wie ziet toe op de veiligheid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Voedsel en Waren Autoriteit is de overheidsorganisatie die de veiligheid van voedsel en consumentenproducten onderzoekt en bewaakt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Klik op deze link voor de 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rie stappen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het opzetten van een inventarisatiesyste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het aanleggen van een logbo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 het maken van een inspectie- en onderhouds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10141" t="15942" r="40400" b="35246"/>
          <a:stretch/>
        </p:blipFill>
        <p:spPr>
          <a:xfrm>
            <a:off x="0" y="20520"/>
            <a:ext cx="9144000" cy="684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spectie-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ventief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rrectief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de speeltoestel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de bodem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het aanwezige straatmeubila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ventarisatie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 moet wete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ke speeltoestellen er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 overige voorzien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ar ze zich bevi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5:35:48Z</dcterms:created>
  <dc:creator>default</dc:creator>
  <dc:description/>
  <dc:language>en-US</dc:language>
  <cp:lastModifiedBy>Peter</cp:lastModifiedBy>
  <dcterms:modified xsi:type="dcterms:W3CDTF">2008-01-17T10:59:18Z</dcterms:modified>
  <cp:revision>6</cp:revision>
  <dc:subject/>
  <dc:title>speeltoestellen</dc:title>
</cp:coreProperties>
</file>