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E0F7-28B4-4E15-BD9F-45E13A6AD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3FA2-33AD-415A-8731-E085818B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AFD1-0B25-4794-AD6D-BF10545F9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3F86-990B-4779-A8A5-8B6E09AFC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2F98-B8E9-4484-B366-25666ADA2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1BBB-9CDF-4E82-8436-36C41CE2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5CDD-C5EF-416D-BF0C-25577843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5DB5C-CE18-4538-854E-D92239CE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22CB-3A34-427C-9896-40E16FA4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CA6E-1807-408B-86CC-8AA1A679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18F22-592B-4B83-8DD1-9ADF45B2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657D-E2B8-4F42-887D-EF8B7ACE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3308-FCA5-4440-A34B-359BD73C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5932-D65E-4E90-A373-48B8BE59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03AD-8799-4951-8766-2A6BE5BD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886B-5443-4779-A38A-541A7FA9C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6883-0485-4353-A363-F0BF96F6F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B6FA-1DC0-40EA-88BE-498C6B42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0227-73E9-4C49-8089-0A0B9178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B4E2-7857-4520-ADFC-7B2F0D18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0BE9-2065-4913-A4D0-B8374DB5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C57D-77EC-4303-83C8-361C9C95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ACD0-F0D9-4E4F-8CA8-2B977AC9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0712-2031-4955-963C-363B4E28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0C7B-8BA0-4BC2-87DC-F2B857212243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4043-B27B-40E7-BE55-174B05AD8C95}" type="slidenum">
              <a:rPr b="0" lang="nl-N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Werkbeschrijvingen en bestekken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Het belan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en misverstanden met de kla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rekenen van de kosten (offert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uidelijkheid voor het persone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oorkomen van misverstan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Het bestek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 juridisch docu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 communicatiemidd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Uitgangspunt voor  calculatie en ram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Leidraad voor de uitvoer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Prestatiebeschrijv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ntrolemidd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Juridisch documen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uidelijk over rechten en plich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1187280" y="2232000"/>
            <a:ext cx="518508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Communicatiemiddel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ussen opdrachtgever en uitvoerd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5" name="Picture 4" descr=""/>
          <p:cNvPicPr/>
          <p:nvPr/>
        </p:nvPicPr>
        <p:blipFill>
          <a:blip r:embed="rId1"/>
          <a:stretch/>
        </p:blipFill>
        <p:spPr>
          <a:xfrm>
            <a:off x="1476360" y="2235240"/>
            <a:ext cx="604836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Uitgangspunt voor calculati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Zowel opdrachgever als uitvoerder kunnen de kosten bereken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8" name="Picture 4" descr=""/>
          <p:cNvPicPr/>
          <p:nvPr/>
        </p:nvPicPr>
        <p:blipFill>
          <a:blip r:embed="rId1"/>
          <a:stretch/>
        </p:blipFill>
        <p:spPr>
          <a:xfrm>
            <a:off x="1116000" y="2637000"/>
            <a:ext cx="554364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Leidraad voor de uitvoerin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Prestatiebeschrijving. Het resultaat tel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1" name="Picture 4" descr=""/>
          <p:cNvPicPr/>
          <p:nvPr/>
        </p:nvPicPr>
        <p:blipFill>
          <a:blip r:embed="rId1"/>
          <a:stretch/>
        </p:blipFill>
        <p:spPr>
          <a:xfrm>
            <a:off x="1403280" y="2297160"/>
            <a:ext cx="655488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Control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Zijn de afspraken nagekome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4" name="Picture 4" descr=""/>
          <p:cNvPicPr/>
          <p:nvPr/>
        </p:nvPicPr>
        <p:blipFill>
          <a:blip r:embed="rId1"/>
          <a:stretch/>
        </p:blipFill>
        <p:spPr>
          <a:xfrm>
            <a:off x="0" y="2465280"/>
            <a:ext cx="4859280" cy="43927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6" descr=""/>
          <p:cNvPicPr/>
          <p:nvPr/>
        </p:nvPicPr>
        <p:blipFill>
          <a:blip r:embed="rId2"/>
          <a:stretch/>
        </p:blipFill>
        <p:spPr>
          <a:xfrm>
            <a:off x="4427640" y="2492280"/>
            <a:ext cx="4716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4c3aa"/>
                </a:solidFill>
                <a:latin typeface="Arial"/>
              </a:rPr>
              <a:t>Waaraan moet een goed bestek voldoen?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ntractuele gelijkwaardighe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(verdeling van verantwoordelijkhede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duidige besteksinform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(geen verschil van mening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richte inform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(duidelijkheid over te gebruiken materialen en toelaatbare afwijk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Kostenhomogenitei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(meer- of minderwerk voor afgesproken prijze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RAW- bestekken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RAW bestekken van de CRO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ntworpen voor de grond- water- en wegenbou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Nu ook voor de groene ruim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automatiseer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De werkomschrijvin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lle werkzaamheden voor het aanleggen of onderhouden van groen of een tu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 volgorde waarin ze worden uitgevoer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olgens een vast schem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an de hand van de inventaris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verzichtelij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4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709308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Standaardbepalingen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est gebruikte bepal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astgelegd in een standaardwe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an toepassing bep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fwijkingen apart benoe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ofdstuk 51 voor de groenvoorzien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Voorbeeld standaard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74" name="Picture 4" descr=""/>
          <p:cNvPicPr/>
          <p:nvPr/>
        </p:nvPicPr>
        <p:blipFill>
          <a:blip r:embed="rId1"/>
          <a:stretch/>
        </p:blipFill>
        <p:spPr>
          <a:xfrm>
            <a:off x="611280" y="888840"/>
            <a:ext cx="820872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4c3aa"/>
                </a:solidFill>
                <a:latin typeface="Arial"/>
              </a:rPr>
              <a:t>inschrijvingsstaat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Samenvatting van het bestek voor calcul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7" name="Picture 4" descr=""/>
          <p:cNvPicPr/>
          <p:nvPr/>
        </p:nvPicPr>
        <p:blipFill>
          <a:blip r:embed="rId1"/>
          <a:stretch/>
        </p:blipFill>
        <p:spPr>
          <a:xfrm>
            <a:off x="971640" y="2017800"/>
            <a:ext cx="648000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Het overzich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aan te leggen of te beheren oppervlak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wijze van uitvoer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e verwerken 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bereikbaarhe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grondsoo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4c3aa"/>
                </a:solidFill>
                <a:latin typeface="Arial"/>
              </a:rPr>
              <a:t>Beschrijving van de werkzaamheden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delen van de werkzaam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mschrijven van de te verrichten werkzaam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eveelheden van oppervlakten en 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achines en werkmetho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Voorbeeld van een indelin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39" name="Picture 5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74167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Omschrijving per onderdeel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schrijven van de werkzaamheden die nodig 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schrijven van de materialen die gebruikt wor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achines noemen die nodig 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rkmethoden beschrijv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0" y="1967040"/>
            <a:ext cx="9144000" cy="489096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Een voorbeeld: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e bewerken oppervlak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eveelheden dode 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eveelheden levende 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achinekeuzes (afhankelijk van de omstandig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rkmethoden of -volgor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20:18:07Z</dcterms:created>
  <dc:creator>Peter</dc:creator>
  <dc:description/>
  <dc:language>en-US</dc:language>
  <cp:lastModifiedBy>johan</cp:lastModifiedBy>
  <dcterms:modified xsi:type="dcterms:W3CDTF">2014-04-28T15:05:17Z</dcterms:modified>
  <cp:revision>6</cp:revision>
  <dc:subject/>
  <dc:title>Werkbeschrijvingen en bestekken</dc:title>
</cp:coreProperties>
</file>