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387B-5615-4FA3-8F1A-1E69BFA5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3FA-9D15-4AA3-8AEB-0116000F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1D2-7E2C-41EA-A6DF-26D3A131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55F-7993-42ED-A840-5B11B101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4CC3-8731-4901-AF73-8E2FD5AD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F932-FD44-4F24-81A4-D8BF8D8A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1174-70E2-4074-A9F6-505E7EC4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8172-1099-439F-8ADD-5A1955BC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10B1-635D-4DED-974D-3E8D6BAC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C5DC-7DD9-4744-BA1E-C06F2B07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00CB-1317-4AA3-B356-793A6FBE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4AF2-E966-4CEE-A2DD-39AD9BC1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FF72-3F97-4751-9A91-94EC1EA8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3291-34A3-4F63-B8EB-8D56BF86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533F-E325-4C00-808B-15BD76CF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AF65-9B3A-435B-8999-019CDFF3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887D-54F6-4ADC-8BFB-7F0BF893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55B5-A202-47EC-8778-679D4CE9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B545-5185-4454-9B8E-0A52634B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6E7-D047-406D-9C03-E9D7FC26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F887-50AF-40A3-A620-04D54EE8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6C13-2DE5-444F-BA79-D825B381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1CA7-56B9-4B98-A266-CB1582E9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722-A6A4-4247-8C0C-9082E271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0512-4C54-46D1-A6E1-C44BCDA9DB87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B8D3-E632-47F4-A483-E3E043C5B5BB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403_dekzand01" TargetMode="External"/><Relationship Id="rId2" Type="http://schemas.openxmlformats.org/officeDocument/2006/relationships/hyperlink" Target="http://www.schooltv.nl/beeldbank/clip/20030403_duin01" TargetMode="External"/><Relationship Id="rId3" Type="http://schemas.openxmlformats.org/officeDocument/2006/relationships/hyperlink" Target="http://www.schooltv.nl/beeldbank/clip/20030403_duin03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31_stuwwal01" TargetMode="External"/><Relationship Id="rId2" Type="http://schemas.openxmlformats.org/officeDocument/2006/relationships/hyperlink" Target="http://www.schooltv.nl/beeldbank/clip/20030403_loss01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rivierklei01" TargetMode="External"/><Relationship Id="rId2" Type="http://schemas.openxmlformats.org/officeDocument/2006/relationships/hyperlink" Target="http://www.schooltv.nl/beeldbank/clip/20030328_rivierklei02" TargetMode="External"/><Relationship Id="rId3" Type="http://schemas.openxmlformats.org/officeDocument/2006/relationships/hyperlink" Target="http://www.schooltv.nl/beeldbank/clip/20030328_zeeklei01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hoogveen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grondsoorten van Nederland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wind zijn neergelegd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z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403_dekzand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duin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ttp://www.schooltv.nl/beeldbank/clip/20030403_duin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403_duin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het water zijn afgezet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emgrond/Löss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40056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578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leem en lö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31_stuwwal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loss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- en Lössgronden: 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lei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kle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rivier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328_rivier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328_zee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schooltv.nl/beeldbank/clip/20030328_zee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47880" y="189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rk vereenvoudigde i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" y="1068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e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0000" y="1501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o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360" y="28684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nd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2160" y="41641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vier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7640" y="610884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ö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520" y="24177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a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268280"/>
            <a:ext cx="100800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637000"/>
            <a:ext cx="934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363640" y="1484280"/>
            <a:ext cx="1079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58920" y="3068640"/>
            <a:ext cx="1584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63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280" y="4005000"/>
            <a:ext cx="1297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natuurlijk mengsel van klei en z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hoogveen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31_laagveen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t20080930_kinderdijk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0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26920" y="277920"/>
            <a:ext cx="3097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ot 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nig draag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vochtig veen als een smeermiddel en maakt de vingers zw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bouw van het profi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een goede groei is de opbouw belangr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afwisselingen in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hoge indringingsw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wisselende grondwater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ur zegt vaak ook iets over het organisch stof geha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7020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75360" y="476280"/>
            <a:ext cx="3968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et waterhoudend vermogen van een gro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che stof houdt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beoordelen aan de kleur van de (zand)gro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onkerder, hoe meer waterhoud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el fijne gronddeeltjes zoals van klei en leem houden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meer de grond smeert tussen de vingers, hoe meer kleideel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waterst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al is een grondwaterstand tussen 70 cm en 100 cm onder maaiv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engronden ho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kleigronden l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sselende grondwaterstanden doen wortels in het wisselende gebied afster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voldoende los zijn om water onder de 1,2 m omhoog te voeren (capillaire werk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59280" y="0"/>
            <a:ext cx="33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Onderzoek van de bodem en herkenning van de grondsoor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livelink.groenkennisnet.nl/livelink/factsheet.do?request=download.factsheet&amp;id=93327148&amp;format=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wormgangen in zand"/>
          <p:cNvPicPr/>
          <p:nvPr/>
        </p:nvPicPr>
        <p:blipFill>
          <a:blip r:embed="rId1"/>
          <a:stretch/>
        </p:blipFill>
        <p:spPr>
          <a:xfrm>
            <a:off x="900000" y="1528920"/>
            <a:ext cx="2832120" cy="532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400560" cy="528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nd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5:59:39Z</dcterms:created>
  <dc:creator>Peter</dc:creator>
  <dc:description/>
  <dc:language>en-US</dc:language>
  <cp:lastModifiedBy>default</cp:lastModifiedBy>
  <dcterms:modified xsi:type="dcterms:W3CDTF">2008-11-28T11:57:36Z</dcterms:modified>
  <cp:revision>6</cp:revision>
  <dc:subject/>
  <dc:title>De grondsoorten van Nederland</dc:title>
</cp:coreProperties>
</file>