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94D-D6C3-4EFB-B235-3BB5DEFC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DD9-4099-4159-9F25-613AD36B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7AE-F220-478E-B254-D3A49603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879-DB7F-4BD7-AB9A-F9E20A05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E59F-7CD4-4520-BBF2-F74B15CD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C3A1-95C9-4AA0-9A70-CF2B63B8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AA7D-4693-458F-8BD8-C8810265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BD51-B390-4F17-A6A6-3D277AF5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0E48-0A5B-4976-8463-65123632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3540-6C09-4753-981A-3FF5AD92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F04C-2BC8-4FBE-BA9A-1DD0A4E6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D82-25BC-4E05-AFEC-B8DC8E14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7255-0DCD-4ADC-BFE5-F4434C3B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5E47-A074-4E60-9701-E79F10E4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83D9-D0E7-4463-8087-5CF678CD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0A65-945B-4F8F-93F4-82F1F823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4FD5-792B-49E7-B54E-263D5BD0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E9D-9C5D-4F24-9E8F-106157E4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ECF4-8502-44A8-B54F-5E2F778B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695-12AD-49B7-BB1C-B0C6EB3F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E60-4E0A-43C4-BB0E-BA50DDBD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ECC-9531-468C-9662-A94D8953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286-045D-4FF5-B815-97AD3976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6FA-01B5-435A-84BF-AD532456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9B13-0145-49A3-8DA3-3A2F069728C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A469-E9B3-468E-9849-0BD008DFCA4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315842&amp;format=x-ms-wmv" TargetMode="Externa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nwb.nl/published/anwbcms/content/binaire-bestanden/pdfs/over-anwb/test-speeltuinen-931108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vwa.nl/portal/page?_pageid=119,1639866&amp;_dad=portal&amp;_schema=porta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knopt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no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slechts enkel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speeltoestel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boeken bun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itgebreid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meer dan 10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wijk of stadsdeel registr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op welk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to’s zijn aanbevo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programma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gb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p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or het aststellen aansprakelijkheid ongeva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e over wat en wa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sche gegev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zigingen die zijn aangebra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uringen die zijn verr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nderhoudsgegev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Het ongevallenbl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Inspectie-onderhoud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soorten inspecti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t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unction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isu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0840" y="2133720"/>
            <a:ext cx="80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t onderhoud aan speeltoestel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lik op de link en bekijk de fil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rot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van de algehele veil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wezigheid van roest, houtrot e.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ja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st met te inspecteren onder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uit te voeren door de leveranc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Functionele inspectie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op stabiliteit en ster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en de lagers no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doet het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3 ma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isuel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kelijks of routinemat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vaarlijke situaties door bijv. het weer, vandalisme of gebr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ij constatering direct actie ondern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kan dagelijkse inspect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2080" cy="4530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50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binding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ven en andere oppervlaktebehan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okdempende bodem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Opruimen en schoonhou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44480" y="-360"/>
            <a:ext cx="5699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Preven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Correc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van 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kapotte delen van de constru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wijderen gevaarlijke 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vullen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derhoud aan alle vrije ruimten van het terr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1224000"/>
            <a:ext cx="7885080" cy="5634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vaarlijke vervui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Onderhoud van bodemmaterial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and aanvullen, losmaken of verv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utsnippers aanvu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s onderhoud als een gaz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uiling verwijd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ubber tegels contro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tontegels en straatklinkers, asfa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Rubber teg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ventarisatie van speeltoestellen op de Zwieseb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behulp van een inventarisatie- 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rmuleer actiepu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5303880"/>
            <a:ext cx="6048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 na te lezen, klik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est speeltoestellen door de ANW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tgev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attractiebesluit verplicht de beheerder de speeltoestellen zodanig te onderhouden dat er geen gevaar voor de gezondheid of de veiligheid van personen be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 onderhoud moet gepland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ierbij is een goede adminsitratie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Wie ziet toe op de veilighei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Voedsel en Waren Autoriteit is de overheidsorganisatie die de veiligheid van voedsel en consumentenproducten onderzoekt en bewaak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Klik op deze link voor d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rie stapp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het opzetten van een inventarisatie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het aanleggen van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het maken van een inspectie- en onderhouds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0141" t="15942" r="40400" b="35246"/>
          <a:stretch/>
        </p:blipFill>
        <p:spPr>
          <a:xfrm>
            <a:off x="0" y="2052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spectie-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ven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rrec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speeltoest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bodem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het aanwezige straat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arisatie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 moet wet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er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verige voorzien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ar ze zich bevi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5:48Z</dcterms:created>
  <dc:creator>default</dc:creator>
  <dc:description/>
  <dc:language>en-US</dc:language>
  <cp:lastModifiedBy>Peter</cp:lastModifiedBy>
  <dcterms:modified xsi:type="dcterms:W3CDTF">2008-01-17T10:59:18Z</dcterms:modified>
  <cp:revision>6</cp:revision>
  <dc:subject/>
  <dc:title>speeltoestellen</dc:title>
</cp:coreProperties>
</file>