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8.jpeg" ContentType="image/jpeg"/>
  <Override PartName="/ppt/media/image13.jpeg" ContentType="image/jpeg"/>
  <Override PartName="/ppt/media/image9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64D9B-5990-401D-B880-03C8A6984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D12CB-4503-48CF-A5C0-E2BA08CFB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0E0FC-7BB6-4CB5-BE05-F9937C626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A3795-2ACB-44FD-AD00-54B4F9559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46E23-811D-4C4B-850C-31FAEAECD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5DDE5-EB92-481B-9645-CA6FB32DA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29D53-2CA8-41DF-95DC-7B3366D4D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2F5DB-C293-4E8B-95BC-9D549742C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57E5A-BB15-4DD9-B149-6F29F122C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B311D-E072-4DFF-AF33-660804A6F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15CFD-4035-4F42-9C29-A48E7A9FE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175A7-9843-445C-A0BA-49802EC3E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9D899-2413-4221-BB69-B398EA8021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oel van het onderhoud,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nderhoudspla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nderhoudsadv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t betekent dit allemaa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t onderhoud is geen recep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anpassen aan de wensen van de kl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ok als tegenvoorstellen niet aanko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ntueel op schrift vastleg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misschien in de vorm van een werkomschrijving of een beste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j grote klanten: beeldbest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6300720" y="4437000"/>
            <a:ext cx="2843280" cy="20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un je dit zonder overleg uitvoeren omdat je het nodig vind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971640" y="1401840"/>
            <a:ext cx="7272360" cy="54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derhoudspl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et totaal van alle werkzaamheden in een tu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erdeeld over de verschillende onderhoudsgroep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erdeeld over de seizoe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ok materialen noemen (bijv. bemest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nderdelen goed toelich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Zonodig noodzakelijke machines noe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iermee kan worden gecalculeerd en offertes gemaak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kmanschap vraagt om veel kennis en ervaring en geen gezw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3289320"/>
            <a:ext cx="5184720" cy="35686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084720" y="1484280"/>
            <a:ext cx="2857680" cy="3695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50920" y="1413000"/>
            <a:ext cx="2857320" cy="238104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3851280" y="1268280"/>
            <a:ext cx="20098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derhoudsadv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 werkzaamheden die nodig zijn om het gewenste niveau te bereiken of behou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est noodzakelijke werkzaamheden het eer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 seizoen uitsplits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lant kan bepalen welke werkzaamheden hij zelf kan of w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uw vaktechnische inzicht is belangrij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derhoudsadvies: vaak ter plaat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2571840"/>
            <a:ext cx="2857680" cy="428616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2987640" y="1125360"/>
            <a:ext cx="3381480" cy="51246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6588000" y="2060640"/>
            <a:ext cx="2238480" cy="33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elstelling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nderhoud in een tuin moet ergens toe lei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lanten hebben vaak een verwach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r kunnen vaktechnische obstakels zij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r kunnen financiele belemmeringen zij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 klant betaalt, dus ook: bepaa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148000" y="764640"/>
            <a:ext cx="399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al elke klant dit mooi vinde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oorbeeld van een bedoe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en oppervlakte die begroeid is met gras kan dienen voo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 si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m op te voetbal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m kinderen tenten te laten bouw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m ook begroeid te zijn met bloeiende plan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m dieren te hou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et onkruidvrij zijn, of juist ni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vrij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z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e hoog stel je een grasmachine i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403280" y="1211400"/>
            <a:ext cx="6193080" cy="564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t onderhoud ervan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e onderhoud je een speelveldj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 een siergaz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 een bloemrijk grasveld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 een gazon wat in de schaduw lig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 als er dieren worden gehoud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et het pad onkruidvrij zijn of mag er ook wat op of overheen groei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476360" y="1168560"/>
            <a:ext cx="597708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e weet je wat is gewens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ij de inventarisatie goed rondkij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ra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oorstellen do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en vraag van de klant beoordelen op de haalbaarheid en zonodig een tegenvoorstel do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n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s kun je het gewoon zi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476360" y="1197000"/>
            <a:ext cx="5514840" cy="56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5T19:21:36Z</dcterms:created>
  <dc:creator>Administrator</dc:creator>
  <dc:description/>
  <dc:language>en-US</dc:language>
  <cp:lastModifiedBy>Administrator</cp:lastModifiedBy>
  <dcterms:modified xsi:type="dcterms:W3CDTF">2009-10-15T19:48:36Z</dcterms:modified>
  <cp:revision>2</cp:revision>
  <dc:subject/>
  <dc:title>Doel van het onderhoud, Onderhoudsplan Onderhoudsadvies</dc:title>
</cp:coreProperties>
</file>