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8.wmf" ContentType="image/x-wmf"/>
  <Override PartName="/ppt/media/image12.jpeg" ContentType="image/jpeg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13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6006-3081-41BC-B098-0094F0139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F97B-6776-46FA-A69B-009DB059E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3EC1-AF75-43CA-BE8C-F937F793D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25F4-6C12-48D6-8492-71DE4DF22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6797E-D179-4447-86D7-E97101C4B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37451-8D5E-42A0-93D7-E95163068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AED41-9420-43A8-96C1-6C0AB12DA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13BA5-F650-4F19-B812-8E523DC0B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AEFE3-45F8-46BB-B25E-2B42CE12B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4BB0E-0F47-4D73-B327-D490FC3F1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129E7-98D6-4E7C-89BE-FC6C376CC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FC73-D9AC-40DA-B3B8-2C4A279AF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E8F2B-F229-4FD4-9726-998F3A42C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7F959-0FC9-4825-A6DE-E57565791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2B09F-F180-4E32-9CF1-9BD5E7662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F2974-589B-4FFF-8784-E7444144D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FD973-9591-451A-9636-7B2814AB4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F67B-6C2E-4883-8D0E-BC1A64FB3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766F-785E-4ED4-B8E9-D59154366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438F-47A6-447E-B156-36E0C2F7A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85C0-4E21-42E1-8368-93FBF32E8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562B-2D05-4DD9-B22C-97F89EE8B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2509-DB29-4554-9201-7B146A3E7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6374-0333-463E-B0F4-EAE9FE0B3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9EB9B-7836-4A7D-A4E6-A055B6951D39}" type="slidenum">
              <a:rPr b="1" lang="nl-NL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8AABE-03B5-4044-9A9C-4392DF293CE7}" type="slidenum">
              <a:rPr b="1" lang="nl-NL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BOSPLANTSOEN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6666"/>
                </a:solidFill>
                <a:latin typeface="Arial"/>
              </a:rPr>
              <a:t>Inrichting en beheer van landschappelijke beplantigsvormen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Hoge en lage struiken met aan de rand bome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843280" y="2781360"/>
            <a:ext cx="3733560" cy="29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Bomen aan de westkant en struiken aan de oostkant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340000" y="2565360"/>
            <a:ext cx="4464000" cy="37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Bomen middenin en daaromheen struike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340000" y="2924280"/>
            <a:ext cx="403236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n na het inplanten het behe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erst dicht op elkaar plant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nderdrukking van het onkrui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en snelle sluiting van het gew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inder werk in de eerste jar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oe groot worden de planten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Struiken 2 tot 8 meter hoog en in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Bomen 15 tot 25 meter hoog,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Ø kroon meestal 8/10 van de hoogt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Dus later nemen ze meer plaats in dan tijdens het plant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eheren is dus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Plantafstandvergroting of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Plant-aantalreducti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Uiteindelijk komen de planten zóver van elkaar dat ze individueel kunnen uitgroeie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Dat is veel werk! En vakwerk!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nkele feiten over bomen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Bomen worden hoog en bre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Bomen worden hoger dan struik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Er zijn snelgroeiende en langzaamgroeiende bomen (en struiken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Onder bomen groeien (bijna) geen struik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Een afgezaagde boom wordt altijd weer een (meerstammige) boom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547640" y="2708280"/>
            <a:ext cx="5975640" cy="36910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Kleine bomen worden groo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Onder bomen groeien geen struiken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403280" y="2708280"/>
            <a:ext cx="5975280" cy="35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nkele feiten over struiken: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Struiken worden ongeveer even hoog als bre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Struiken kan men niet door snoeien klein houd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Bij gewas-sluiting: geen onkruidgroe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Er wordt vaak geplant op 1 x 1 tot 1,5 x 1,5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Dit is 10.000 tot 444 planten per ha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Difinitie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andschappelijke beplant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innen en buiten stedelijk gebi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eestal inheemse soort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amengesteld uit plantsoen wat vaak in bundels of bossen wordt verhandeld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Kan bomen en/of struiken bevatten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omen en struike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979640" y="2781360"/>
            <a:ext cx="5508720" cy="28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nkele feiten over het planten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 meeste struiken worden gem. 6 m hoog en breed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r zullen dan dus 280 stuks overblijve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ij het inplanten tot de rand gaan de struiken “overkoken”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p schone grond groeit iedere plant snell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Wat moet je doen zonder beheersplan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1763640" y="2708280"/>
            <a:ext cx="5894640" cy="3191040"/>
            <a:chOff x="1763640" y="2708280"/>
            <a:chExt cx="5894640" cy="3191040"/>
          </a:xfrm>
        </p:grpSpPr>
        <p:pic>
          <p:nvPicPr>
            <p:cNvPr id="139" name="" descr=""/>
            <p:cNvPicPr/>
            <p:nvPr/>
          </p:nvPicPr>
          <p:blipFill>
            <a:blip r:embed="rId1"/>
            <a:stretch/>
          </p:blipFill>
          <p:spPr>
            <a:xfrm>
              <a:off x="1763640" y="2708280"/>
              <a:ext cx="5894640" cy="319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 txBox="1"/>
            <p:nvPr/>
          </p:nvSpPr>
          <p:spPr>
            <a:xfrm>
              <a:off x="1763640" y="2708280"/>
              <a:ext cx="5894640" cy="3191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Veel voorkomende beheersfoute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Het ongelijke groeiritme van “blijvers en wijkers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Wijkers groeien het hards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Wijkers worden vaak blijver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761000" y="2362320"/>
            <a:ext cx="4383000" cy="43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Niet dunnen en wat dan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lanten groeien met elkaar in de hoogt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Geen breedtegroe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lechte ontwikkeling van de plant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pnieuw beginnen is dan het best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5003640" y="2781360"/>
            <a:ext cx="3483000" cy="34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noeien of dunnen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noeien = klein houden van de individuele pla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noeien = eindeloos werk houd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unnen = ruimte maken voor de individuele pla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unnen = eindi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De afplantrij aan de ran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258920" y="2314440"/>
            <a:ext cx="5977080" cy="44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e “overkokende” beplant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2" name="foto" descr=""/>
          <p:cNvPicPr/>
          <p:nvPr/>
        </p:nvPicPr>
        <p:blipFill>
          <a:blip r:embed="rId1"/>
          <a:stretch/>
        </p:blipFill>
        <p:spPr>
          <a:xfrm>
            <a:off x="1258920" y="2421000"/>
            <a:ext cx="5834160" cy="43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et probleem van de bome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755640" y="2349360"/>
            <a:ext cx="2755800" cy="450864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761000" y="2620800"/>
            <a:ext cx="4383000" cy="37260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 flipV="1">
            <a:off x="3564000" y="4652640"/>
            <a:ext cx="1439640" cy="6476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e oplossing van de bome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900000" y="2349360"/>
            <a:ext cx="3229200" cy="450864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4840560" y="2460600"/>
            <a:ext cx="3093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laats de bomen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zo mogelijk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aast de  struike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oe komt het tot stand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en ontwerper maakt een pla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ekening,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eschrijving,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chema’s enz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ij stelt de functie vas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ij bepaalt daarbij de beplantingsvor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ij maakt daarvoor een beplantingspla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n hij maakt een beheerspla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908000" y="2370240"/>
            <a:ext cx="5905800" cy="44877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en voorbeeld van een teken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en toelichting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landschappelijke beplanting en streekeigen inrichting van een erf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In het plan staat welke soorten hagen, hoogstamfruitbomen, laanbomen het beste geplant kunnen worden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Waar bijvoorbeeld een singel, moestuin, vaste planten of boomgaard het best tot zijn recht komt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e Functie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aarmee wordt bedoeld waarvoor de beplanting dient, bijv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en landschappelijk element in een pold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egwerken van een lelijk objec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Verkeersgeleid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atuurontwikkel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indvang enz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e beplantingsvorm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Alleen hoge srtuik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Struiken met een enkele boom erbov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Alleen bomen, een bos du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Struiken met alleen bomen langs de ran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Een mengsel van bomen en struik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Enz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eplantingspla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In het plan staat welke soorten struiken, hagen, hoogstamfruitbomen, laanbomen het beste geplant kunnen worde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Ook wordt hier de plantafstand vermeld. Bij rijafstand 2 meter, in de rij 1 met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Vaak is hier een beplantingstekening voor nodi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lleen struiken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403280" y="2781360"/>
            <a:ext cx="6697800" cy="32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3T16:00:50Z</dcterms:created>
  <dc:creator>Peter</dc:creator>
  <dc:description/>
  <dc:language>en-US</dc:language>
  <cp:lastModifiedBy>Administrator</cp:lastModifiedBy>
  <dcterms:modified xsi:type="dcterms:W3CDTF">2009-01-29T20:18:52Z</dcterms:modified>
  <cp:revision>10</cp:revision>
  <dc:subject/>
  <dc:title>BOSPLANTSOEN</dc:title>
</cp:coreProperties>
</file>