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48A-D347-450F-8DB9-AC7B1CEE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CB5-E982-4FAA-B378-B61519F2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19C-77DE-4168-9B65-5042EFC6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243-1B06-4F54-95E1-5F1BF5BD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6D3F-76AE-4128-955B-C033ED36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F4C5-BFC5-4956-808C-0EB18DDB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9E3F-3077-4575-A7FC-9373D02B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4A46-2EA8-464C-93E8-62BE1BB1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B6F1-891C-41C4-BD8A-F2C76435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D54E-C4A7-4656-92FE-2922497A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A9EA-527C-4B71-B177-E0F6E92E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31A-BE64-4DEA-8AF4-35CD012C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81B8-3C19-494C-B43F-B6E7B121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6AAA-AFE4-483D-BA9C-FC583657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C090-B776-476C-A08E-34AD8FF2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52D1-62D6-45D0-81D5-C172CA81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CA97-E596-45BF-902F-72F6632B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CFB-A200-405D-B721-C9E0FD9F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EFE-A27C-44E1-8F7E-24D6035E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A2B-A8B4-4E50-94CC-E8400E99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6C8-4E96-4AB3-945E-162E76EE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593-2FB2-42AD-90F8-C29AA3BA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54E-E72D-4287-A837-CA442DC0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B2BA-5E50-4589-886F-8697BD4C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A0C9-65C9-4C21-840B-36A64C701166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111F-2110-4A35-8675-5230AFB5D774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SPLANTSO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Inrichting en beheer van landschappelijke beplantigsvor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ge en lage struiken met aan de rand bo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733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aan de westkant en struiken aan de oostk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middenin en daaromheen struik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03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 na het inplanten het beh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rst dicht op elkaar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derdrukking van het onkr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en snelle sluiting van het gew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der werk in de eerste ja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groot worden de plant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2 tot 8 meter hoog en i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omen 15 tot 25 meter hoo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 kroon meestal 8/10 van de hoog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us later nemen ze meer plaats in dan tijdens het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eren is d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afstandvergroting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-aantalreduc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iteindelijk komen de planten zóver van elkaar dat ze individueel kunnen uitgroei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at is veel werk! En vakwer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bom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og en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ger da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zijn snelgroeiende en langzaamgroeiende bomen (en strui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der bomen groeien (bijna) ge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afgezaagde boom wordt altijd weer een (meerstammige) bo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975640" cy="369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leine bomen worden gro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der bomen groeien geen struike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752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struiken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worden ongeveer even hoog als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kan men niet door snoeien klein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ij gewas-sluiting: geen onkruidgro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wordt vaak geplant op 1 x 1 tot 1,5 x 1,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it is 10.000 tot 444 planten per h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ifiniti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happelijke bepla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nnen en buiten stedelijk geb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stal inheemse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ngesteld uit plantsoen wat vaak in bundels of bossen wordt verhand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n bomen en/of struiken beva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men en struik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508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het plant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 meeste struiken worden gem. 6 m hoog en b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ullen dan dus 280 stuks overblijv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j het inplanten tot de rand gaan de struiken “overkoken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 schone grond groeit iedere plant sne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t moet je doen zonder beheerspl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2708280"/>
            <a:ext cx="5894640" cy="3191040"/>
            <a:chOff x="1763640" y="2708280"/>
            <a:chExt cx="5894640" cy="31910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763640" y="2708280"/>
              <a:ext cx="58946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1763640" y="2708280"/>
              <a:ext cx="5894640" cy="319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el voorkomende beheersfou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t ongelijke groeiritme van “blijvers en wijke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groeien het har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worden vaak blij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1000" y="2362320"/>
            <a:ext cx="4383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et dunnen en wat d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ten groeien met elkaar in de hoog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en breedtegro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echte ontwikkeling van de plan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nieuw beginnen is dan het b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83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oeien of dunn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klein houden van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eindeloos werk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ruimte maken voor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eindi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e afplantrij aan de r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2314440"/>
            <a:ext cx="5977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“overkokende” bepla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foto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834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 probleem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61000" y="2620800"/>
            <a:ext cx="4383000" cy="372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3564000" y="4652640"/>
            <a:ext cx="143964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oplossing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29200" cy="450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40560" y="2460600"/>
            <a:ext cx="309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ats de bom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 mogelij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ast de  struik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komt het tot sta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werper maakt een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ken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chrijv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ma’s en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stelt de functie v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bepaalt daarbij de beplantingsv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maakt daarvoor een beplanting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hij maakt een beheer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37024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voorbeeld van een tek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toelichting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andschappelijke beplanting en streekeigen inrichting van een er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hagen, hoogstamfruitbomen, laanbomen het beste geplant kunnen wo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ar bijvoorbeeld een singel, moestuin, vaste planten of boomgaard het best tot zijn recht kom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Functi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armee wordt bedoeld waarvoor de beplanting dient, bij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landschappelijk element in een p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gwerken van een lelijk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keersgelei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urontwikk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vang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beplantingsv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hoge srt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een enkele boom erbo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bomen, een bos d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alleen bomen langs de r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mengsel van bomen 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plantings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struiken, hagen, hoogstamfruitbomen, laanbomen het beste geplant kunnen wo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ok wordt hier de plantafstand vermeld. Bij rijafstand 2 meter, in de rij 1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ak is hier een beplantingstekening voor nodi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leen struik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697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00:50Z</dcterms:created>
  <dc:creator>Peter</dc:creator>
  <dc:description/>
  <dc:language>en-US</dc:language>
  <cp:lastModifiedBy>Administrator</cp:lastModifiedBy>
  <dcterms:modified xsi:type="dcterms:W3CDTF">2009-01-29T20:18:52Z</dcterms:modified>
  <cp:revision>10</cp:revision>
  <dc:subject/>
  <dc:title>BOSPLANTSOEN</dc:title>
</cp:coreProperties>
</file>