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6EB-9D00-4070-992E-221FF4A9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05F-1477-4262-82BC-9049BAD3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71B-03FF-4E69-8629-B77456F1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57C-B68A-4267-B61E-434CD568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43B1-8608-47E7-B7ED-19AB288C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8623-AC36-4740-851E-0D0F4E7E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A624-627C-440F-8FB9-20A88896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1B29-E00A-4F09-98B6-3464D116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1025-057F-46E2-8E9B-A522428A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8A38-93B5-4BDC-A7EB-27D48EEB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B0ED-9351-4CDC-A5B7-C6F8F6B0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1A6-63A5-4F3B-8019-7C355ED6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9DB9-6344-421B-8213-5FA71BA9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7B41-9D64-4784-A46F-73B7987C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4ADE-2AD6-4044-8739-A671FC73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7C23-97DD-44CD-8EF3-5DC14E70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1FDD-E2D3-42F1-9B57-CFA1840E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773-7085-4E3F-AF70-13E82A46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DAE-56CE-4BF4-A7D2-0BC60761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D12-EC1B-4804-908F-0F31C7C1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963-D85E-432F-86CB-3EC2136D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A984-E823-46CF-BD62-80C5A340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B6E-4795-492F-AEDF-74DC4032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4CD-D36D-4945-AAF3-A64ED9BE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8D94-E0E0-4A7B-95D9-551724FC372B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CA9F-D5F7-494B-BFE5-35B4134699AA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en misverstanden met de k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rekenen van de kosten (offert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heid voor het persone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komen van misverst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juridisch docu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communicati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gangspunt voor  calculatie en ra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idraad voor de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 over rechten en plich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ussen opdrachtgever en uitvoe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owel opdrachgever als uitvoerder kunnen de kosten bereke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. Het resultaat t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jn de afspraken nagekom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actuele gelijkwaard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verdeling van verantwoordelijkhed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duidige besteks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geen verschil van me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richt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stenhomogen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meer- of minderwerk voor afgesproken prijz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AW bestekken van de CR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tworpen voor de grond- water- en weg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u ook voor de groene ruim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automatis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volgorde waarin ze worden uitgevo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gens een vast sc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 de hand van de inventaris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verzichtelij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 gebruikte bepa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stgelegd in een standaardw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toepassing bep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wijkingen apart beno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ofdstuk 51 voor de groenvoorzi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 van het bestek voor calc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971640" y="2017800"/>
            <a:ext cx="64800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aan te leggen of te beheren oppervla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 van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verwerk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bereikbaar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grond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delen van de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schrijven van de te verrichten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van oppervlakten 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en werkmetho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werkzaamhed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materialen die gebruikt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noem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beschrij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bewerken oppervlak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do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leven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keuzes (afhankelijk van de omstandig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of -volgo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johan</cp:lastModifiedBy>
  <dcterms:modified xsi:type="dcterms:W3CDTF">2014-04-28T15:05:17Z</dcterms:modified>
  <cp:revision>6</cp:revision>
  <dc:subject/>
  <dc:title>Werkbeschrijvingen en bestekken</dc:title>
</cp:coreProperties>
</file>