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585E-BF09-4001-A3A3-3BB9601F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53C2-B139-4366-90DC-9B67242B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D06C-B319-457E-BF6E-CF24907AF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4EC8-D56A-42D8-A833-288F2B47A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59EB-F5A7-4229-A3FA-5A7C37473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4F8D-D103-427F-9EB2-5D0A63DB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0ED9-D071-4CF1-90AA-F466702F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7196-6A7B-4C9E-9D29-38A5687E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209E-E3F0-4D40-BC55-F614EC26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38AD-48E2-451A-8EF7-C7D156ED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AFB9-4D40-471B-8D03-BE7C6E9A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6E0E-8145-4311-83A0-790E133C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9F3E-8561-4504-BA82-4A248154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CC84-BE6E-4EBB-B3A4-C9903D92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E06A-AA7C-423D-8424-002142DF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20E0-7563-4334-86EC-4EB640817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04C8-5B3A-41BB-A4A3-37B53A50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4DED-3ABD-4E92-AE6C-A6C85872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4629-5348-43A8-A42A-59DBA012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F3B8-2A9E-427F-B0AB-72EE64CF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895B-2BF7-48E0-B36C-907F8F8B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41F1-A665-47EA-9DA1-F44F3B2D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076B-078B-4EBE-A9A0-828DAD7E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8A68-17F2-4B7C-92D3-D4B55577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224B-6A9F-432A-A489-951AB9F5E9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C2D8-8823-4A48-BD6F-2E9F627239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?func=ll&amp;objId=10628055&amp;objAction=browse&amp;sort=name&amp;viewType=1" TargetMode="External"/><Relationship Id="rId2" Type="http://schemas.openxmlformats.org/officeDocument/2006/relationships/hyperlink" Target="https://livelink.groenkennisnet.nl/livelink/llisapi.dll?func=ll&amp;objId=10628055&amp;objAction=browse&amp;sort=name&amp;viewType=1" TargetMode="External"/><Relationship Id="rId3" Type="http://schemas.openxmlformats.org/officeDocument/2006/relationships/hyperlink" Target="https://livelink.groenkennisnet.nl/livelink/llisapi.dll?func=ll&amp;objId=10628055&amp;objAction=browse&amp;sort=name&amp;viewType=1" TargetMode="External"/><Relationship Id="rId4" Type="http://schemas.openxmlformats.org/officeDocument/2006/relationships/hyperlink" Target="https://livelink.groenkennisnet.nl/livelink/llisapi.dll?func=ll&amp;objId=10628055&amp;objAction=browse&amp;sort=name&amp;viewType=1" TargetMode="External"/><Relationship Id="rId5" Type="http://schemas.openxmlformats.org/officeDocument/2006/relationships/hyperlink" Target="https://livelink.groenkennisnet.nl/livelink/llisapi.dll?func=ll&amp;objId=10628055&amp;objAction=browse&amp;sort=name&amp;viewType=1" TargetMode="External"/><Relationship Id="rId6" Type="http://schemas.openxmlformats.org/officeDocument/2006/relationships/hyperlink" Target="https://livelink.groenkennisnet.nl/livelink/llisapi.dll?func=ll&amp;objId=10628055&amp;objAction=browse&amp;sort=name&amp;viewType=1" TargetMode="External"/><Relationship Id="rId7" Type="http://schemas.openxmlformats.org/officeDocument/2006/relationships/hyperlink" Target="https://livelink.groenkennisnet.nl/livelink/llisapi.dll?func=ll&amp;objId=10628055&amp;objAction=browse&amp;sort=name&amp;viewType=1" TargetMode="External"/><Relationship Id="rId8" Type="http://schemas.openxmlformats.org/officeDocument/2006/relationships/hyperlink" Target="https://livelink.groenkennisnet.nl/livelink/llisapi.dll?func=ll&amp;objId=10628055&amp;objAction=browse&amp;sort=name&amp;viewType=1" TargetMode="External"/><Relationship Id="rId9" Type="http://schemas.openxmlformats.org/officeDocument/2006/relationships/hyperlink" Target="https://livelink.groenkennisnet.nl/livelink/llisapi.dll?func=ll&amp;objId=10628055&amp;objAction=browse&amp;sort=name&amp;viewType=1" TargetMode="External"/><Relationship Id="rId10" Type="http://schemas.openxmlformats.org/officeDocument/2006/relationships/hyperlink" Target="https://livelink.groenkennisnet.nl/livelink/llisapi.dll?func=ll&amp;objId=10628055&amp;objAction=browse&amp;sort=name&amp;viewType=1" TargetMode="External"/><Relationship Id="rId11" Type="http://schemas.openxmlformats.org/officeDocument/2006/relationships/hyperlink" Target="https://livelink.groenkennisnet.nl/livelink/llisapi.dll?func=ll&amp;objId=10628055&amp;objAction=browse&amp;sort=name&amp;viewType=1" TargetMode="External"/><Relationship Id="rId12" Type="http://schemas.openxmlformats.org/officeDocument/2006/relationships/hyperlink" Target="https://livelink.groenkennisnet.nl/livelink/llisapi.dll?func=ll&amp;objId=10628055&amp;objAction=browse&amp;sort=name&amp;viewType=1" TargetMode="External"/><Relationship Id="rId13" Type="http://schemas.openxmlformats.org/officeDocument/2006/relationships/hyperlink" Target="https://livelink.groenkennisnet.nl/livelink/llisapi.dll?func=ll&amp;objId=10628055&amp;objAction=browse&amp;sort=name&amp;viewType=1" TargetMode="External"/><Relationship Id="rId14" Type="http://schemas.openxmlformats.org/officeDocument/2006/relationships/hyperlink" Target="https://livelink.groenkennisnet.nl/livelink/llisapi.dll?func=ll&amp;objId=10628055&amp;objAction=browse&amp;sort=name&amp;viewType=1" TargetMode="External"/><Relationship Id="rId15" Type="http://schemas.openxmlformats.org/officeDocument/2006/relationships/hyperlink" Target="https://livelink.groenkennisnet.nl/livelink/llisapi.dll?func=ll&amp;objId=10628055&amp;objAction=browse&amp;sort=name&amp;viewType=1" TargetMode="External"/><Relationship Id="rId16" Type="http://schemas.openxmlformats.org/officeDocument/2006/relationships/hyperlink" Target="https://livelink.groenkennisnet.nl/livelink/llisapi.dll?func=ll&amp;objId=10628055&amp;objAction=browse&amp;sort=name&amp;viewType=1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dme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maken van een veldwe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etlij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lpmeetlijnen staan altijd haaks op de hoofdmeetlij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geef je aan met een kwart rond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3789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195280" y="544500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2200">
            <a:off x="1255680" y="44809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anduiding haa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r als de tekening dat verlan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r staat een object in de w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betekent ook haak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40053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47280" y="4797360"/>
            <a:ext cx="4969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600" y="479736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149720"/>
            <a:ext cx="1150920" cy="1057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373720"/>
            <a:ext cx="9144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ering van het meetge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ijd haaks op de meet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s of rechts van de 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 lezen vanuit de pij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3905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68000" y="4724280"/>
            <a:ext cx="374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332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28680" y="478944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85928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9560" y="574848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4982400" y="58910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ind- en tussenma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dmaten altijd onderstre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92000" y="4221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427640" y="422064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24360" y="4220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40680" y="4308480"/>
            <a:ext cx="1003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5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2000" y="4365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3840" y="292428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9320" y="2349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2708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3705480" y="52275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70800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5937480" y="515592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50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9600" y="327672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1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5600" y="349236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6,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9960" y="4360680"/>
            <a:ext cx="4546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37240" y="3645000"/>
            <a:ext cx="111024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m na te leze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Zie ook het landmeetboek blz. 8; “de opmeetmethode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ik voor het landmeetboek op de onderstaande lin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s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livelink.groenkennisnet.n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livelink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llisapi.dl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?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fun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=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doc.ViewDo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nodeId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=90568114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viewType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drac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k nu opdrachten 26 en 27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 de hierboven beschreven regels en afspraken to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 is een veldwerk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en tekening van ee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et op scha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een ingebouwde contr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de juist ingemeten ma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een uniforme manier genotee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lke tekening voldoe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tekening waarin metingen kunnen worden genotee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en kadastertekening of een eigen sch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arom niet op schaa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metingen zijn het belangrij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moet daarvoor ruimte op de tekening z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ekening moet ongeveer aangeven hoe het terrein er uit zi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schaaltekening verschijnt na het uitwerken van de meetgegev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gebouwde contro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lke meting kan fouten bevat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ijv. een driehoek én een hoogte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e werkt dat d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 er bij één zijde een fout is gemeten past de hoogtelijn niet bij de uitwer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rkwij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deel het object in meetkundige figuren die je eenvoudig kunt controler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407664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4437000"/>
            <a:ext cx="1057320" cy="9144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4437000"/>
            <a:ext cx="914400" cy="9144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40053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18920" y="4149720"/>
            <a:ext cx="865080" cy="865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443700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8101080" y="4005000"/>
            <a:ext cx="7128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877000"/>
            <a:ext cx="1214280" cy="914400"/>
          </a:xfrm>
          <a:prstGeom prst="parallelogram">
            <a:avLst>
              <a:gd name="adj" fmla="val 33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050560" y="5950080"/>
            <a:ext cx="505080" cy="907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558972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211640" y="5589360"/>
            <a:ext cx="93672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ar dan ga je toch even teru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 kost dat ten opzichte van een controlemet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ug: vaak enkele tot vele u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emeting: enkele minu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atie van de met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oofdmeetlijnen 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ulpmeetlijn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meetlijn begint met een pijlt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050920" y="494172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3860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3:44:34Z</dcterms:created>
  <dc:creator>Peter</dc:creator>
  <dc:description/>
  <dc:language>en-US</dc:language>
  <cp:lastModifiedBy>laptop</cp:lastModifiedBy>
  <dcterms:modified xsi:type="dcterms:W3CDTF">2007-11-07T08:20:51Z</dcterms:modified>
  <cp:revision>6</cp:revision>
  <dc:subject/>
  <dc:title>Landmeten</dc:title>
</cp:coreProperties>
</file>