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E03C-F276-4DF0-BC3C-1142556F1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3B36-62DB-46C4-B733-8B3B68302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896E-1625-4E24-98AD-6EB4DAAD1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794C-9DDA-4C0B-865E-53CF18319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3B91F-CCC0-431F-A729-00E3FB282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33DA6-6A39-46BA-94CC-CA05E76E0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860A5-8527-4D62-AAA0-B989FCF4A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A0A80-D696-4EB9-B427-74DADA8F8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9A366-5C1E-4BC9-899D-E7DD12A34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DCC63-532B-4AD6-AEE9-54B553986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B875A-6DDC-4D2F-9362-2E1BBEFC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020A-A7E1-438B-81FE-CB4BEFFD1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10C9B-EEE2-43B2-AB46-A98D18E0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B1581-0C2B-4038-B3B2-2F761B3B3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F7566-26F7-46A3-8089-A6126821D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081E9-76DB-40B7-9100-60D506361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DE6FA-1C1E-43F6-8A32-BF6FCF0BD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EE3D-3FDE-4D2C-9AFA-C07050C4A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C3BF-1F2B-4FE6-BCF1-B6AE0780D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D6C6-2BD4-4A0F-967B-67EFB44A5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E10B-5E7F-4867-9E00-C71C85DE3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6C79-F4EA-4E72-A199-82C81E8B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C310-04BA-401E-BC65-985EDBA33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0506-4DB1-48AA-96B7-99AC6C1E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1ADB5-FE4E-4EEC-979E-66707287FA91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D2AA5-F026-493D-8705-E4CA4C944326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06633"/>
                </a:solidFill>
                <a:latin typeface="Garamond"/>
              </a:rPr>
              <a:t>Onderzoek van de bodem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Wat kun je onderzoeken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rondso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pbouw van het profi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erhoudend vermo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erst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Grondsoor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and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 aangewaa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 aangespoel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eemhoudende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lei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 rivier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 zee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avel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en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De zand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andgronden die door wind zijn neergeleg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dekzand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duin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zandkorrels zijn afgeronde kiezelsteentj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ussen de vingers voelt het aan als schuurpapier, je voelt de korrels duidelijk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an weinig water vasthou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De zand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andgronden die door het water zijn afgeze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ivierz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eez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korrels zijn scher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ussen de vingers voelt het aan als grof schuurpapi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an weinig of geen water vasthou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De leemhoudende 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eem is een zeer fijne zandkorr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et heeft eigenschappen als 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et houdt veel vocht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roogt op in harde bon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waar te be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ussen de vingers voelt het aan als fijn schuurpapi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Kleigronden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eer fijn verweerd gesteentemateria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elt tussen de vingers in vochtige toestand aan als een smeermid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udt veel water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el plantenvoedende minera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waar te be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Zavel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korrelgrootte ligt tussen zand en 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oede vochthoudende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Prettig te bewerken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ussen de vingers voelt het aan als een smeermiddel met wat fijn zand erdo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Veen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ltijd van organische oorspro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aagveen (wordt onder water gevorm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ogveen (wordt boven de waterspiegel gevormd) is bijna verdwe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21:09:10Z</dcterms:created>
  <dc:creator>Peter</dc:creator>
  <dc:description/>
  <dc:language>en-US</dc:language>
  <cp:lastModifiedBy>Peter</cp:lastModifiedBy>
  <dcterms:modified xsi:type="dcterms:W3CDTF">2008-11-20T16:57:56Z</dcterms:modified>
  <cp:revision>5</cp:revision>
  <dc:subject/>
  <dc:title>Werkvoorbereiding</dc:title>
</cp:coreProperties>
</file>