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FE2C-E682-4E2A-B7C3-8DDD3DA8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1158-DB9D-43CE-BC2B-F42ECF2A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FCFE-C47E-4C61-BA54-438590FC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57D1-F05B-44D8-AE65-4B4086D6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1E59-C11F-41E8-92C7-B531DEC9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4677-FED4-4BC2-93E7-25F7D4A7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AD82-0933-46A3-8B2F-14A1AEB9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1FC1-1CCA-45FE-A887-28411AC9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911A-3057-4068-98ED-8BE864E6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DF85-7FEE-4266-BD0B-E52A3055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51B4-3BD9-4D3F-80D9-556C7F8A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5227-5A7D-4BBE-9A49-B96924BF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CDAC-E4DB-481C-88D2-6B97F876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51D5-4A3C-47D6-831E-D9F6E3D3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0446-D158-4345-A63C-4ADB0637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BEF2-6F85-4063-8D05-B6578F88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838F-E2E7-427D-A106-3AC3F35A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CF7C-956D-43C8-89FB-313B230B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52E8-B4E6-4461-80DF-F7FFB0BA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90F2-9670-45F4-8065-E3B1AA2C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29D2-2FB6-4409-AB45-63F79B62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B1EB-B5DA-4998-917D-F0905E0B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5BD5-4E53-4B0D-9014-7CA3C1E1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D8E2-766E-4BBC-B921-4025D97B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43D2-D7BD-49F6-8948-1AC2DB510C8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0BA1-95AD-4116-8D2E-0105D5303EE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330066"/>
                </a:solidFill>
                <a:latin typeface="Arial"/>
              </a:rPr>
              <a:t>Bodem en bemest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ben planten no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69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elke meststoffen zijn e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kelvoudige kunst-mestof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gestelde kunst-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olog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unstm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676944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rganische m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590544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t is nu het best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at hangt af hoe je het toepas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ke eenzijdige bemesting is onvolle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mbinatie van organische stoffen en mineralen is meestal het bes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 voor het bodem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ineralen voor de vo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elke meststoffen zijn e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stmeststoffen (van de chemische industrie d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ststoffen van natuurlijk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unst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ikstofmeststoffen (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osfaatmeststoffen (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limeststoffen (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gnesiummeststoffen (M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ststoffen met spore-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gestelde meststoffen (N+P+K+M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envoudig om het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amensgestelde 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28600" y="2576520"/>
            <a:ext cx="2695680" cy="2695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602320" y="1719360"/>
            <a:ext cx="2128680" cy="212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924360" y="3716280"/>
            <a:ext cx="14018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20072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rganische 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komstig van dierlijk of plantaardig 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composteerd huisvu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vat vaak veel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lage gehaltes aan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een sterk bacterieleven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werk om het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0" t="0" r="0" b="6044"/>
          <a:stretch/>
        </p:blipFill>
        <p:spPr>
          <a:xfrm>
            <a:off x="468360" y="620640"/>
            <a:ext cx="741672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Meststoffen van natuurlijke oorspro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wonnen uit zee (alg, kora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komstig van fossiele oorsprong (guan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droogde organische meststoff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valproducten van slachterij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stproducten uit de industr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ak gemakkelijk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groeiplaats: gro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angrijkste ei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Verankering van 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Voldoende groeikans 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. Bodem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. Bodem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. Vo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voeding van plant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vengronds: vorming van suikers door zonlicht (assimilati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voer naar beneden (buitenste sapstroo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gronds: water met daarin mineralen opgelo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voer naar boven (binnenste sapstroo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pstroom onderbroken: afsterving van wor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24160" y="538200"/>
            <a:ext cx="629568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m welke mineralen gaat he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grote hoeveel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kstof (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Fosfaat (Phosfaat) (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alium (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agnesium (M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wavel 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kleine hoeveel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andere scheikundige elementen zoa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o, Ni, Si, Ba enz. (de zgn spore-elemente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arin zitten deze voedings eleme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In organische meststoff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lmest, compost, slib, champost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In mineralen van biolog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wier, koraal, vogelmest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3. In kunstmatig gefabriceer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stm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684036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Hoe weet je wat er nodig i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worden onderzocht in het labarotor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incent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demkundige laborato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costy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onderzoek -&gt; adv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36Z</dcterms:created>
  <dc:creator>Peter</dc:creator>
  <dc:description/>
  <dc:language>en-US</dc:language>
  <cp:lastModifiedBy>Peter</cp:lastModifiedBy>
  <dcterms:modified xsi:type="dcterms:W3CDTF">2008-10-31T23:07:36Z</dcterms:modified>
  <cp:revision>8</cp:revision>
  <dc:subject/>
  <dc:title>Bodem en groen</dc:title>
</cp:coreProperties>
</file>