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B3E9-CCC8-4984-8E34-BE6FF4071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CFC0-6712-4696-AF31-EE8AB6A76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6131-AE04-4CCB-8662-922A097B8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1E72-0406-4B99-BEB5-D0BB19CCD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AEA5C-C396-4AF8-98BA-D366236E7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BBE52-F498-44F6-99DF-9AAD35E76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9D252-8E18-4AC3-9A29-067B4A592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B9E06-E568-4435-AEDB-A1D2A57E9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ED157-7AAD-47D2-BC94-D9A4BA8E7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ED124-FBE2-4596-A344-53BF55F04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76B2F-A238-4932-B24D-74A7B6BF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86CF-C933-482D-ABC8-38B795AEB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4E62B-399A-4217-8DCD-8BB8A81E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7DACA-F6E2-4EC8-B374-72222DB5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E6039-6E36-4DC1-A022-EC467B82B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9CC86-801F-4DAA-8711-1FC09269F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4F9C2-8009-45DC-8ED3-59FB961E2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79BB-417B-4F9C-91B0-F066F4F34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45FF-6DC2-4F91-9C2D-C821592C7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824F-4406-4D02-B45E-0489A2179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EFEC-7704-4CF9-A7B1-3F611F53F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BA27-B0C9-47AB-88B4-F18B4949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69E7-288C-40D0-A64C-CB3BDEE0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7F00-E4DC-4520-8534-9246EBC0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4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8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0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2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4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5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6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7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8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9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0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4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9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0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1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2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3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4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5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6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7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8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49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Oval 52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1" name="Oval 53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2" name="Oval 54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3" name="Oval 55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4" name="Oval 56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5" name="Oval 57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6" name="Oval 58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7" name="Oval 59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8" name="Oval 60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9" name="Oval 61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0" name="Oval 62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1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3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4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5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6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7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8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9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0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1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2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3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4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5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6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7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8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9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0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1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2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3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4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5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6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7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8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9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0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1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2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3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4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5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6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7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00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01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4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5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7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9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0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111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18" name="Group 120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Oval 121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0" name="Freeform 122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123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2" name="Freeform 124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3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C7A1D-829C-4C08-B8A6-F7EC3E174CC9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Group 3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Group 4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69" name="Group 6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1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2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173" name="Group 10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75" name="Group 12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77" name="Group 14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9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0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1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2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3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4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5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6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7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8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9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0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1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2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3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4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5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6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7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8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9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0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1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2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3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4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5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6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7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8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9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0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1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2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3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214" name="Group 51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Oval 52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6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7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8" name="Oval 55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9" name="Oval 56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0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1" name="Oval 58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2" name="Oval 59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3" name="Oval 60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4" name="Oval 61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5" name="Oval 62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6" name="Oval 63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8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9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0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1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2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3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4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5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6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7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8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9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0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1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2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3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4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5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6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7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8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9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0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1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2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3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4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5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6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7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8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9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0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1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2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65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8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9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0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1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2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3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4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5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276" name="Group 113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8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9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0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1" name="Rectangle 118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2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283" name="Group 120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Oval 121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5" name="Freeform 122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6" name="Freeform 123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7" name="Freeform 124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8" name="Freeform 125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9AF71-A5E9-4598-ACAC-9D0DBA76859B}" type="slidenum">
              <a:rPr b="0" lang="nl-NL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Werkbeschrijvingen en bestekken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Het belang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een misverstanden met de kla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erekenen van de kosten (offerte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uidelijkheid voor het persone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oorkomen van misverstan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Het bestek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Een juridisch docu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Een communicatiemidd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Uitgangspunt voor  calculatie en ram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Leidraad voor de uitvoer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Prestatiebeschrijv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Controlemidd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Juridisch documen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uidelijk over rechten en plicht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1"/>
          <a:stretch/>
        </p:blipFill>
        <p:spPr>
          <a:xfrm>
            <a:off x="1187280" y="2232000"/>
            <a:ext cx="518508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Communicatiemiddel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Tussen opdrachtgever en uitvoerd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5" name="Picture 4" descr=""/>
          <p:cNvPicPr/>
          <p:nvPr/>
        </p:nvPicPr>
        <p:blipFill>
          <a:blip r:embed="rId1"/>
          <a:stretch/>
        </p:blipFill>
        <p:spPr>
          <a:xfrm>
            <a:off x="1476360" y="2235240"/>
            <a:ext cx="604836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Uitgangspunt voor calculati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Zowel opdrachgever als uitvoerder kunnen de kosten bereken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8" name="Picture 4" descr=""/>
          <p:cNvPicPr/>
          <p:nvPr/>
        </p:nvPicPr>
        <p:blipFill>
          <a:blip r:embed="rId1"/>
          <a:stretch/>
        </p:blipFill>
        <p:spPr>
          <a:xfrm>
            <a:off x="1116000" y="2637000"/>
            <a:ext cx="5543640" cy="41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Leidraad voor de uitvoering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Prestatiebeschrijving. Het resultaat tel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1" name="Picture 4" descr=""/>
          <p:cNvPicPr/>
          <p:nvPr/>
        </p:nvPicPr>
        <p:blipFill>
          <a:blip r:embed="rId1"/>
          <a:stretch/>
        </p:blipFill>
        <p:spPr>
          <a:xfrm>
            <a:off x="1403280" y="2297160"/>
            <a:ext cx="655488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Control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Zijn de afspraken nagekomen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4" name="Picture 4" descr=""/>
          <p:cNvPicPr/>
          <p:nvPr/>
        </p:nvPicPr>
        <p:blipFill>
          <a:blip r:embed="rId1"/>
          <a:stretch/>
        </p:blipFill>
        <p:spPr>
          <a:xfrm>
            <a:off x="0" y="2465280"/>
            <a:ext cx="4859280" cy="43927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6" descr=""/>
          <p:cNvPicPr/>
          <p:nvPr/>
        </p:nvPicPr>
        <p:blipFill>
          <a:blip r:embed="rId2"/>
          <a:stretch/>
        </p:blipFill>
        <p:spPr>
          <a:xfrm>
            <a:off x="4427640" y="2492280"/>
            <a:ext cx="4716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c4c3aa"/>
                </a:solidFill>
                <a:latin typeface="Arial"/>
              </a:rPr>
              <a:t>Waaraan moet een goed bestek voldoen?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Contractuele gelijkwaardighei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(verdeling van verantwoordelijkhede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Eenduidige besteksinforma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(geen verschil van mening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erichte informa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(duidelijkheid over te gebruiken materialen en toelaatbare afwijki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Kostenhomogenitei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(meer- of minderwerk voor afgesproken prijze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RAW- bestekken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RAW bestekken van de CRO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Ontworpen voor de grond- water- en wegenbou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Nu ook voor de groene ruim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eautomatiseer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De werkomschrijving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lle werkzaamheden voor het aanleggen of onderhouden van groen of een tu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In volgorde waarin ze worden uitgevoer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olgens een vast schem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an de hand van de inventarisa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Overzichtelij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4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7093080" cy="52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Standaardbepalingen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eest gebruikte bepali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astgelegd in een standaardwer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an toepassing bepa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fwijkingen apart benoem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oofdstuk 51 voor de groenvoorzien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Voorbeeld standaard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74" name="Picture 4" descr=""/>
          <p:cNvPicPr/>
          <p:nvPr/>
        </p:nvPicPr>
        <p:blipFill>
          <a:blip r:embed="rId1"/>
          <a:stretch/>
        </p:blipFill>
        <p:spPr>
          <a:xfrm>
            <a:off x="611280" y="888840"/>
            <a:ext cx="8208720" cy="58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c4c3aa"/>
                </a:solidFill>
                <a:latin typeface="Arial"/>
              </a:rPr>
              <a:t>inschrijvingsstaat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Samenvatting van het bestek voor calcula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7" name="Picture 4" descr=""/>
          <p:cNvPicPr/>
          <p:nvPr/>
        </p:nvPicPr>
        <p:blipFill>
          <a:blip r:embed="rId1"/>
          <a:stretch/>
        </p:blipFill>
        <p:spPr>
          <a:xfrm>
            <a:off x="971640" y="2017800"/>
            <a:ext cx="648000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Het overzich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e aan te leggen of te beheren oppervlak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e wijze van uitvoer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Te verwerken materia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e bereikbaarhei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e grondsoo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c4c3aa"/>
                </a:solidFill>
                <a:latin typeface="Arial"/>
              </a:rPr>
              <a:t>Beschrijving van de werkzaamheden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Indelen van de werkzaamhe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Omschrijven van de te verrichten werkzaamhe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oeveelheden van oppervlakten en materia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achines en werkmetho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Voorbeeld van een indeling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39" name="Picture 5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74167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Omschrijving per onderdeel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eschrijven van de werkzaamheden die nodig zij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eschrijven van de materialen die gebruikt wor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achines noemen die nodig zij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Werkmethoden beschrijv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4" descr=""/>
          <p:cNvPicPr/>
          <p:nvPr/>
        </p:nvPicPr>
        <p:blipFill>
          <a:blip r:embed="rId1"/>
          <a:stretch/>
        </p:blipFill>
        <p:spPr>
          <a:xfrm>
            <a:off x="0" y="1967040"/>
            <a:ext cx="9144000" cy="489096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Een voorbeeld: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Te bewerken oppervlakt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oeveelheden dode materia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oeveelheden levende materia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achinekeuzes (afhankelijk van de omstandighe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Werkmethoden of -volgor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20:18:07Z</dcterms:created>
  <dc:creator>Peter</dc:creator>
  <dc:description/>
  <dc:language>en-US</dc:language>
  <cp:lastModifiedBy>johan</cp:lastModifiedBy>
  <dcterms:modified xsi:type="dcterms:W3CDTF">2014-04-28T15:05:17Z</dcterms:modified>
  <cp:revision>6</cp:revision>
  <dc:subject/>
  <dc:title>Werkbeschrijvingen en bestekken</dc:title>
</cp:coreProperties>
</file>