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8F223-B54A-4C76-9F1D-902430BE6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EDE0A-94CC-4E68-B0BC-83B338964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F2B66-704D-4955-86D0-7B28C8B85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60FCA-308E-4062-A8E1-156238110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F0D4B-8760-4151-B24D-C8BBAEB29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F0B06-7AB0-4F99-A281-EBFD474C6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C6BE3-5000-473A-9447-8FD5DBB32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F8BCF-D131-447D-A08C-32088D759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38706-7A86-41B1-B3B7-84E35FF73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F8D8A-C133-4599-B7A9-0B7ED74C8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2B443-1057-4C52-85CD-7BF512DFA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FD52D-72F4-475C-B274-706CEF332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BB3FA-4A73-40C9-A51B-101FC91546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waliteit plantmateria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en op w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nten kweken uit za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a één groeijaar ("1+0") gerooi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erplanten, wederom gerooid. in het vakjargon "1+1". (2 jaar ou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pgeplant voor twee jaar (is dus 3 jaar oud), wordt dan gerooid, gesorteerd en verkocht, dit is de "1+2"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dering (internationaal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1203480"/>
            <a:ext cx="8604360" cy="56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1703520"/>
            <a:ext cx="9144000" cy="34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476360" y="0"/>
            <a:ext cx="5813280" cy="68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459080" y="0"/>
            <a:ext cx="5513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411200" y="0"/>
            <a:ext cx="5811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ste plant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 x 7 (P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 x 9 (P9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Liter (C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omen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2-14 (stamomtrek op 1m hoogt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4-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5T16:04:29Z</dcterms:created>
  <dc:creator>johan</dc:creator>
  <dc:description/>
  <dc:language>en-US</dc:language>
  <cp:lastModifiedBy>johan</cp:lastModifiedBy>
  <dcterms:modified xsi:type="dcterms:W3CDTF">2009-06-12T09:28:42Z</dcterms:modified>
  <cp:revision>4</cp:revision>
  <dc:subject/>
  <dc:title>Kwaliteit plantmateriaal</dc:title>
</cp:coreProperties>
</file>