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9021-7D90-4EDF-824D-78560BDD5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433A-9D15-4160-B797-E7E66124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5367-46AF-46C0-8EA2-08DF6EB4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09FF-AB00-46BA-95A4-A80D40154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FCC1-B794-4692-81D9-1FC3184E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67B9-F10C-4B4C-ADDC-2B0EF00C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EB23-7AFA-43B4-974C-F0F998E5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86DA-3334-4A6B-AF40-86F59EB8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94AC-0AAA-429E-97A3-E59C4BA0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3699-0EC7-4DC0-8ACE-B8F5FB9B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7C89-3FCA-4499-85EB-2DAAD404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2848-E377-48AF-B4E9-9D1FDB04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424C-E91A-4CD0-95B2-FBA5A607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A428-B1A3-4E65-9D0C-D9287E02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C02A-FE4D-4A95-A91C-3DD1BD66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E950-3B8B-436C-BB43-CC9448461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D30F-2B45-49CA-BA95-52C1A9F9D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53D4-8F59-4109-B26D-7D03AC3B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2E5A-8A7E-4410-AE2C-17D09485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1430-F25E-400F-8AFC-5C9EE5DC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8A94-B4F7-4935-A0A7-1D06A795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7DB8-274D-4680-9A09-689EBF00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1D00-2127-4DE4-907F-7265B256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EE8D-44C4-47AF-B4F1-B837EDDF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AD5A-FE29-45AF-B9AF-03F20D8FE4F2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9DA8-0237-4CC7-AFB7-08355A3A6EAC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Onderzoek van de bodem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at kun je onderzoek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bouw van het 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Grondsoor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aangewaa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aangespo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em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rivier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zee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vel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 die door wind zijn neergeleg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dek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dui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zandkorrels zijn afgeronde kiezelsteen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schuurpapier, je voelt de korrels duidelij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 weinig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 die door het water zijn afgez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ivier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rrels zijn scher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grof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 weinig of geen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leemhoudende 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em is een zeer fijne zandkorr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heeft eigenschappen als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houdt veel vocht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roogt op in harde bon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fijn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Kleigronde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r fijn verweerd gesteentemateria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elt tussen de vingers in vochtige toestand aan als een smeermid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udt veel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l plantenvoeden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Zavel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rrelgrootte ligt tussen zand en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oede vocht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rettig te bewerken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een smeermiddel met wat fijn zand er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tijd van organ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aagveen (wordt onder water gevorm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veen (wordt boven de waterspiegel gevormd) is bijna verdw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1:09:10Z</dcterms:created>
  <dc:creator>Peter</dc:creator>
  <dc:description/>
  <dc:language>en-US</dc:language>
  <cp:lastModifiedBy>Peter</cp:lastModifiedBy>
  <dcterms:modified xsi:type="dcterms:W3CDTF">2008-11-20T16:57:56Z</dcterms:modified>
  <cp:revision>5</cp:revision>
  <dc:subject/>
  <dc:title>Werkvoorbereiding</dc:title>
</cp:coreProperties>
</file>