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DED-466B-41AC-BD4C-8A5F638E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B2F-C9DC-48C4-9B9F-178BEFF8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C8A-C227-44A5-8E70-AA7423A0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88C-94C0-4945-B4E9-6FBCAC36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2B58-2C9C-42C2-98D1-F89E3408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EEDF-0660-445B-A3C7-25DE7626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7118-B7AF-48B0-841B-604C1D81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1009-C1DC-491E-A952-4C06B727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F1D0-519B-4400-A400-71A8CE78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F6A2-14DC-44DF-9A8B-C1FF862B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D9C3-92C0-4D4F-A18A-6E0CE157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F9B6-49D1-42B9-BEF6-E38E93B7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3828-2A85-42D9-8B32-07AEFE66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E57F-C360-4AE9-80B6-5FABE5D7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8902-5799-438E-8083-8EEF4242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D4D0-5525-4FC1-A2C8-91BE10A3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0830-A21B-4574-89A8-20B7F76B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301-F8B4-43E3-B9FA-CC98040C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3E0-94D4-41C4-92F3-4B8456D2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A907-C89F-48E5-8060-F182FC2E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B10-7090-43DF-833E-DA5ED905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500-5E4B-488D-8806-40A9ABFB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9BB-3B41-4DF3-87D9-A905046E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4E0-98DF-42BE-A77E-0B42EB4A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8A17-55B6-4652-A16A-C8E3D50C0BBC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362A-DB02-4EA5-AE9C-1E47BC7D7C58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SPLANTSO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Inrichting en beheer van landschappelijke beplantigsvor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ge en lage struiken met aan de rand bom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733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aan de westkant en struiken aan de oostk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middenin en daaromheen struik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03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 na het inplanten het behe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rst dicht op elkaar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derdrukking van het onkr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en snelle sluiting van het gew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der werk in de eerste ja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groot worden de plant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2 tot 8 meter hoog en i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omen 15 tot 25 meter hoo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 kroon meestal 8/10 van de hoog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us later nemen ze meer plaats in dan tijdens het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eren is d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afstandvergroting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-aantalreduc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iteindelijk komen de planten zóver van elkaar dat ze individueel kunnen uitgroei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at is veel werk! En vakwer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bom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og en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ger da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zijn snelgroeiende en langzaamgroeiende bomen (en strui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der bomen groeien (bijna) ge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afgezaagde boom wordt altijd weer een (meerstammige) bo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975640" cy="369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leine bomen worden gro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der bomen groeien geen struike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9752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struiken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worden ongeveer even hoog als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kan men niet door snoeien klein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ij gewas-sluiting: geen onkruidgro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wordt vaak geplant op 1 x 1 tot 1,5 x 1,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it is 10.000 tot 444 planten per h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ifiniti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happelijke bepla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nnen en buiten stedelijk geb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stal inheemse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ngesteld uit plantsoen wat vaak in bundels of bossen wordt verhand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n bomen en/of struiken beva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men en struik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508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het plant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 meeste struiken worden gem. 6 m hoog en b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ullen dan dus 280 stuks overblijv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j het inplanten tot de rand gaan de struiken “overkoken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 schone grond groeit iedere plant sne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t moet je doen zonder beheerspla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2708280"/>
            <a:ext cx="5894640" cy="3191040"/>
            <a:chOff x="1763640" y="2708280"/>
            <a:chExt cx="5894640" cy="31910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763640" y="2708280"/>
              <a:ext cx="58946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1763640" y="2708280"/>
              <a:ext cx="5894640" cy="319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el voorkomende beheersfou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t ongelijke groeiritme van “blijvers en wijke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groeien het har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worden vaak blij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1000" y="2362320"/>
            <a:ext cx="4383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et dunnen en wat d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ten groeien met elkaar in de hoog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en breedtegro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echte ontwikkeling van de plan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nieuw beginnen is dan het be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483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oeien of dunn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klein houden van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eindeloos werk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ruimte maken voor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eindi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e afplantrij aan de r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2314440"/>
            <a:ext cx="5977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“overkokende” bepla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foto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834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 probleem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61000" y="2620800"/>
            <a:ext cx="4383000" cy="372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3564000" y="4652640"/>
            <a:ext cx="143964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oplossing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229200" cy="450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40560" y="2460600"/>
            <a:ext cx="309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ats de bom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 mogelij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ast de  struik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komt het tot sta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werper maakt een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ken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chrijv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ma’s en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stelt de functie v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bepaalt daarbij de beplantingsv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maakt daarvoor een beplanting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hij maakt een beheer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2370240"/>
            <a:ext cx="5905800" cy="448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voorbeeld van een tek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toelichting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andschappelijke beplanting en streekeigen inrichting van een erf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hagen, hoogstamfruitbomen, laanbomen het beste geplant kunnen wo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ar bijvoorbeeld een singel, moestuin, vaste planten of boomgaard het best tot zijn recht kom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Functi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armee wordt bedoeld waarvoor de beplanting dient, bij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landschappelijk element in een p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gwerken van een lelijk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keersgelei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urontwikk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vang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beplantingsv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hoge srt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een enkele boom erbo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bomen, een bos d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alleen bomen langs de r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mengsel van bomen 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plantings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struiken, hagen, hoogstamfruitbomen, laanbomen het beste geplant kunnen wo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ok wordt hier de plantafstand vermeld. Bij rijafstand 2 meter, in de rij 1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ak is hier een beplantingstekening voor nodi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leen struik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6697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00:50Z</dcterms:created>
  <dc:creator>Peter</dc:creator>
  <dc:description/>
  <dc:language>en-US</dc:language>
  <cp:lastModifiedBy>Administrator</cp:lastModifiedBy>
  <dcterms:modified xsi:type="dcterms:W3CDTF">2009-01-29T20:18:52Z</dcterms:modified>
  <cp:revision>10</cp:revision>
  <dc:subject/>
  <dc:title>BOSPLANTSOEN</dc:title>
</cp:coreProperties>
</file>