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EDB0-B518-42D9-BEEE-C7CA926F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E474-B18D-404F-989D-4E3AE3D4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0846-95A3-4B52-9621-F29F77E2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384-88D7-47AF-B0D8-74EF076E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E348-BC01-4E4E-8371-C73FDBF0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09D2-3A0F-4F37-B472-C364CF52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CD91-4149-4A5B-8816-093AB4CF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BE72-57A8-49B6-BB9C-62931994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1111-B54D-4D44-BBFE-DCC26895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5B68-ABC6-42AE-9D04-A4576956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454E-2970-4E94-868E-34599E64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DEB1-9E72-4DB2-A028-974ED430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DF57-F8AB-4624-B5FA-E8295BDA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4F07-7F80-4880-9B9D-21C4D6AF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B794-0C5C-4A06-BD38-D966CA4B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2B33-B911-4A09-A1AD-194B12CB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4AB2-1D2A-4534-AF42-E59DFFF4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281-125B-44A9-9AFD-72816FAB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D415-A4D7-4DB3-BF86-1AEADCEC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1F5-9C20-4C64-A5FE-EF8513A0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51C0-B74D-4BE2-931F-C049C7A0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DFE-EA05-4E8F-B693-0F1E37B5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9697-D147-45E1-B2AC-F762D452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FD1-0E4E-474C-86A1-5BB4D0C6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12D5-0EED-45BB-99AA-3A4D10C3EB6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D4D5-14A5-419D-A2DD-9656FAB50D6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Bodem en bemes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kelvoudige kunst-mestof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kunst-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olog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676944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59054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is nu het best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t hangt af hoe je het toepa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ke eenzijdige bemesting is onvolle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mbinatie van organische stoffen en mineralen is meestal het bes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 voor het bodem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ineralen voor de vo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stoffen (van de chemische industrie 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van natuurlijk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ikstofmeststoffen 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osfaatmeststoffen (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limeststoffen (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gnesiummeststoffen (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met spore-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meststoffen (N+P+K+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voudig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amensgesteld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28600" y="2576520"/>
            <a:ext cx="2695680" cy="2695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602320" y="1719360"/>
            <a:ext cx="2128680" cy="212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24360" y="3716280"/>
            <a:ext cx="14018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2007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dierlijk of plantaardig 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composteerd huisvu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vat vaak veel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lage gehaltes aan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een sterk bacterieleven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werk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0" b="6044"/>
          <a:stretch/>
        </p:blipFill>
        <p:spPr>
          <a:xfrm>
            <a:off x="468360" y="620640"/>
            <a:ext cx="741672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Meststoffen van natuurlijke oorspro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wonnen uit zee (alg, kora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fossiele oorsprong (guan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droogde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valproducten van slachterij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stproducten uit de indust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ak gemakkelijk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voeding van plant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vengronds: vorming van suikers door zonlicht (assimilati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eneden (buit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gronds: water met daarin mineralen opgelo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oven (binn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pstroom onderbroken: afsterving van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24160" y="538200"/>
            <a:ext cx="62956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m welke mineralen gaat he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grot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Fosfaat (Phosfaat) (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lium (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agnesium (M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avel 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klein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ndere scheikundige elementen zo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o, Ni, Si, Ba enz. (de zgn spore-element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arin zitten deze voedings eleme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In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lmest, compost, slib, champost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In mineralen van biolog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wier, koraal, vogelmest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. In kunstmatig gefabriceer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684036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weet je wat er nodig 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worden onderzocht in het labarotor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incent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demkundige labor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co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onderzoek -&gt; adv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8-10-31T23:07:36Z</dcterms:modified>
  <cp:revision>8</cp:revision>
  <dc:subject/>
  <dc:title>Bodem en groen</dc:title>
</cp:coreProperties>
</file>