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53C-A229-4604-B218-BF048F37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F49-2F86-4DB1-BF78-1F1F61BA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9B72-D6CF-4526-9344-0A94600C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5E9-85B2-44E7-B1B8-A3A1EAB0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5D35-C6CC-4082-8756-537E7B87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6B65-74BD-423F-951E-688D5118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723E-66B4-4A31-8294-5633C97C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4D3A-96C3-4B0D-BFCF-F8B6A982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8F24-B4A6-411E-B498-693B08A3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41EE-8912-4B42-B2BF-9D73A0EE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52E5-E84B-4604-A8C7-38FB6AF3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D564-CDA5-4285-A9AC-330AE412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ED2B-F21E-42C1-A5D2-7E3A6911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1371-B224-4C49-87FD-A1651643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67DF-6557-4CA8-92FD-D35491A1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4BF7-483D-4A7B-9ED5-C4B3D856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35C0-492A-4EFD-915D-86A704B8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B7E-E72E-497D-A003-DBEFB20A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D3B-18B3-440A-B597-AA3EBE1E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5DF-DCB1-431B-B0B6-B596FBF0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020-7E1F-4D54-A1E1-DE1AF413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FD6-62F9-4660-9512-B7570FE2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333-D526-42F6-8689-672DD893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6B8-97D7-4B83-9A5B-5B4DB2D6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0C24-55EE-4548-B20E-5AD1721472B6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80EA-7BC7-4213-86A2-3842707D4E8F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OSPLANTSO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Inrichting en beheer van landschappelijke beplantigsvorm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ge en lage struiken met aan de rand bom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733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aan de westkant en struiken aan de oostka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464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middenin en daaromheen struik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403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 na het inplanten het behe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rst dicht op elkaar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derdrukking van het onkru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en snelle sluiting van het gew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der werk in de eerste ja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groot worden de plant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2 tot 8 meter hoog en i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omen 15 tot 25 meter hoog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 kroon meestal 8/10 van de hoog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Dus later nemen ze meer plaats in dan tijdens het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eren is d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afstandvergroting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-aantalreduc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iteindelijk komen de planten zóver van elkaar dat ze individueel kunnen uitgroei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at is veel werk! En vakwer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bom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og en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ger da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zijn snelgroeiende en langzaamgroeiende bomen (en struik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der bomen groeien (bijna) ge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afgezaagde boom wordt altijd weer een (meerstammige) bo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975640" cy="369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leine bomen worden groo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nder bomen groeien geen struike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9752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struiken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worden ongeveer even hoog als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kan men niet door snoeien klein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ij gewas-sluiting: geen onkruidgro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wordt vaak geplant op 1 x 1 tot 1,5 x 1,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it is 10.000 tot 444 planten per h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ifiniti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schappelijke bepla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nnen en buiten stedelijk geb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estal inheemse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ngesteld uit plantsoen wat vaak in bundels of bossen wordt verhand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an bomen en/of struiken beva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men en struik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5087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het plant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 meeste struiken worden gem. 6 m hoog en b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ullen dan dus 280 stuks overblijv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j het inplanten tot de rand gaan de struiken “overkoken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 schone grond groeit iedere plant sne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t moet je doen zonder beheerspla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2708280"/>
            <a:ext cx="5894640" cy="3191040"/>
            <a:chOff x="1763640" y="2708280"/>
            <a:chExt cx="5894640" cy="31910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763640" y="2708280"/>
              <a:ext cx="5894640" cy="31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1763640" y="2708280"/>
              <a:ext cx="5894640" cy="319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el voorkomende beheersfou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t ongelijke groeiritme van “blijvers en wijke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groeien het har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worden vaak blij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61000" y="2362320"/>
            <a:ext cx="4383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iet dunnen en wat d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ten groeien met elkaar in de hoog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en breedtegro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echte ontwikkeling van de plan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nieuw beginnen is dan het be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483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oeien of dunn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klein houden van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eindeloos werk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ruimte maken voor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eindi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e afplantrij aan de r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2314440"/>
            <a:ext cx="59770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“overkokende” bepla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foto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8341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 probleem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755800" cy="4508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61000" y="2620800"/>
            <a:ext cx="4383000" cy="372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3564000" y="4652640"/>
            <a:ext cx="143964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oplossing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229200" cy="450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40560" y="2460600"/>
            <a:ext cx="309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ats de bom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 mogelij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ast de  struik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komt het tot sta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werper maakt een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ken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chrijv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ema’s en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stelt de functie v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bepaalt daarbij de beplantingsv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maakt daarvoor een beplanting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hij maakt een beheer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2370240"/>
            <a:ext cx="5905800" cy="448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voorbeeld van een tek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toelichting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andschappelijke beplanting en streekeigen inrichting van een erf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hagen, hoogstamfruitbomen, laanbomen het beste geplant kunnen word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ar bijvoorbeeld een singel, moestuin, vaste planten of boomgaard het best tot zijn recht kom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Functi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armee wordt bedoeld waarvoor de beplanting dient, bijv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landschappelijk element in een p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gwerken van een lelijk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keersgelei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urontwikk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vang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beplantingsv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hoge srt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een enkele boom erbov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bomen, een bos d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alleen bomen langs de r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mengsel van bomen 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plantings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struiken, hagen, hoogstamfruitbomen, laanbomen het beste geplant kunnen wo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ok wordt hier de plantafstand vermeld. Bij rijafstand 2 meter, in de rij 1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ak is hier een beplantingstekening voor nodi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leen struik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6697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00:50Z</dcterms:created>
  <dc:creator>Peter</dc:creator>
  <dc:description/>
  <dc:language>en-US</dc:language>
  <cp:lastModifiedBy>Administrator</cp:lastModifiedBy>
  <dcterms:modified xsi:type="dcterms:W3CDTF">2009-01-29T20:18:52Z</dcterms:modified>
  <cp:revision>10</cp:revision>
  <dc:subject/>
  <dc:title>BOSPLANTSOEN</dc:title>
</cp:coreProperties>
</file>