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FA50-D5C2-47AA-989B-5A719C4DC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572E-5204-4979-90C5-AB496B70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29EE-9E26-4A3C-BEA2-366853CFD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6133-F46D-4B33-A77A-966A56B43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0C57-A7D0-4232-8493-8D118E36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387D-43D2-466F-85D4-9E031F83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98A3-F2D5-4DCE-A04B-BE367C1C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5692-2040-484D-BB22-D6ADD817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A733-FC99-49A9-99AE-3DD471FB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F37A-09C3-454A-81BA-CB0F1787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C888-E9B3-463F-A8F7-FA31BFD5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A9B6-5B1B-407B-B556-7D82B89A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C154-EF73-49A5-99B8-875E35DB4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waliteit plantmateria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en op w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en kweken uit za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één groeijaar ("1+0") gero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planten, wederom gerooid. in het vakjargon "1+1". (2 jaar 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geplant voor twee jaar (is dus 3 jaar oud), wordt dan gerooid, gesorteerd en verkocht, dit is de "1+2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ring (internationa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203480"/>
            <a:ext cx="860436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703520"/>
            <a:ext cx="91440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81328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59080" y="0"/>
            <a:ext cx="551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1120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x 7 (P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x 9 (P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Liter (C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m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2-14 (stamomtrek op 1m hoog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4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6:04:29Z</dcterms:created>
  <dc:creator>johan</dc:creator>
  <dc:description/>
  <dc:language>en-US</dc:language>
  <cp:lastModifiedBy>johan</cp:lastModifiedBy>
  <dcterms:modified xsi:type="dcterms:W3CDTF">2009-06-12T09:28:42Z</dcterms:modified>
  <cp:revision>4</cp:revision>
  <dc:subject/>
  <dc:title>Kwaliteit plantmateriaal</dc:title>
</cp:coreProperties>
</file>