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E162-6A5F-4E4A-AA77-34B892D09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E91A-B69E-49B7-8F73-447A3F5B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F254-0662-4EC2-ABAA-C71BE7226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44E9-A4EC-4D3C-BE49-458083EB9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AC985-2A82-4E21-B802-BF2A8FD69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03EDD-9CB0-4706-B6E7-F7BE1769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DBCE1-80C6-48A9-BBDD-63472EE8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66AB-0E70-48D2-846E-D9F0603E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4140-5E23-4DEB-8B7E-D37C6B79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D088-2B6A-46B8-ABFE-EFBB95E6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2822-8358-4112-8629-F6CA641A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49EF-5F52-4F66-9067-D4A81CCC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B306-1A80-4E35-935E-67B85C2B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5529F-1AD8-417B-846D-201DA074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764A-46CE-4166-81F9-DBFAF1B5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6A0A7-79EC-4F15-A640-7BEF4EB83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A803-0549-4C2A-A910-6029EC2C6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6172-7E28-434F-ADE3-80B7E527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D13A-B9AB-48EF-91ED-73C8AE75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9A8F-4483-4C4F-8A2E-958CB746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2218-5F81-46B0-8B52-74AC7FCB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C28A-2EAE-4C10-A75E-D0B1DA1F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C505-BDA5-4540-8AA6-008833D4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C7DA-88FE-41A7-ACF9-2628589F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3645-E97D-4AD5-AF8C-DF7C4AC11FE9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63B8-8FF3-4CF1-8F46-88BEB4FF9363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6633"/>
                </a:solidFill>
                <a:latin typeface="Garamond"/>
              </a:rPr>
              <a:t>Onderzoek van de bodem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Wat kun je onderzoek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pbouw van het prof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er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Grondsoor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aangewaa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aangespo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em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rivier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zee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vel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 die door wind zijn neergeleg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dek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dui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zandkorrels zijn afgeronde kiezelsteen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schuurpapier, je voelt de korrels duidelij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n weinig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 die door het water zijn afgez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ivier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e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korrels zijn scher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grof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n weinig of geen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leemhoudende 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em is een zeer fijne zandkorr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heeft eigenschappen als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houdt veel vocht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roogt op in harde bon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fijn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Kleigronde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er fijn verweerd gesteentemateria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elt tussen de vingers in vochtige toestand aan als een smeermid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udt veel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l plantenvoedende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Zavel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korrelgrootte ligt tussen zand en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oede vocht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rettig te bewerken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een smeermiddel met wat fijn zand er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tijd van organisch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aagveen (wordt onder water gevorm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veen (wordt boven de waterspiegel gevormd) is bijna verdw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21:09:10Z</dcterms:created>
  <dc:creator>Peter</dc:creator>
  <dc:description/>
  <dc:language>en-US</dc:language>
  <cp:lastModifiedBy>Peter</cp:lastModifiedBy>
  <dcterms:modified xsi:type="dcterms:W3CDTF">2008-11-20T16:57:56Z</dcterms:modified>
  <cp:revision>5</cp:revision>
  <dc:subject/>
  <dc:title>Werkvoorbereiding</dc:title>
</cp:coreProperties>
</file>