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6E82-DD93-480F-868F-93445C66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4FD-C9EF-4EFE-AE37-835DBD0C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20F3-A09B-402B-86A3-36449FA0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9E12-22D3-43C6-8D05-BA58200A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BD5B-C172-4E58-8379-539EFF8C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0B62-E20A-4E01-B588-A488FA7E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F7BF-66B9-432E-8FD4-36C427BB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B89F-93B3-4700-901B-6CCBB384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FC44-0212-44BB-8360-03F9A88B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1026-307A-4E57-AB58-BEBA926D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967A-5B92-4CD4-AD3A-E18AE3E2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826A-9275-4D72-AEE7-8C9D7F5E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FB5F-82D6-482F-A062-5BD6E947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F181-3B29-43B2-8FBD-B8C3E83A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6D96-F429-40C5-8915-2703FC4F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84EE-6ECE-4397-823F-5DC5AE3D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7E6C-A757-4D2E-8B4B-1443958B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6D36-27E3-4D6F-8AD7-34E2C9F1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9718-734D-460B-9A2C-C5FF4385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E17E-6F3A-4949-A017-00A38BC0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3589-4215-40C9-8D4E-2DBB2259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7D5E-D3D4-461E-BC2B-EC25B73B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6441-C498-48E1-96AD-C23CDC7A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BCBB-7C67-4567-BD7F-5E764A69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7E60-668E-4C5D-A90D-9E93F99B0C1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7411-9CE4-40D8-AF8F-3D0F69247B3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meten van een groot terre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1557360"/>
            <a:ext cx="2519280" cy="2376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723960"/>
            <a:ext cx="3240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alle omtreksma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 een diagon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itwerk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op schaal 1: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eerst de en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daarna de ander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 het niet past: opnieuw me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16360" y="3357360"/>
            <a:ext cx="100800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787640" y="1916280"/>
            <a:ext cx="36036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a nu aan het 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eet het voormalige maisveld op en teken het uit op pap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5:33:35Z</dcterms:created>
  <dc:creator>default</dc:creator>
  <dc:description/>
  <dc:language>en-US</dc:language>
  <cp:lastModifiedBy>default</cp:lastModifiedBy>
  <dcterms:modified xsi:type="dcterms:W3CDTF">2009-09-15T09:29:16Z</dcterms:modified>
  <cp:revision>4</cp:revision>
  <dc:subject/>
  <dc:title>Inmeten van een groot terrein</dc:title>
</cp:coreProperties>
</file>