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E6F-8A47-4230-936B-DCE028D0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30F2-FAF8-4A0B-A9BA-99E22DC8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B4FD-87CC-4B10-A89B-385B68A6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2E0B-AF7F-4494-A9EB-3A65A367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1057-1E8F-4C90-A323-757C1786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9FD8-9E13-49D5-A1FA-DF4EC222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9C00-C810-4CE2-B2FB-3A246A2B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8A07-8538-446D-8D02-049E9769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69BD-DA9C-4BB5-9578-908F2696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22AD-EB39-4DF9-90E1-B66FA42E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F2A1-3A42-44F4-B11F-2466A7A8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C099-A178-4C85-A153-027BAE6A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C338-B669-41A8-8E48-1DB43D14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5036-FD08-4CB5-AC15-60465375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4FB2-88EF-4672-927E-277E37AA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5A38-C723-4339-AB67-D4033A2C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47DC-4DD5-4CC9-AA6B-E01B2B9F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7B75-41FF-44D7-8ABA-DE67BB01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222-793D-4360-9EFF-2D9F601B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D8F-C0AF-452C-A1BE-78763C8E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643-B1C1-4712-B39C-99007C2D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7AD9-6501-465A-9CEE-3488538E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1F4-8053-470A-9039-B2DD7822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A5F-BF64-44ED-BB9A-776B5461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B066-AA4E-44AB-BC2C-ED932707A1C3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3EBC-07AB-4AF8-8298-0AAE2342F4AC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Werkbeschrijvingen en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la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en misverstanden met de kl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rekenen van de kosten (offert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heid voor het persone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orkomen van misverst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ste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juridisch docu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communicati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itgangspunt voor  calculatie en ra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idraad voor de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Juridisch documen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 over rechten en plich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187280" y="2232000"/>
            <a:ext cx="5185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mmunicatiemidd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ussen opdrachtgever en uitvoer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48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Uitgangspunt voor calculati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owel opdrachgever als uitvoerder kunnen de kosten bereke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554364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Leidraad voor de uitvoer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. Het resultaat t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1403280" y="2297160"/>
            <a:ext cx="6554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ntrol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ijn de afspraken nagekom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2465280"/>
            <a:ext cx="4859280" cy="4392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Waaraan moet een goed bestek voldoen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actuele gelijkwaard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verdeling van verantwoordelijkhed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duidige besteks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geen verschil van men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richt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duidelijkheid over te gebruiken materialen en toelaatbare afwijk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stenhomogenit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meer- of minderwerk voor afgesproken prijz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RAW-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AW bestekken van de CR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tworpen voor de grond- water- en weg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u ook voor de groene ruim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automatise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De werkomschrijv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le werkzaamheden voor het aanleggen of onderhouden van groen of een tu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 volgorde waarin ze worden uitgevo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gens een vast sch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 de hand van de inventaris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verzichtelij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930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Standaardbepaling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 gebruikte bepal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stgelegd in een standaardwe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n toepassing bep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fwijkingen apart beno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ofdstuk 51 voor de groenvoorzie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standaar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611280" y="888840"/>
            <a:ext cx="8208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inschrijvingsstaa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amenvatting van het bestek voor calc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971640" y="2017800"/>
            <a:ext cx="64800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overzich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aan te leggen of te beheren oppervla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wijze van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verwerk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bereikbaar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gronds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Beschrijving van de werkzaamheden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delen van de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schrijven van de te verrichten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van oppervlakten 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en werkmetho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van een indel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Omschrijving per onderde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werkzaamhed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materialen die gebruikt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noem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beschrij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Een voorbeeld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bewerken oppervlak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do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leven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keuzes (afhankelijk van de omstandig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of -volgor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0:18:07Z</dcterms:created>
  <dc:creator>Peter</dc:creator>
  <dc:description/>
  <dc:language>en-US</dc:language>
  <cp:lastModifiedBy>johan</cp:lastModifiedBy>
  <dcterms:modified xsi:type="dcterms:W3CDTF">2014-04-28T15:05:17Z</dcterms:modified>
  <cp:revision>6</cp:revision>
  <dc:subject/>
  <dc:title>Werkbeschrijvingen en bestekken</dc:title>
</cp:coreProperties>
</file>