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8AEA-A03F-4F44-BBDE-664C93406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A60D-8A57-421D-9442-BA6489072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922E-63D5-4152-9791-7BB3ECFC2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4892-3E9F-48BB-8A4C-6DFCBC8E7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87CB-7C3D-4C31-A63B-316A990CF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E807-C729-4626-B249-DEBAD2993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BED5-CC36-4E81-B68F-9D6A355EF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1F00-FF5E-4D11-B47C-13F0065A9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98B1-49BF-447D-AA83-40922EFC2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9CEB-F4AF-48BA-B266-55001887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D604-3462-4039-853A-53E37B8A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A39E-8499-4542-B291-5AE6EE59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899CD-79F0-4F19-8198-F80AE1646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waliteit plantmateria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en op w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en kweken uit za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 één groeijaar ("1+0") geroo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rplanten, wederom gerooid. in het vakjargon "1+1". (2 jaar ou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geplant voor twee jaar (is dus 3 jaar oud), wordt dan gerooid, gesorteerd en verkocht, dit is de "1+2"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ering (internationaa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203480"/>
            <a:ext cx="8604360" cy="56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703520"/>
            <a:ext cx="914400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581328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59080" y="0"/>
            <a:ext cx="5513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11200" y="0"/>
            <a:ext cx="581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ste 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 x 7 (P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 x 9 (P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Liter (C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me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2-14 (stamomtrek op 1m hoog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4-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6:04:29Z</dcterms:created>
  <dc:creator>johan</dc:creator>
  <dc:description/>
  <dc:language>en-US</dc:language>
  <cp:lastModifiedBy>johan</cp:lastModifiedBy>
  <dcterms:modified xsi:type="dcterms:W3CDTF">2009-06-12T09:28:42Z</dcterms:modified>
  <cp:revision>4</cp:revision>
  <dc:subject/>
  <dc:title>Kwaliteit plantmateriaal</dc:title>
</cp:coreProperties>
</file>