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A711-F49F-48AA-A0E7-357AE401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27FB-1522-4A2D-A636-5B0E6714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31FB-9B59-418D-9163-03AD8189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5155-D2AF-47AA-BBF1-EE80BB23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4284-636C-490C-B1F9-99D5BAD4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BB75-6BFB-4973-B056-1885F121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A5B0-85F5-4DAA-BA74-158AE1D8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53A0-386F-4E0A-A07F-53D7611E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ACB8-701E-4D31-AAEC-CC64D37F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B24-74E4-4281-AC77-E8351E64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92E9-D2F6-468A-9220-DB33DE88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A073-A476-4082-AB96-80636266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7FFA-9E6F-42D7-8A46-FE25CD2DC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aliteit plantmateri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n op w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en kweken uit z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één groeijaar ("1+0") gero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planten, wederom gerooid. in het vakjargon "1+1". (2 jaar 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geplant voor twee jaar (is dus 3 jaar oud), wordt dan gerooid, gesorteerd en verkocht, dit is de "1+2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ring (internationa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03480"/>
            <a:ext cx="860436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03520"/>
            <a:ext cx="91440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81328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59080" y="0"/>
            <a:ext cx="55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1120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x 7 (P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x 9 (P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Liter (C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m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2-14 (stamomtrek op 1m hoog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4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6:04:29Z</dcterms:created>
  <dc:creator>johan</dc:creator>
  <dc:description/>
  <dc:language>en-US</dc:language>
  <cp:lastModifiedBy>johan</cp:lastModifiedBy>
  <dcterms:modified xsi:type="dcterms:W3CDTF">2009-06-12T09:28:42Z</dcterms:modified>
  <cp:revision>4</cp:revision>
  <dc:subject/>
  <dc:title>Kwaliteit plantmateriaal</dc:title>
</cp:coreProperties>
</file>