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13DB-7F21-4333-9EC9-C888AFEE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C7C4-2372-45CB-9178-983C881A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3FA-BD87-4B6D-B2F2-EFFC235C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92BC-6302-4FC6-AF92-F7914E80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CDE-7A50-4CBB-B7A5-2EAEFC82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2DFD-89E7-402A-B87A-05F278DE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BB9A-9A61-4F87-BC57-5EA6ED4B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548F-EEB1-453D-AE04-E2BFB8DB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E49-F0C7-44E2-A95F-5B91E0DC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D69C-3525-4C2E-BE8F-31691C70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60F6-539E-4E37-B4A9-BA9D8836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086-DD51-4037-BEE2-15DC6359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479D-DE88-4A95-9A08-D44F91AAD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orbereiding Tu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ing maken zie 3.2 van het digitale bo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57920" y="620280"/>
            <a:ext cx="23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d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roten is du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ijst van objectgegevens van de planinventarisati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object de werkzaamheden uit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issen hoe je het gaat aanp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welke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oeveel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et begrotingsformulier zetten en op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niet vergeten een nota st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Het Groene 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3253" t="14943" r="9742" b="13575"/>
          <a:stretch/>
        </p:blipFill>
        <p:spPr>
          <a:xfrm>
            <a:off x="0" y="141300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ind je het groene boe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32000" y="4221000"/>
            <a:ext cx="9144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508640"/>
            <a:ext cx="17269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56720" cy="66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het Begrotingsformulier, zie bo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ind je het begrotingsformu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21474600">
            <a:off x="395280" y="4437000"/>
            <a:ext cx="158436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4365720"/>
            <a:ext cx="20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pak je dit a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m je lijst met ob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al wat er voor moet worden ged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daarvoor het Groene 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benodig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t dit in je begrotings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gebruik je het groene bo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udeer eerst de inhoudsop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opruim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grondwerk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klinkerverharding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ek gevon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hier hoe lang je doet over een eenheid (bijv. een m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ook hoeveel je doet in bijv. een uur (bijv. aantal m2 per 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t met hoeveel personen is ger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t welke werktuigen is gerek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oorkom je dat je iets verg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5139" t="15755" r="12141" b="9810"/>
          <a:stretch/>
        </p:blipFill>
        <p:spPr>
          <a:xfrm>
            <a:off x="971640" y="1197000"/>
            <a:ext cx="709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9:29:52Z</dcterms:created>
  <dc:creator>Administrator</dc:creator>
  <dc:description/>
  <dc:language>en-US</dc:language>
  <cp:lastModifiedBy>Administrator</cp:lastModifiedBy>
  <dcterms:modified xsi:type="dcterms:W3CDTF">2010-10-21T20:05:03Z</dcterms:modified>
  <cp:revision>3</cp:revision>
  <dc:subject/>
  <dc:title>Werkvoorbereiding Tuinen</dc:title>
</cp:coreProperties>
</file>