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8BB-0862-4361-BE98-4CCA45EB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8CB-F70B-406F-80C2-6070B3BF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67C-A524-4026-B035-6795D05C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BEB-CEC8-4C11-8FBF-D92568C5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9467-73CB-45D9-8526-1ED830CF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E69A-080D-4F79-AD12-8F80B343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89AB-1601-473F-A9AF-3128435D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8F1A-67C8-4DA3-A422-F7DC8CFA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DF5A-0E87-4A2C-9C02-CA63BFE3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0D30-6F44-4DF2-A8FF-40BF1B86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9D75-EE19-4783-970D-9F747087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3FD-A114-4CC7-A4EC-1A233894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36B8-1980-4113-91A5-B516563F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8E58-C975-451D-9962-BFDD3AFF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724A-C7F5-4A95-88CD-EE6A049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6AD6-B1B8-4DC0-B779-BFC41864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6D36-D832-4EE0-920A-A3A9C308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625-374B-4072-A96A-13F0DC82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7F0-372D-4718-ACC1-2DB848B5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B9A-EEA1-4F16-9184-5A726C67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919-20E7-41BE-B94D-70FCF7C0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7D7-2538-4C81-AAC4-5F4D6696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CE5-CA2D-4272-AEDD-8559DEAE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089-EC95-4D16-8D82-861BF19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F5F3-B515-4173-90E2-97BF6075923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F23D-44AE-4BCE-9986-29397AFA9A3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jaarsziek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sulfaat of 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laptop</cp:lastModifiedBy>
  <dcterms:modified xsi:type="dcterms:W3CDTF">2008-01-29T10:52:19Z</dcterms:modified>
  <cp:revision>30</cp:revision>
  <dc:subject/>
  <dc:title>Schimmelziekten op de baan</dc:title>
</cp:coreProperties>
</file>