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883-9DA4-44D5-8F7D-8BDD8E3A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314-E9FA-4DFD-9B30-0FCD543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BD8-0CE2-4CE3-9421-7ED4AD5E8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D4E-7884-4383-ADB2-06AE080B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DB8-E885-4B2B-9A64-E2E6504F3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DD11-8CC3-4BEA-BA15-5D2C759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ABC4-EE29-4E7B-A91D-E5DAD67A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6234-EDCB-4E10-8FF6-908D9AA1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C2DA-B0E9-490F-B5B5-E5D866C6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4D7-130B-482E-9645-F2A99517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B424-DE0B-4386-92F6-AA840A02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10D-0B4B-4B67-8BD8-A5FE6D5D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604B-6A0D-4D24-A979-3F6FDC6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3BC8-ACA3-455F-9D1E-CD4E005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317B-0908-440D-9634-9859C642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9765-3F9A-42CD-9B79-E2F5E9FC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65FB-EE7C-4E4A-B0E3-AB33D366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900-EF9E-43BB-AE1E-E2BDEB21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54AA-639B-4D07-B3CB-2E683EC2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F15-0689-41F0-A685-F27F8E9A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042-58BF-46CA-B3E1-A545F39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ECC-BC33-4388-9400-932EEC1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21D-FFB9-440F-B4AF-5141FD9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737-353A-4185-B952-19079D4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CEDE-3AEB-4AA6-A736-13873F8DCC9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7F7C-100B-4913-BC93-F9DE7C1EBC8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jaarsziek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sulfaat of 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50920" y="1341360"/>
          <a:ext cx="8424720" cy="47926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laptop</cp:lastModifiedBy>
  <dcterms:modified xsi:type="dcterms:W3CDTF">2008-01-29T10:52:19Z</dcterms:modified>
  <cp:revision>30</cp:revision>
  <dc:subject/>
  <dc:title>Schimmelziekten op de baan</dc:title>
</cp:coreProperties>
</file>