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3C3-B2A3-43F9-BDF4-3D98D06B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5BB-BA65-4083-8FA8-219D328C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8C89-C9E2-4B7A-B906-D3DB8A6E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41D3-B6FA-4A43-990F-FD8F7A8E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DC87-C050-4FF9-BE33-77732576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C02C-6749-4D1F-9C4B-08B46784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B6F7-8A12-485D-AFC2-E4D7825A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1A38-6076-4AC3-AF40-FB102F98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7C3E-5F8C-46D3-9B61-5EB9AB4B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8C73-290B-4729-B15B-E2DD3FE4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051C-1CD0-4D44-BD1F-4E948608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612-6E62-4316-8B6F-284959CA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2C8F-2F1C-4DC3-AD5E-71F9657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0C45-BBEA-457E-A6A7-4B113325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8AFB-33B2-4602-88A9-69A0C7DD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AD5F-BDB3-4FA5-9464-9CF79B56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9D7E-1A45-4F10-A366-0DC4FAD8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005-3ED5-425C-A701-DA2C9E81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8C53-4DC9-4640-B973-8991BA3A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8D71-BE51-4803-90FC-2C25578F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266-5D91-44F9-9F13-CBB8B19B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A3B-2FED-4338-9DB6-5EA4967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869-A923-4C43-AC37-6E449121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45F8-3231-4823-B122-7A8AF8BB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D27A-14F3-4AE9-BD8E-2BAD029E165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82FE-36BB-43F8-97D6-F271EE01F79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mptomen van plantenziekt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herkennen van symptomen van aantastingen van plan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03640" y="765000"/>
            <a:ext cx="4140360" cy="2695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92360" y="29242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lmijt in de 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294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83440" y="30160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indegal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0" y="4616280"/>
            <a:ext cx="3483000" cy="2241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5960" y="64911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ik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40560" y="10800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lv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5003640" y="3862440"/>
            <a:ext cx="4140360" cy="299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31440" y="3665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zegal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62360"/>
            <a:ext cx="3043080" cy="399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76960" y="260280"/>
            <a:ext cx="37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fselwoek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971800" cy="302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619360" cy="4038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25520" y="589284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ksenbez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67440" y="409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5640" y="250812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3497400" cy="597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667480" y="754200"/>
            <a:ext cx="22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sterf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68600" y="44514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97600" cy="5616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273720" y="819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we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846760" y="2565360"/>
            <a:ext cx="3297240" cy="4292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671360" y="573408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083720" y="0"/>
            <a:ext cx="213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st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3554280"/>
            <a:ext cx="5076720" cy="3303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23680" y="589284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76720" cy="3286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12320" y="15717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epenziek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76400" y="4595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niezw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624720" cy="5083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92480" y="1000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ne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82840" y="3732120"/>
            <a:ext cx="121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3830760" cy="3871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05000" y="243000"/>
            <a:ext cx="31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breks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64200" y="31305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kort van een voedingsstof (Kal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952720" y="387360"/>
            <a:ext cx="24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dvle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830760" cy="5516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932360" y="3886200"/>
            <a:ext cx="4211640" cy="2971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859280" y="907920"/>
            <a:ext cx="3772080" cy="246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995640" y="35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55640" y="3035160"/>
            <a:ext cx="5400720" cy="3141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0240" y="243000"/>
            <a:ext cx="17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51800" y="36608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5280" y="1889280"/>
            <a:ext cx="5329080" cy="4111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04960" y="316080"/>
            <a:ext cx="195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vui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79720" y="3300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chimmel op uitscheid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an 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95640" y="2565360"/>
            <a:ext cx="4788000" cy="3551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708360" cy="2441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02000" y="179280"/>
            <a:ext cx="14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teri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90520" y="63086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ak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1640" y="15048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3708360" cy="23461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24720" y="609300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p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3360" y="747720"/>
            <a:ext cx="296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immelpl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410544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292720" y="1557360"/>
            <a:ext cx="3438360" cy="3424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684360" y="1197000"/>
            <a:ext cx="2619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052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67280" cy="2647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39640" y="3213000"/>
            <a:ext cx="4211640" cy="3140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8720" y="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8320" y="263700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097760" y="314172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deblad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3960" y="64911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ve Sneeuwbalha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598920" cy="231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742440" y="37321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zenhaan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003640" cy="3201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724280" y="1773360"/>
            <a:ext cx="4419720" cy="2973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0" y="4006800"/>
            <a:ext cx="4356000" cy="2851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5600" y="60930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roene sparre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9600" y="335772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lu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160200"/>
            <a:ext cx="22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2160" y="4941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int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500280" cy="5435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460680" cy="540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87840" y="10800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tvr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75280" y="618012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5486400" cy="3530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55200" y="387360"/>
            <a:ext cx="39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telwoeke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6278400"/>
            <a:ext cx="122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3400" y="13557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aalt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567080" cy="59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531040" y="610884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wortelknobbelbacte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92720" y="765000"/>
            <a:ext cx="3183120" cy="489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3638520" cy="5040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00560" y="108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720" y="582444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Pereprachtk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39080" y="56815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ilgehoutr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75040" cy="4630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7480" y="3492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ineer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4160" y="48690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lstvli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850000" y="765000"/>
            <a:ext cx="32940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63240" y="544500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stanje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56000" y="4160880"/>
            <a:ext cx="3600360" cy="2697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753360" y="315612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thuyamineerm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62320" y="1428840"/>
            <a:ext cx="2619360" cy="4000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464640" y="5729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uiz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619360" cy="4019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10640" y="4524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j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33360"/>
            <a:ext cx="572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vorming door zuigsch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0:47:46Z</dcterms:created>
  <dc:creator>nugter</dc:creator>
  <dc:description/>
  <dc:language>en-US</dc:language>
  <cp:lastModifiedBy>laptop</cp:lastModifiedBy>
  <dcterms:modified xsi:type="dcterms:W3CDTF">2006-10-05T10:15:17Z</dcterms:modified>
  <cp:revision>7</cp:revision>
  <dc:subject/>
  <dc:title>Dia 1</dc:title>
</cp:coreProperties>
</file>