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4E3-7203-4230-8EB9-01D89BA3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953-9311-4D2F-A29B-02552D7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D01-0E26-482B-AE79-144CE125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B98-BA14-4E46-822B-31752840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6873-CC95-419F-BDC5-39DA6BD4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FCA-3C56-49E9-8EFD-429AFD41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C8B-DC16-4ADC-91C6-4C129E56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4136-3BB5-47E1-9434-FD583424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AF9-176A-41B1-8BF0-5DFD949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07EA-7A27-4D90-B29D-A0DE231E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9598-7270-4922-9766-5D06850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2CF-3574-4B29-9DBB-A4B594E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6FB8-19F9-4BA9-BCCD-D0A16190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7FF6-98A1-4A26-9DDF-5D3F35B8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74F2-FAF5-4AEE-84E0-CF3196E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F5DE-15C4-4A1D-AE5B-755EC7B7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E70A-5115-4DB4-B879-3E07DCAC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E52-1A2D-441A-BF24-9E51D70B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6A3-EF69-4772-8FFF-2E2938CA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147-2DB5-4821-B741-2A3D54EB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CFA-CA49-471F-80AE-E1D2F395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527-AE9C-43A0-8349-690175D1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491-2863-4122-A8E7-EBB50021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526-58C5-4D88-A0A0-7BD4914E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02B4-831C-4B92-968D-B99AC7935002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39B8-9DD8-4FBC-9621-D450F042436A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ied hendr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uigscha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16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aantasting door bladluizen, wantsen, tripsen, witte 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oms gevolgd door aantasting door roetdauwschimmels; deze leven van de honingdauw, zoete stoffen door oa. bladluizen uitgesche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cten of larven, die zich invreten in harde plantende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trupsen, iepenspintkever, prachtkever en boktor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98560" y="1886040"/>
            <a:ext cx="31273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lvor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len zijn vergroeiingen van een plant als reactie op stoffen die door een larven van een galwesp worden afgeschei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eikengalwespen en gleditsiagalmu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27440" y="1887480"/>
            <a:ext cx="4008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reterij aan ondergrondse dele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melten: pootlo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ngerlingen met po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Junik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zenke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2781360" cy="2114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4076640"/>
            <a:ext cx="27244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ins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inselnesten afkomstig van spinselmotten o.a. in meidoorn, vuurdoorn, kardinaalsmu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2747880"/>
            <a:ext cx="410184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secten toptien 2005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“tuin en landschap”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enprocessie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lein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fruitbomen en loofgew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aardenkastanjemineermot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astan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Spinselmotten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meidoorn, kardinaalsm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oningsschildlui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a. Esdoorn, iep, kastanje en 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te winter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.a. wilg, berk, k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Wilgenhoutrups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ls, es, populier, wil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renprachtkev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eer, meidoo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Horzelvlind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vooral popul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Groene eikenbladroller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ik( soms andere gewass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bben geen bladgro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chadelijke soorten parasiteren op gewa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oortplanting o.a. door spoorvor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ommige soorten blijven over als proppen ingedroogd pluis (sclerotiën) of als rhizomorfen (vete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schimm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064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estvle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mmelpluis (meeldau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v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topping van vaatbun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gvallen kiemplan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gelsch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239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4314960"/>
            <a:ext cx="32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886040"/>
            <a:ext cx="4013280" cy="4172040"/>
            <a:chOff x="457200" y="1886040"/>
            <a:chExt cx="4013280" cy="4172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457200" y="1886040"/>
              <a:ext cx="4013280" cy="41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 txBox="1"/>
            <p:nvPr/>
          </p:nvSpPr>
          <p:spPr>
            <a:xfrm>
              <a:off x="457200" y="1886040"/>
              <a:ext cx="4013280" cy="417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cc00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O.a. bloedingsziekte paardenkastanje en bacterievuur in appel, peer, meidoorn, vuurdoorn, photi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topping vaatbundels, bloe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fsterven scheut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an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wammen (honingzwam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wakteparasiet o.a. op loof en naaldbom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ormt rhizomorfen, “draden” bestaand uit mycel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449440"/>
            <a:ext cx="38894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bouw presentati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z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 m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emene informatie over het herkennen van ziekten en plagen in groengewasse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el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t werken met een zoeksleutel aan de hand van plaatmateriaal of meegebracht materia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 m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ru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re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ontheid, verkleuring, chlor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is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zw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langrijk: uitgaan van gezond uitgangsmateriaal 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bestrijding van de ziekte mogelij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 virusziek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antasting Buddle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Chlorose (verbleken) en verkleu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spreiding o.a. door vegetatieve vermee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29192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vuu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3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208480" y="1916280"/>
            <a:ext cx="28828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cterieziekt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strijding vooral gericht op bedrijfshygie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wijderen zieke plan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en met ontsmet (snoei)gereedsch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rdachte bomen/struiken als laatste snoei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altj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ndwormen of nemato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ptom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vorming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dvlekke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ardig wortelstels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tting bollen en kno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4272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ymptomen of ziekteverschijnsel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hterblijven in groe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reterij en beschadi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kleu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pluis, sclerot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vorm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enkele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reterij en aanwezigheid ins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dbeschadiging door slak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3124440" cy="216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3048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orbeelden van sympto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ladvlekken bij plat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asdraden van appelbloedluis bij Mal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4267080"/>
            <a:ext cx="3484440" cy="239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429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st voorkomende ziekten en plaag organism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mm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ru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altj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gewervelde zoals slak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sec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n het schadebeeld herken je het insect of de familie van de schadeverwekke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zuigschade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uizen, wantsen en trips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ineervlie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wone vreterij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keverlarven;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rupsen (vlinderlar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oren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evers en rups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vorming: 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almug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wone vreterij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2708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psen en kevers, keverlarv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estal vreterij van blad, soms ook wort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22480" y="1886040"/>
            <a:ext cx="26794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miner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Larven van sommige insecten zoals mineervliegen vreten het bladmoes weg tussen de opperhuidslag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Paardekastanjemineermot, hulstvli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1148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Administrator</cp:lastModifiedBy>
  <dcterms:modified xsi:type="dcterms:W3CDTF">2009-12-28T18:57:03Z</dcterms:modified>
  <cp:revision>23</cp:revision>
  <dc:subject/>
  <dc:title>Het herkennen van ziekten en plagen in de groensector</dc:title>
</cp:coreProperties>
</file>