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52E-BE66-4568-B9A4-8D22B226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4BE-4D21-4A44-B9FF-2C337B09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3BE-312B-42A0-AA20-A994B8CE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ED6-CAD5-43CF-9E68-0A6FE465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9972-2FFB-4F1F-AD8A-4B9B76B8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D9E6-D8D8-47A0-87F5-DCD6E352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101B-41B3-43B4-8501-ABD3F52B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F80A-CBC7-4747-90C9-B5176793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CC0E-A142-4A1B-98DD-76BDE3E5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666B-8615-43B1-86CC-7B30E026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B7A6-46DC-464F-9630-C87BC88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330-092D-4532-89CA-7D37BD6A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DF7A-AE56-4BC7-B535-38D1F25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662F-AE3E-49C8-9F30-1E351433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6107-0131-4E42-9AD0-34562925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7229-1C62-43D5-BD03-06A79678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D5BB-73C2-4CDF-BBFB-994C1537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B5A-A7D1-4F7D-BCA4-39CAC7D4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DAB-D494-4574-B10C-1B006270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735-F2BC-4168-8F6E-98CEA9C6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28E-B348-4CF6-99F8-6C0287FF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511-FB1E-4E2A-AB12-D6FA63E6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471-BBA7-4FFA-8DCC-01AB7A92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F15-A47C-4DEC-A88A-4AABF3E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E737-82A5-48FF-80DF-733A4B40C0F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0E07-2012-4FE8-852D-F3834806E9E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jaarsziek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sulfaat of 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laptop</cp:lastModifiedBy>
  <dcterms:modified xsi:type="dcterms:W3CDTF">2008-01-29T10:52:19Z</dcterms:modified>
  <cp:revision>30</cp:revision>
  <dc:subject/>
  <dc:title>Schimmelziekten op de baan</dc:title>
</cp:coreProperties>
</file>