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9BB-48E5-4AA7-9DFF-75DAD813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FFB-F9A3-4C12-977F-DDB16429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E98-7A53-4106-88DD-5C694BD8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345-E09F-4171-B48D-B206966F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7B8C-51DC-4E22-B139-D0DFA34D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FFF9-E14F-48B7-A000-15A8BE71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396B-CDDC-4BB3-900E-AD3C0C59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63AF-0098-4A05-BABF-046E6B12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7F4A-C163-400D-BD47-8B8EA6EC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F13E-BECD-421C-950B-B95C454F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5E21-F65C-4CA7-AE78-6B2C33EF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926-050C-4780-B23D-0B949565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F890-6497-4429-800E-42736920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2F4F-F61C-4C48-8D53-B7738B5A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5DF1-29B7-4819-8405-166F5B71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5E1D-51BC-4E9B-8FFD-ADA2112E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91EF-F90D-4747-A0CF-7DE80341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2BE-2524-4306-87E0-47B77CD6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A0F-80A7-427B-823B-339F720B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28D-9312-400C-AA48-D7B599E5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EB0-CB0C-4F6F-894A-951837D5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ECA-CA54-4FC6-9CED-6F85E0DF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135-41BB-4929-B74A-AB426508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D12-924E-479E-A8E3-C85ECD1C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746E-2DDF-4FEE-B431-4208A038263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C9F-D3F7-4900-AD23-3050E030020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ptomen van plantenziekt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herkennen van symptomen van aantastingen van plan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765000"/>
            <a:ext cx="4140360" cy="26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29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mijt in de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9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83440" y="3016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indegal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616280"/>
            <a:ext cx="3483000" cy="224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5960" y="64911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ik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0560" y="10800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003640" y="3862440"/>
            <a:ext cx="4140360" cy="299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31440" y="3665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z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62360"/>
            <a:ext cx="3043080" cy="399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76960" y="2602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fselwoek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97180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25520" y="58928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bez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67440" y="409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640" y="25081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974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67480" y="7542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sterf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68600" y="4451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561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73720" y="819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846760" y="2565360"/>
            <a:ext cx="3297240" cy="429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71360" y="573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83720" y="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ster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554280"/>
            <a:ext cx="5076720" cy="3303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3680" y="589284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328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12320" y="1571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ep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6400" y="4595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624720" cy="508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92480" y="1000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ne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82840" y="37321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830760" cy="3871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5000" y="24300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breks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200" y="31305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kort van een voedingsstof (K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52720" y="38736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vl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830760" cy="551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3886200"/>
            <a:ext cx="421164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59280" y="907920"/>
            <a:ext cx="3772080" cy="246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95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3035160"/>
            <a:ext cx="5400720" cy="31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0240" y="24300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51800" y="36608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889280"/>
            <a:ext cx="5329080" cy="41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04960" y="31608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vu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79720" y="3300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 op uitschei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n 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788000" cy="355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708360" cy="244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02000" y="17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ter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90520" y="6308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ak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1640" y="150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708360" cy="23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24720" y="6093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p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3360" y="7477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immelpl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438360" cy="3424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05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4211640" cy="314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8720" y="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8320" y="2637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7760" y="31417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3960" y="64911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e Sneeuwbalh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76720" y="4149720"/>
            <a:ext cx="3598920" cy="23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742440" y="37321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zenhaan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3640" cy="320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1773360"/>
            <a:ext cx="4419720" cy="29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06800"/>
            <a:ext cx="4356000" cy="285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5600" y="6093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roene sparre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9600" y="33577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16020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22160" y="4941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t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500280" cy="543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3460680" cy="540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7840" y="10800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5280" y="6180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5486400" cy="353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55200" y="38736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telwoeke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2784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3400" y="13557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aa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67080" cy="59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31040" y="61088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18312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6385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00560" y="108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720" y="5824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erepracht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9080" y="5681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ilgehoutr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5040" cy="4630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7480" y="34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ee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160" y="4869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lstvli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50000" y="76500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63240" y="54450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stanje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56000" y="4160880"/>
            <a:ext cx="3600360" cy="26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53360" y="31561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uya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62320" y="1428840"/>
            <a:ext cx="261936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64640" y="5729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619360" cy="4019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0640" y="45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j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33360"/>
            <a:ext cx="57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vorming door 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47:46Z</dcterms:created>
  <dc:creator>nugter</dc:creator>
  <dc:description/>
  <dc:language>en-US</dc:language>
  <cp:lastModifiedBy>laptop</cp:lastModifiedBy>
  <dcterms:modified xsi:type="dcterms:W3CDTF">2006-10-05T10:15:17Z</dcterms:modified>
  <cp:revision>7</cp:revision>
  <dc:subject/>
  <dc:title>Dia 1</dc:title>
</cp:coreProperties>
</file>