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C63B-D505-4BDD-B00A-A59F6C6F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28AC-EB0F-48F2-B961-3BB74F15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9A46-3FC6-4A71-9F5D-0DEA84EB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0E40-AF51-4043-9428-DE58D44B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BB84-D408-4DC9-8D7B-B213BB04F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939C-E9BD-40E1-8D69-E9D25D99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A447-D99D-4A44-B595-01191909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16EB-B527-4C92-AAB8-1B3CFEA7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6CBA-F715-4AC5-93E8-EF423CF6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08D4-A160-4229-B0EB-34A0A6A5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3A89-1E1E-40B8-8E5D-89723A2C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CCA9-D6F8-4EFD-BF3A-B90417E3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F7C4-E8E1-4C9F-ABB0-8E6F6FEC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B84C-D5FF-45D9-AA93-0E721F3D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D80B-FC1D-4AFA-B06F-B3D12646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DFCE-D651-40B6-9B3F-1A6CFB33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A11C-75FD-4BC9-8ADE-EA06C372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BC5B-12DE-42EE-B551-D4261784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B9CB-C507-46CA-8E74-243EE199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0D3C-B76E-4609-804C-E1BEA165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4E94-C233-4658-AF64-D8AC1A62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CD3D-1B0F-4CC4-A364-346987B4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73B6-3FC6-40D6-A7A8-A35C59FE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987B-9607-4F14-A328-581DCB25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65D9-89C2-4FBD-B297-18BFDF611591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B217-5DBC-43B5-9C40-25F2D44B2308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et herkennen van ziekten en plagen in de groensec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ed hendri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zuigsch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16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aantasting door bladluizen, wantsen, tripsen, witte vli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oms gevolgd door aantasting door roetdauwschimmels; deze leven van de honingdauw, zoete stoffen door oa. bladluizen uitgescheid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o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cten of larven, die zich invreten in harde plantende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trupsen, iepenspintkever, prachtkever en boktor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98560" y="1886040"/>
            <a:ext cx="31273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alvorm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len zijn vergroeiingen van een plant als reactie op stoffen die door een larven van een galwesp worden afgeschei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eikengalwespen en gleditsiagalmu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27440" y="1887480"/>
            <a:ext cx="40086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reterij aan ondergrondse del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melten: pootlo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ngerlingen met po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eik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Junik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ozenke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2781360" cy="2114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3280" y="4076640"/>
            <a:ext cx="27244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pins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inselnesten afkomstig van spinselmotten o.a. in meidoorn, vuurdoorn, kardinaalsmu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2747880"/>
            <a:ext cx="410184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ecten toptien 2005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“tuin en landschap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enprocessierup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leine winter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fruitbomen en loofgewas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aardenkastanjemineermot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astan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Spinselmotten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meidoorn, kardinaalsm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oningsschildlui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a. Esdoorn, iep, kastanje en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lin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Grote winter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.a. wilg, berk, k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Wilgenhoutrup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ls, es, populier, wil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erenprachtkev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eer, meidoo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Horzel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vooral popul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Groene eikenbladroll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( soms andere gewass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mm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ebben geen bladgro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chadelijke soorten parasiteren op gewa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oortplanting o.a. door spoorvor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ommige soorten blijven over als proppen ingedroogd pluis (sclerotiën) of als rhizomorfen (vete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mptomen schimm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1640" y="1371600"/>
            <a:ext cx="4064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vle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estvle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mmelpluis (meeldau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v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topping van vaatbun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gvallen kiemplan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gelsch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51160" cy="2390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90720" y="4314960"/>
            <a:ext cx="32763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cterieziek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57200" y="1886040"/>
            <a:ext cx="4013280" cy="4172040"/>
            <a:chOff x="457200" y="1886040"/>
            <a:chExt cx="4013280" cy="417204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457200" y="1886040"/>
              <a:ext cx="4013280" cy="41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 txBox="1"/>
            <p:nvPr/>
          </p:nvSpPr>
          <p:spPr>
            <a:xfrm>
              <a:off x="457200" y="1886040"/>
              <a:ext cx="4013280" cy="417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cc00"/>
                </a:buClr>
                <a:buFont typeface="Monotype Sorts" charset="2"/>
                <a:buChar char="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bloedingsziekte paardenkastanje en bacterievuur in appel, peer, meidoorn, vuurdoorn, photi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erstopping vaatbundels, bloe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fsterven scheu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an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Zwammen (honingzwam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Zwakteparasiet o.a. op loof en naaldbom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ormt rhizomorfen, “draden” bestaand uit mycel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1280" y="2449440"/>
            <a:ext cx="38894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pbouw presentati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z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 m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el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gemene informatie over het herkennen van ziekten en plagen in groengewasse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 m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el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t werken met een zoeksleutel aan de hand van plaatmateriaal of meegebracht materia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 m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uss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oeire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ontheid, verkleuring, chlor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isvorm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zwak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langrijk: uitgaan van gezond uitgangsmateriaal 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en bestrijding van de ziekte mogelij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orbeeld virusziek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antasting Buddle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Chlorose (verbleken) en verkleu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erspreiding o.a. door vegetatieve vermee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29192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cterievuur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4248000" cy="3133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208480" y="1916280"/>
            <a:ext cx="28828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cterieziekte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strijding vooral gericht op bedrijfshygie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wijderen zieke plan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erken met ontsmet (snoei)gereedsch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dachte bomen/struiken als laatste snoei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altj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ndwormen of nemato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ptom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hterblijven in groe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svorming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dvlekke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ardig wortelstels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tting bollen en kno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4272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mptomen of ziekteverschijnsel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hterblijven in gro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reterij en beschadi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kleur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mmelpluis, sclerotië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vorm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wel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orbeelden van enkele sympto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reterij en aanwezigheid ins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beschadiging door sla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3124440" cy="2165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30481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orbeelden van sympto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ladvlekken bij plata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wasdraden van appelbloedluis bij Mal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48320" y="4267080"/>
            <a:ext cx="3484440" cy="2395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34290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est voorkomende ziekten en plaag organis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c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mm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terië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ru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altj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gewervelde zoals slak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sec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an het schadebeeld herken je het insect of de familie van de schadeverwekker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zuigschade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luizen, wantsen en trips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mineren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mineervlie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ewone vreterij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evers en keverlarven;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rupsen (vlinderlarv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oren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evers en rups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vorming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mug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ewone vreterij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psen en kevers, keverlarv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estal vreterij van blad, soms ook worte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22480" y="1886040"/>
            <a:ext cx="26794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mine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Larven van sommige insecten zoals mineervliegen vreten het bladmoes weg tussen de opperhuidslag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Paardekastanjemineermot, hulstvli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1148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3:28:35Z</dcterms:created>
  <dc:creator>whendrix</dc:creator>
  <dc:description/>
  <dc:language>en-US</dc:language>
  <cp:lastModifiedBy>Administrator</cp:lastModifiedBy>
  <dcterms:modified xsi:type="dcterms:W3CDTF">2009-12-28T18:57:03Z</dcterms:modified>
  <cp:revision>23</cp:revision>
  <dc:subject/>
  <dc:title>Het herkennen van ziekten en plagen in de groensector</dc:title>
</cp:coreProperties>
</file>