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153-2A79-400F-9B38-7F947397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1F6-F8E0-4947-B9EC-BFD83BDB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A21-0ACD-48CA-BD04-34EA39E4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388E-E54E-4F27-85AC-10CBF8CF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FD7B-A54E-41FA-9774-C2E9DC63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4FE4-9226-45B9-81B0-30C7E952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525D-AC09-49A8-A68A-17737689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A8ED-3820-421E-A43E-5DD8C4E1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8CB2-DC76-4FC1-B1C9-E7E51519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8757-B523-459A-B946-7F051907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86E9-D06A-44BD-85A6-15D854B6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9AC-F1F4-4174-AF36-AA70D81E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C49F-D81B-458C-AB4B-BE1CE2A4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BBBC-F019-46E9-9872-87F02165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5375-133E-4A1F-9212-0DC63993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B684-19A2-43A2-9273-59C0735D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9DE7-D0CD-4768-95F4-93FD4B2B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898F-01EA-45E7-88BE-662BB14E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B8D-5B83-47F5-917F-0E825ACC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0BD-46FD-4412-9406-376233AD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FDD-1470-4353-9FA1-A88F6786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6A99-C1A1-4F3D-9221-BE3052E1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C585-9887-495C-A753-905F5402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B8F-C49A-41E4-87E8-0702E919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EC29-E92A-4B56-96B7-782077A8976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8EDD-2C1D-43A5-A288-7689F0D8B55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jaarsziek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sulfaat of 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1341360"/>
          <a:ext cx="8424720" cy="47926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250920" y="1341360"/>
          <a:ext cx="8424720" cy="47926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laptop</cp:lastModifiedBy>
  <dcterms:modified xsi:type="dcterms:W3CDTF">2008-01-29T10:52:19Z</dcterms:modified>
  <cp:revision>30</cp:revision>
  <dc:subject/>
  <dc:title>Schimmelziekten op de baan</dc:title>
</cp:coreProperties>
</file>