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BA7A-835F-4AEC-9F0A-F0D0D3E83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DC20-9570-4D44-B8BC-08BD8821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76A5-F89A-4C77-B4A0-A3CFDCE80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4F44-6146-4A70-B3FC-BD1E33C64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ED09-AEC6-4069-ABB6-C0175DE0A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60D2-C467-4294-B98F-913F1045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FDF9-624E-4706-AC8A-25844C2E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3817-DE2D-4ECD-824C-D1278939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537D-ECB8-451D-9079-1C5F2FA0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DFA6-4EDE-4DCD-9C01-9FA57F91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3CAA-96A3-4572-AC23-F2BEC3E0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E408-35BE-4FD8-BEBA-1B9061BB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49A7-46B4-4E32-98E9-C1594223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8023-121D-41A1-8E2E-5770D83C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A9AA-8F8C-47DC-B2DB-DFFFB89F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8DB8-EBFD-4C8F-8274-6766ABD35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FD46-1FB4-463F-B971-C6AF551AA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1C9D-0DAA-4CD1-96BB-2FF40FF7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7BC4-70B2-4FD7-8485-02A39FA8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9FF3-7FB8-4568-892B-17147B17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C110-2818-47DD-9D54-86B41BE0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9BEB-9435-4443-A45C-F501B6EB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75DC-D8CF-4E8A-A23D-2A4A91B3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C787-A2B3-4B03-ABFC-7364C52F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2F19-D4B8-4ACD-9705-22511AB30626}" type="slidenum">
              <a:rPr b="0" lang="nl-NL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80A8-E916-41CF-A3CF-597314AE09DE}" type="slidenum">
              <a:rPr b="0" lang="nl-NL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et herkennen van ziekten en plagen in de groensec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ied hendrix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zuigscha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16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O.a. aantasting door bladluizen, wantsen, tripsen, witte vlie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oms gevolgd door aantasting door roetdauwschimmels; deze leven van de honingdauw, zoete stoffen door oa. bladluizen uitgescheid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or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2708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cten of larven, die zich invreten in harde plantende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trupsen, iepenspintkever, prachtkever en boktor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98560" y="1886040"/>
            <a:ext cx="31273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alvorm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allen zijn vergroeiingen van een plant als reactie op stoffen die door een larven van een galwesp worden afgeschei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o.a. eikengalwespen en gleditsiagalmu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27440" y="1887480"/>
            <a:ext cx="400860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reterij aan ondergrondse del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Emelten: pootlo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Engerlingen met po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eike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Junike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ozenkev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2781360" cy="2114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3280" y="4076640"/>
            <a:ext cx="27244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pins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inselnesten afkomstig van spinselmotten o.a. in meidoorn, vuurdoorn, kardinaalsmu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0920" y="2747880"/>
            <a:ext cx="410184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ecten toptien 2005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“tuin en landschap”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ikenprocessierups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leine wintervlind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fruitbomen en loofgewass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aardenkastanjemineermot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astanj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Spinselmotten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meidoorn, kardinaalsm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oningsschildluis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oa. Esdoorn, iep, kastanje en 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lin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Grote wintervlind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o.a. wilg, berk, k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Wilgenhoutrups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ls, es, populier, wil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erenprachtkev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eer, meidoo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Horzelvlind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vooral popul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Groene eikenbladroll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ik( soms andere gewass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himme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ebben geen bladgro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chadelijke soorten parasiteren op gewas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oortplanting o.a. door spoorvor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ommige soorten blijven over als proppen ingedroogd pluis (sclerotiën) of als rhizomorfen (vete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mptomen schimme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1640" y="1371600"/>
            <a:ext cx="4064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dvlek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estvlek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mmelpluis (meeldauw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dv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topping van vaatbun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gvallen kiemplan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gelsch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51160" cy="2390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990720" y="4314960"/>
            <a:ext cx="327636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cterieziek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57200" y="1886040"/>
            <a:ext cx="4013280" cy="4172040"/>
            <a:chOff x="457200" y="1886040"/>
            <a:chExt cx="4013280" cy="417204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457200" y="1886040"/>
              <a:ext cx="4013280" cy="41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 txBox="1"/>
            <p:nvPr/>
          </p:nvSpPr>
          <p:spPr>
            <a:xfrm>
              <a:off x="457200" y="1886040"/>
              <a:ext cx="4013280" cy="4172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ffcc00"/>
                </a:buClr>
                <a:buFont typeface="Monotype Sorts" charset="2"/>
                <a:buChar char="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O.a. bloedingsziekte paardenkastanje en bacterievuur in appel, peer, meidoorn, vuurdoorn, photin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Verstopping vaatbundels, bloe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fsterven scheu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an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Zwammen (honingzwam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Zwakteparasiet o.a. op loof en naaldbom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Vormt rhizomorfen, “draden” bestaand uit mycel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11280" y="2449440"/>
            <a:ext cx="388944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pbouw presentati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z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 m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el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gemene informatie over het herkennen van ziekten en plagen in groengewasse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0 m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el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t werken met een zoeksleutel aan de hand van plaatmateriaal of meegebracht materia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0 m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russ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roeire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ontheid, verkleuring, chlor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isvorm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zwak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elangrijk: uitgaan van gezond uitgangsmateriaal 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een bestrijding van de ziekte mogelij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orbeeld virusziek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antasting Buddle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Chlorose (verbleken) en verkleu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Verspreiding o.a. door vegetatieve vermee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292720" y="2133720"/>
            <a:ext cx="29192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cterievuur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4248000" cy="3133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208480" y="1916280"/>
            <a:ext cx="28828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cterieziekte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estrijding vooral gericht op bedrijfshygie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wijderen zieke plan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erken met ontsmet (snoei)gereedsch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dachte bomen/struiken als laatste snoei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altj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ndwormen of nemato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ptom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hterblijven in groe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svorming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dvlekke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ardig wortelstels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tting bollen en knol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42728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mptomen of ziekteverschijnsel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hterblijven in groe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reterij en beschadi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kleur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immelpluis, sclerotië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vorm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wel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orbeelden van enkele symptom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2708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reterij en aanwezigheid ins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dbeschadiging door slak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3124440" cy="2165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143000" y="4267080"/>
            <a:ext cx="304812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orbeelden van symptom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ladvlekken bij plata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wasdraden van appelbloedluis bij Mal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48320" y="4267080"/>
            <a:ext cx="3484440" cy="2395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342900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est voorkomende ziekten en plaag organism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ec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imm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terië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rus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altj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gewervelde zoals slak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sec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an het schadebeeld herken je het insect of de familie van de schadeverwekker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zuigschade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luizen, wantsen en trips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mineren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mineervlie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ewone vreterij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evers en keverlarven;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rupsen (vlinderlarve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oren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evers en rups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alvorming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almug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ewone vreterij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2708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psen en kevers, keverlarv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estal vreterij van blad, soms ook worte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22480" y="1886040"/>
            <a:ext cx="267948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miner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Larven van sommige insecten zoals mineervliegen vreten het bladmoes weg tussen de opperhuidslag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Paardekastanjemineermot, hulstvlie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411480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3:28:35Z</dcterms:created>
  <dc:creator>whendrix</dc:creator>
  <dc:description/>
  <dc:language>en-US</dc:language>
  <cp:lastModifiedBy>Administrator</cp:lastModifiedBy>
  <dcterms:modified xsi:type="dcterms:W3CDTF">2009-12-28T18:57:03Z</dcterms:modified>
  <cp:revision>23</cp:revision>
  <dc:subject/>
  <dc:title>Het herkennen van ziekten en plagen in de groensector</dc:title>
</cp:coreProperties>
</file>