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C9F-A2C2-4622-8FD7-0E7A938C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4C3-C63B-4A6B-881F-73057D34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B2C-56B0-4A59-94DD-35E552F7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2B4C-BDEC-44C8-8DAB-1756E498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1936-E919-43D3-84B7-2BF5A4B4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D065-B6C9-4A8A-AF24-A5D10AA8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7702-D0B0-493B-8C25-42687A7A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EF3F-A94D-47B8-A860-8514C1B3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879B-548A-4B61-A9F6-EF4DB495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996E-50E6-434F-AA9D-B67F47CC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3A56-71A9-4A35-814B-568F93B6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E0A5-BEA9-465D-B0CE-A6326D35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ABC5-F7AC-4809-A5FC-56704AF0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C5AF-4F84-4C55-A167-95B3E2F6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F7BD-8CFC-4777-A3A4-ED9E99CF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C6A1-5F3D-48DA-B27B-978FCAED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FA2B-A7BA-4DCA-BEF0-E780E127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C534-8E85-4420-BF74-E0E85C28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E3F-0368-4457-A5F9-2572E8D7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C48-B94D-4F47-B96E-24850479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478-ACC6-4098-BAFC-8E85DD19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4B3-32FB-46B9-9C0C-AD27D8EC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C73-E8E4-4674-BE5A-E1DFA03C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68C6-6ED9-446D-937B-DBF0208E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4CFF-D029-4923-89EC-370056543470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779B-FA4C-4ACC-AB0B-3EF6A918B1DD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t herkennen van ziekten en plagen in de groens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ed hendri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zuigsch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aantasting door bladluizen, wantsen, tripsen, witte 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oms gevolgd door aantasting door roetdauwschimmels; deze leven van de honingdauw, zoete stoffen door oa. bladluizen uitgeschei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o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cten of larven, die zich invreten in harde plantende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trupsen, iepenspintkever, prachtkever en boktor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98560" y="1886040"/>
            <a:ext cx="31273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lvor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len zijn vergroeiingen van een plant als reactie op stoffen die door een larven van een galwesp worden afgesch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eikengalwespen en gleditsiagalmu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27440" y="1887480"/>
            <a:ext cx="40086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reterij aan ondergrondse d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melten: pootlo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ngerlingen met po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Jun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zenke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2781360" cy="2114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4076640"/>
            <a:ext cx="27244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ins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inselnesten afkomstig van spinselmotten o.a. in meidoorn, vuurdoorn, kardinaalsmu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2747880"/>
            <a:ext cx="41018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ecten toptien 2005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“tuin en landschap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enprocessie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lein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fruitbomen en loofgewa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aardenkastanjemineermot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astan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Spinselmotten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idoorn, kardinaalsm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oningsschildlui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a. Esdoorn, iep, kastanje en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t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.a. wilg, berk, k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Wilgenhout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ls, es, populier, wil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renprachtkev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er, meidoo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Horzel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vooral popu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ene eikenbladroll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( soms andere gewass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bben geen bladgro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chadelijke soorten parasiteren op gewa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oortplanting o.a. door spoorvor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ommige soorten blijven over als proppen ingedroogd pluis (sclerotiën) of als rhizomorfen (vete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ptomen 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406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est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mmelpluis (meeldau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v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topping van vaatbun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gvallen kiemplan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gelsch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51160" cy="2390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90720" y="4314960"/>
            <a:ext cx="32763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ziek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1886040"/>
            <a:ext cx="4013280" cy="4172040"/>
            <a:chOff x="457200" y="1886040"/>
            <a:chExt cx="4013280" cy="417204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457200" y="1886040"/>
              <a:ext cx="4013280" cy="41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 txBox="1"/>
            <p:nvPr/>
          </p:nvSpPr>
          <p:spPr>
            <a:xfrm>
              <a:off x="457200" y="1886040"/>
              <a:ext cx="4013280" cy="417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cc00"/>
                </a:buClr>
                <a:buFont typeface="Monotype Sorts" charset="2"/>
                <a:buChar char="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bloedingsziekte paardenkastanje en bacterievuur in appel, peer, meidoorn, vuurdoorn, photi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topping vaatbundels, bloe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fsterven scheu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an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Zwammen (honingzwam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wakteparasiet o.a. op loof en naaldbom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ormt rhizomorfen, “draden” bestaand uit mycel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2449440"/>
            <a:ext cx="38894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bouw presentat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z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 m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l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emene informatie over het herkennen van ziekten en plagen in groengewass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l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t werken met een zoeksleutel aan de hand van plaatmateriaal of meegebracht materia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u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oeire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ontheid, verkleuring, chlor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is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zw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langrijk: uitgaan van gezond uitgangsmateriaal 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en bestrijding van de ziekte mogelij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 virusziek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antasting Buddle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hlorose (verbleken) en verkleu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preiding o.a. door vegetatieve vermee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29192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vuur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4248000" cy="3133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208480" y="1916280"/>
            <a:ext cx="28828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ziekte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strijding vooral gericht op bedrijfshygie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wijderen zieke pla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en met ontsmet (snoei)gereedsch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dachte bomen/struiken als laatste snoei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altj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ndwormen of nemato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ptom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vorming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dvlekk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ardig wortelstels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tting bollen en kno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4272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ptomen of ziekteverschijnsel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reterij en beschadi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kleu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mmelpluis, sclerot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en van enkele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reterij en aanwezigheid ins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beschadiging door sla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124440" cy="216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3048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en van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ladvlekken bij plat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asdraden van appelbloedluis bij Mal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8320" y="4267080"/>
            <a:ext cx="3484440" cy="2395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429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est voorkomende ziekten en plaag organis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mm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ter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u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altj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gewervelde zoals slak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sec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n het schadebeeld herken je het insect of de familie van de schadeverwekke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uigschade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uizen, wantsen en trips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ervlie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ewone vreterij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keverlarven;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upsen (vlinderlarv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o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rup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vorming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mug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wone vreterij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psen en kevers, keverlarv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estal vreterij van blad, soms ook wort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22480" y="1886040"/>
            <a:ext cx="26794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mine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arven van sommige insecten zoals mineervliegen vreten het bladmoes weg tussen de opperhuidslag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Paardekastanjemineermot, hulst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1148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3:28:35Z</dcterms:created>
  <dc:creator>whendrix</dc:creator>
  <dc:description/>
  <dc:language>en-US</dc:language>
  <cp:lastModifiedBy>Administrator</cp:lastModifiedBy>
  <dcterms:modified xsi:type="dcterms:W3CDTF">2009-12-28T18:57:03Z</dcterms:modified>
  <cp:revision>23</cp:revision>
  <dc:subject/>
  <dc:title>Het herkennen van ziekten en plagen in de groensector</dc:title>
</cp:coreProperties>
</file>