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129A-B31F-4C52-B4A3-2E5FA22B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8B35-FC11-45E0-9397-C038E0E7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07B2-6575-49DB-95CC-1F739952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A74A-4983-4261-8C02-446F137E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9FF7-459C-46BB-88DC-60728897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3438-AA98-46BD-ADFC-CB98141A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2924-E47F-4D3D-86E0-5C48E2A9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CCE2-51D1-40F5-B091-BDB4CD40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1EEC-E051-4FB8-91FC-9D9232BA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CCEE-93E2-4A7B-9971-03ACEFB4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B96F-B8F2-418C-992B-70F1FBF9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F5BE-52FD-4E7B-9836-FDA8FDF6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FAC1-3BDD-4923-8F23-4E0A6C10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D360-85AE-496A-894D-512F8181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E524-8A6C-4E41-A835-480B0E3B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7F76-24F5-4E2F-B357-A650D5C2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C47C-B9EF-4C59-B74B-C56EA678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A149-D63B-4512-BEF5-D44D20D5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220C-2F66-4F97-9E7F-FBDC1F3D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4170-56A0-4C5D-AA29-5D298D4D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742F-17A3-4148-98AB-37E0220C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49A2-8F3A-4F1A-B5BA-F884DA7A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FCDA-027E-4520-9132-192522C4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578D-1A96-4658-BEC0-93F22D66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9045-6D59-4C78-A3A5-52723B35FABB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7EBA-A656-4421-BA39-2D5E3CECF47E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et herkennen van ziekten en plagen in de groensec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ed hendri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zuigsch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16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aantasting door bladluizen, wantsen, tripsen, witte vli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oms gevolgd door aantasting door roetdauwschimmels; deze leven van de honingdauw, zoete stoffen door oa. bladluizen uitgescheid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o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cten of larven, die zich invreten in harde plantende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trupsen, iepenspintkever, prachtkever en boktor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98560" y="1886040"/>
            <a:ext cx="31273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alvorm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len zijn vergroeiingen van een plant als reactie op stoffen die door een larven van een galwesp worden afgeschei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eikengalwespen en gleditsiagalmu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27440" y="1887480"/>
            <a:ext cx="40086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reterij aan ondergrondse del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melten: pootlo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ngerlingen met po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eik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Junik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ozenke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2781360" cy="2114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3280" y="4076640"/>
            <a:ext cx="27244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pins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inselnesten afkomstig van spinselmotten o.a. in meidoorn, vuurdoorn, kardinaalsmu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2747880"/>
            <a:ext cx="410184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ecten toptien 2005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“tuin en landschap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enprocessierup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leine winter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fruitbomen en loofgewas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aardenkastanjemineermot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astan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Spinselmotten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meidoorn, kardinaalsm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oningsschildlui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a. Esdoorn, iep, kastanje en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lin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Grote winter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.a. wilg, berk, k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Wilgenhoutrup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ls, es, populier, wil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erenprachtkev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eer, meidoo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Horzel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vooral popul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Groene eikenbladroll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( soms andere gewass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mm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ebben geen bladgro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chadelijke soorten parasiteren op gewa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oortplanting o.a. door spoorvor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ommige soorten blijven over als proppen ingedroogd pluis (sclerotiën) of als rhizomorfen (vete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mptomen schimm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1640" y="1371600"/>
            <a:ext cx="4064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vle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estvle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mmelpluis (meeldau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v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topping van vaatbun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gvallen kiemplan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gelsch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51160" cy="2390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90720" y="4314960"/>
            <a:ext cx="32763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cterieziek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57200" y="1886040"/>
            <a:ext cx="4013280" cy="4172040"/>
            <a:chOff x="457200" y="1886040"/>
            <a:chExt cx="4013280" cy="417204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457200" y="1886040"/>
              <a:ext cx="4013280" cy="41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 txBox="1"/>
            <p:nvPr/>
          </p:nvSpPr>
          <p:spPr>
            <a:xfrm>
              <a:off x="457200" y="1886040"/>
              <a:ext cx="4013280" cy="417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cc00"/>
                </a:buClr>
                <a:buFont typeface="Monotype Sorts" charset="2"/>
                <a:buChar char="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bloedingsziekte paardenkastanje en bacterievuur in appel, peer, meidoorn, vuurdoorn, photi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erstopping vaatbundels, bloe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fsterven scheu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an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Zwammen (honingzwam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Zwakteparasiet o.a. op loof en naaldbom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ormt rhizomorfen, “draden” bestaand uit mycel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1280" y="2449440"/>
            <a:ext cx="38894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pbouw presentati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z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 m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el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gemene informatie over het herkennen van ziekten en plagen in groengewasse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 m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el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t werken met een zoeksleutel aan de hand van plaatmateriaal of meegebracht materia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 m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uss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oeire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ontheid, verkleuring, chlor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isvorm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zwak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langrijk: uitgaan van gezond uitgangsmateriaal 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en bestrijding van de ziekte mogelij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orbeeld virusziek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antasting Buddle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Chlorose (verbleken) en verkleu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erspreiding o.a. door vegetatieve vermee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29192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cterievuur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4248000" cy="3133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208480" y="1916280"/>
            <a:ext cx="28828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cterieziekte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strijding vooral gericht op bedrijfshygie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wijderen zieke plan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erken met ontsmet (snoei)gereedsch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dachte bomen/struiken als laatste snoei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altj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ndwormen of nemato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ptom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hterblijven in groe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svorming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dvlekke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ardig wortelstels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tting bollen en kno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4272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mptomen of ziekteverschijnsel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hterblijven in gro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reterij en beschadi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kleur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mmelpluis, sclerotië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vorm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wel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orbeelden van enkele sympto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reterij en aanwezigheid ins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beschadiging door sla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3124440" cy="2165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30481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orbeelden van sympto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ladvlekken bij plata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wasdraden van appelbloedluis bij Mal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48320" y="4267080"/>
            <a:ext cx="3484440" cy="2395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34290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est voorkomende ziekten en plaag organis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c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mm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terië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ru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altj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gewervelde zoals slak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sec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an het schadebeeld herken je het insect of de familie van de schadeverwekker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zuigschade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luizen, wantsen en trips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mineren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mineervlie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ewone vreterij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evers en keverlarven;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rupsen (vlinderlarv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oren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evers en rups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vorming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mug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ewone vreterij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psen en kevers, keverlarv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estal vreterij van blad, soms ook worte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22480" y="1886040"/>
            <a:ext cx="26794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mine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Larven van sommige insecten zoals mineervliegen vreten het bladmoes weg tussen de opperhuidslag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Paardekastanjemineermot, hulstvli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1148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3:28:35Z</dcterms:created>
  <dc:creator>whendrix</dc:creator>
  <dc:description/>
  <dc:language>en-US</dc:language>
  <cp:lastModifiedBy>Administrator</cp:lastModifiedBy>
  <dcterms:modified xsi:type="dcterms:W3CDTF">2009-12-28T18:57:03Z</dcterms:modified>
  <cp:revision>23</cp:revision>
  <dc:subject/>
  <dc:title>Het herkennen van ziekten en plagen in de groensector</dc:title>
</cp:coreProperties>
</file>