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609-1A30-40D1-9F0D-732A52BE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9D9-95C4-4D3E-9CAB-A9775F05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6666-201B-44B9-8F5A-07730B08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0A8-2B08-43B2-9F23-FE8135E9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6601-EA61-4635-A0B9-AC27EFEA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4355-95B3-4E62-93C5-090AFBC9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5B14-2101-4C27-AB22-32E416E7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2A5B-5315-43B4-AD6A-700CA74E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19D0-FE38-4230-ADD8-FC4A5EB6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BE03-89A9-4EA5-AED6-98DC4E98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15CB-B919-4436-8305-D69D3FB8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FA9-CFFB-46BB-8D18-D5BDF08D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67DC-4398-4DDE-82F8-17EED02C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528E-9B52-4C00-976D-E3C93065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A2AB-9D2B-439C-A35B-E82ED1C0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DD11-50A2-47AC-B974-1A233359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526A-5901-4128-A45A-6A56404F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5903-BAF7-42C2-BFEC-C2778B55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80CC-9591-4FB4-9472-B76D4375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CDF-0C7A-4AFE-8950-751E2DA0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201-2AB2-4B75-A016-28D75376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247-34E5-405F-8373-A986D2DA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3AFD-3C69-47E7-8580-CE1528BF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976-6D3F-436E-B13B-9C25B65D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E8F4-6208-49F1-ABFB-8150A046E68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C74A-A138-4540-BBB6-943BDB5C453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mptomen van plantenziekt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t herkennen van symptomen van aantastingen van plant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03640" y="765000"/>
            <a:ext cx="4140360" cy="2695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92360" y="292428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lmijt in de 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76720" cy="294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83440" y="30160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indegal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4616280"/>
            <a:ext cx="3483000" cy="2241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95960" y="649116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ikegal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40560" y="10800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vo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5003640" y="3862440"/>
            <a:ext cx="4140360" cy="2995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31440" y="36655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Rozegal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62360"/>
            <a:ext cx="3043080" cy="3995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76960" y="260280"/>
            <a:ext cx="37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fselwoek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651640" y="2852640"/>
            <a:ext cx="2971800" cy="3025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627280" y="0"/>
            <a:ext cx="2619360" cy="4038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25520" y="589284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ksenbez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67440" y="40924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640" y="250812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497400" cy="597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667480" y="754200"/>
            <a:ext cx="22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sterf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68600" y="44514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97600" cy="5616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273720" y="81900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846760" y="2565360"/>
            <a:ext cx="3297240" cy="4292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71360" y="573408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083720" y="0"/>
            <a:ext cx="213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ster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3554280"/>
            <a:ext cx="5076720" cy="3303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23680" y="589284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iezw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76720" cy="3286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512320" y="15717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iepen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76400" y="459576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iezw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624720" cy="5083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92480" y="100080"/>
            <a:ext cx="25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dnecr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82840" y="373212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830760" cy="3871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05000" y="24300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breksziek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64200" y="313056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kort van een voedingsstof (Kal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952720" y="387360"/>
            <a:ext cx="24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dvle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3830760" cy="5516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932360" y="3886200"/>
            <a:ext cx="4211640" cy="2971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859280" y="907920"/>
            <a:ext cx="3772080" cy="2468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956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55640" y="3035160"/>
            <a:ext cx="5400720" cy="3141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70240" y="243000"/>
            <a:ext cx="17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n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51800" y="366084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95280" y="1889280"/>
            <a:ext cx="5329080" cy="4111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604960" y="316080"/>
            <a:ext cx="195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vui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79720" y="330048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 op uitscheid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n lu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95640" y="2565360"/>
            <a:ext cx="4788000" cy="3551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708360" cy="2441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02000" y="17928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eteri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90520" y="63086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ak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1640" y="15048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3708360" cy="2346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24720" y="60930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p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33360" y="747720"/>
            <a:ext cx="29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immelplu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4105440"/>
            <a:ext cx="320364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292720" y="1557360"/>
            <a:ext cx="3438360" cy="3424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84360" y="1197000"/>
            <a:ext cx="2619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3052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067280" cy="2647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39640" y="3213000"/>
            <a:ext cx="4211640" cy="3140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408720" y="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letvr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8320" y="263700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deblad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97760" y="314172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deblad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3960" y="64911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ve Sneeuwbalha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076720" y="4149720"/>
            <a:ext cx="3598920" cy="2317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742440" y="37321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zenhaan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03640" cy="3201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724280" y="1773360"/>
            <a:ext cx="4419720" cy="2973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4006800"/>
            <a:ext cx="4356000" cy="2851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5600" y="6093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roene sparrel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9600" y="335772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l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160200"/>
            <a:ext cx="22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uig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22160" y="4941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int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500280" cy="543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500720" y="765000"/>
            <a:ext cx="3460680" cy="540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87840" y="10800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tvr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75280" y="618012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5486400" cy="3530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55200" y="387360"/>
            <a:ext cx="39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telwoeker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62784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3400" y="13557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wortelknobbelaal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567080" cy="59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531040" y="610884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wortelknobbel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92720" y="765000"/>
            <a:ext cx="3183120" cy="4896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638520" cy="504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00560" y="10800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r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82720" y="582444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Pereprachtk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39080" y="56815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ilgehoutr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5040" cy="4630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27480" y="3492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ineer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4160" y="48690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lstvli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850000" y="765000"/>
            <a:ext cx="329400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663240" y="54450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astanjemineerm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556000" y="4160880"/>
            <a:ext cx="3600360" cy="2697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753360" y="315612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thuyamineerm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62320" y="1428840"/>
            <a:ext cx="2619360" cy="4000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464640" y="57294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u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619360" cy="4019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10640" y="4524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j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33360"/>
            <a:ext cx="57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vorming door zuig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0:47:46Z</dcterms:created>
  <dc:creator>nugter</dc:creator>
  <dc:description/>
  <dc:language>en-US</dc:language>
  <cp:lastModifiedBy>laptop</cp:lastModifiedBy>
  <dcterms:modified xsi:type="dcterms:W3CDTF">2006-10-05T10:15:17Z</dcterms:modified>
  <cp:revision>7</cp:revision>
  <dc:subject/>
  <dc:title>Dia 1</dc:title>
</cp:coreProperties>
</file>