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2B4-7919-4EFE-A9A1-9926230C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016-6E4B-4D62-8892-12D7A8F1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EAC-D367-4DE0-95CE-C6D3CD9C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CD5-3DCC-47C0-B559-31845CB1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AABB-F76B-460B-8BE4-AB76F570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EAF0-1B10-4DFD-AF9C-8346D4CF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FA33-AE2B-4648-A0B5-D891E456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2965-B5FA-4628-9B4E-AB136B05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AA08-7F5D-4704-8364-7E8145AF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0D67-262F-48E0-A33D-3B47B4F0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4BE2-3A8C-45F9-85E9-DAEB3CD2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51C-AF00-4E9E-A261-B242E21D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1347-16FF-407C-AD7A-2C957AA8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E8A0-CE0A-462C-8550-AEFE3895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E5BB-9A06-4ECD-9C69-89B936ED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5F8D-B87D-4284-9443-BC3D32B6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309E-640D-4856-A899-F535F824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746-78E4-46AF-9080-F8399E52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482-440D-48B3-9799-C1B8FAD4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4F3-9FEC-4DBA-B629-CFF0D291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93E-96A7-4738-833C-72DE32C2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5F0-38A3-44AD-B6C8-ACCC99D9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288-F02F-477B-ABAE-0A88BC85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289-0C00-4E29-9EE8-7E885D98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FC7D-0BED-44D7-A5DB-08AC4B5F453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05C0-DD22-4908-805C-F9B77DCB9CD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jaarsziek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sulfaat of 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laptop</cp:lastModifiedBy>
  <dcterms:modified xsi:type="dcterms:W3CDTF">2008-01-29T10:52:19Z</dcterms:modified>
  <cp:revision>30</cp:revision>
  <dc:subject/>
  <dc:title>Schimmelziekten op de baan</dc:title>
</cp:coreProperties>
</file>