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8D78-C21E-4C79-AFF8-4EF372F3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9FCA-A810-4057-BFD2-8C46E71E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763-72FD-4918-9973-AB40BBEB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1A32-D912-46C3-B6A6-8E945301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9E2A-87A1-4336-8782-67A18B55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FF8A-1EDF-46A3-AAFB-41679B30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B671-9732-4B9A-B634-DAE2EB38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B405-9E92-4A25-9FB2-D3B0D71C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DC41-4499-4DBB-9D57-4761FFA9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7C80-54A9-4582-96F7-626D530C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6CF4-E839-4D6B-8269-AA6B3B21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2488-42D1-448D-A22B-25F9CAF6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3EF1-B4B4-4AA1-A3E4-60D80ADE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8C02-C691-4178-B8E1-C6253C9B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64D3-0099-423E-BF9F-A413CDFD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C638-75D0-4E08-8C73-0F62684C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7BFB-CB1D-40F7-AB9B-481FC265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7ED-D3D1-4877-8708-DFD482AC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067E-F6AB-4DB5-B41C-E84C3509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8E0-E08B-4989-9B65-6694D205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298E-D36C-4CF3-B4C9-9B147A4C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421-8DE7-4B1E-8D69-9970ECFC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0148-BF5F-49AD-B1F9-9F907498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7EB-12C8-4E97-B2FD-AB7BCB7D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4092-1E1C-4B9C-B509-60061F4A1CA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E06C-4021-4E49-B16C-085D2798409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Schimmelziekten in grassportvegetatie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en andere aantasting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6535800" y="589608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nstell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. Nug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8840" y="403200"/>
            <a:ext cx="59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advlekken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echsleria poae/Helminosporium fragr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84328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134136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2808360" cy="21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eldbeemdgras en Engels raaig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rfst en voorja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of erg natt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lempgevoelig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spattend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chad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rt maaien of beschadig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oge stikstofgif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voeren van besmet maai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demwater beheer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m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oeien omringende beplan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aihoogte aanpas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-69840" y="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ladvlekken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38360" y="48888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Collectotrichum graminic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1589040"/>
            <a:ext cx="6335640" cy="5268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ok veldbeemd 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ate zomer en ein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echte verdich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temperat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rme 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tensief gebrui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 de zomer wat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 verbet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-47520" y="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6121440" cy="4773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42576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1154160"/>
            <a:ext cx="8280360" cy="5467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1133640"/>
            <a:ext cx="7620120" cy="5724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642840" y="189000"/>
            <a:ext cx="50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tbare rassen van Agrostis en Festu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ikstof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jaarsziek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 en hoge 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oed bemestingsreg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 in voorjaar werkt posit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jzersulfaat of ijzerchel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-49320" y="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ollars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1541520"/>
            <a:ext cx="8424720" cy="5316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56520" y="42372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82800" y="34452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2914560"/>
            <a:ext cx="5715000" cy="394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343400" y="189000"/>
            <a:ext cx="4800600" cy="4897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40520" y="71136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5160" y="170028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419640" y="4762440"/>
            <a:ext cx="27716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Bronn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wasbeschermingsgids 2.10.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eldbank gewasbesche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eenkee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arenb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opgreen/Adva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ectconsult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zwakt gew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door lang doorgroeien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door late stikstofgif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spreiding door versl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terperiode en warme vochtige z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dichte 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ras droog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ntilati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itten om zode droog te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zichtig met stikstofgift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giften, vooral einde groeiseizo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afru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eritage, Sign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-103680" y="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neeuwschimmel/voetr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0920" y="2967120"/>
            <a:ext cx="5184720" cy="389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048120" y="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40" y="549360"/>
            <a:ext cx="285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ksenk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rasmius ore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724360" y="3402000"/>
            <a:ext cx="3419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ruchtlichamen in de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strijding is moeil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gelijks prikken en vochtig m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maand vol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ringen verdwijnen vaak vanz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-57240" y="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ksenk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57920" cy="6543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23960" y="2565360"/>
            <a:ext cx="39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ndeplekken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hiobo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aeumannomyces gramin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364000" y="402264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066000" y="0"/>
            <a:ext cx="3078000" cy="25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0920" y="1150920"/>
            <a:ext cx="8569080" cy="5707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15080" y="13500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50920" y="3538440"/>
            <a:ext cx="4249800" cy="2962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348000" y="189000"/>
            <a:ext cx="5508720" cy="3668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3529080" cy="2651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583960" y="472428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03848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oodzwenkgras is resis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p jonge 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oel w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- e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 en zand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control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nodig zure meststoff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vt. ammoniumsulfaat of 4,2 g/m ijzersulf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khoudende meststoffen en dressings voork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-122760" y="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ndeplekkenziekte/takeall p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4044960" cy="6093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862520" y="403200"/>
            <a:ext cx="28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oddr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etisaria fuciform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al in Engels raaigras en roodzwemk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oms in veldbeem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t weer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erder in nazomer en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r nu ook het hele 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kort aan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elmatige aanvoer van stikstof (zwavelzure ammonia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immel verdwijnt vanzelf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-52920" y="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odddra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42680" y="488880"/>
            <a:ext cx="1948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Tahoma"/>
              </a:rPr>
              <a:t>Pythium S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anneer treden schimmelziekten o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schimmel moet aanwezig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waardplant moet er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waardplant moet ontvankelijk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groeiomstandigheden moeten goed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wakteparas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em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nge 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venwichtige bemesting en bereg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uctuurbederf verm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-47520" y="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6227640" cy="4110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3080" y="135000"/>
            <a:ext cx="26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roonro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coron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410160" y="1773360"/>
            <a:ext cx="2733840" cy="43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nd juni tot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gels raai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oed aan de groei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ak maai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-54720" y="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roonro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5280" y="4221000"/>
            <a:ext cx="3889440" cy="2551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95280" y="1341360"/>
            <a:ext cx="3887640" cy="2567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551480" y="0"/>
            <a:ext cx="45925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480" y="260280"/>
            <a:ext cx="35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uinevlekkenro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poae-nemor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ldbeemd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naf apr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-87120" y="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uinevlekkenro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or ontbreken van bestijdingsmiddelen wordt het vakmanschap sterker dan ooit aangesprok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ek het antwoord op de onderstaande fou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e voed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 ontworpen beplant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1341360"/>
          <a:ext cx="8424720" cy="47926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250920" y="1341360"/>
          <a:ext cx="8424720" cy="47926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Plagen in de gras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3760" y="344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nger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3708360" cy="2781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610160" y="0"/>
            <a:ext cx="4533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oeiomstandighe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emvo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 met weinig we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se bodemstructu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srijke omgeving of extensief beheerde grasvel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regelmatig rollen belemmert de larve in zijn beweg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un bosrijke omgeving 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58880" y="2728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mel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1978200"/>
            <a:ext cx="6659640" cy="4879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268360" y="0"/>
            <a:ext cx="4319640" cy="1728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686640" y="0"/>
            <a:ext cx="2457360" cy="3714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026040" y="4519440"/>
            <a:ext cx="31179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 en vochtig bodemoppervl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rme en vochtige perio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zorg voor een goede ontwatering van de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chte bovenlaag door veel betreden of rollen beperkt de scha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580000" y="549360"/>
            <a:ext cx="2519280" cy="1900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76800" y="6332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ouwvli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250920" y="2924280"/>
            <a:ext cx="57960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el organische resten in de bovenlaa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door de mat te rollen verbetert het contact tussen wortels en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en stikstof toe om grasgroei t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hemische bestrijding heeft alleen zin als de larven jong zij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192720" y="0"/>
            <a:ext cx="2951280" cy="2222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47160" y="84924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egenw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755640" y="1773360"/>
            <a:ext cx="4968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-waar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ebruik van veel organische m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blijft lig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verschraling met zand in najaar en voorjaar na 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-verlaging met zuurwerkende meststoff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erzwakte plan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aien en maaiw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te) veel bemest (hierdoor grotere cellen met zwakkere celwan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ar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oogtest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uurstof tekort in de g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overl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eheersing van schimmels is het toepassen van kennis over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assoorten en r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dem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oei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imatologische 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- en afvoer van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chanisat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volgen betredingsintensite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268360" cy="1833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124000" y="1838160"/>
            <a:ext cx="7020000" cy="501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643880" cy="5005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uni tot sept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, Veldbeemd, Roodzwenk en 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dag- en nachtte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(lucht)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ventilat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 morgens berege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lu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inig stikstof en goede kaligif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emopbouw 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-54360" y="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ownp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9:02:40Z</dcterms:created>
  <dc:creator>Peter</dc:creator>
  <dc:description/>
  <dc:language>en-US</dc:language>
  <cp:lastModifiedBy>laptop</cp:lastModifiedBy>
  <dcterms:modified xsi:type="dcterms:W3CDTF">2008-01-29T10:52:19Z</dcterms:modified>
  <cp:revision>30</cp:revision>
  <dc:subject/>
  <dc:title>Schimmelziekten op de baan</dc:title>
</cp:coreProperties>
</file>