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8DBB-0776-4B98-8580-4D2116B5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B5C-8BDB-4259-AD9D-683FCC87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B33D-A33D-44A0-89C3-D6FDC401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971-3AFA-491A-B824-AA56CC4D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4AF5-F035-4C6A-AB8B-0D0A66FF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2F20-254F-470E-9FB0-63C37ADF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D6E8-9511-452A-9D60-C1F70B5F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ED2F-CCA7-4A92-9B27-10D8FD17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1AA7-0580-4477-903B-27FFEC7E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EFDA-AC1A-4DBC-AB23-9CDA61A6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9C7F-3C45-4789-9BBF-5B8007ED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F61E-C3E9-490C-9292-43285E05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01CD-83AA-4A92-B2B5-D3D716B3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8B4E-996E-4289-B098-FC17106C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2B3A-E670-41FE-ACFC-4E6AB4A7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2EAC-EDF3-4197-B9B0-EB7AF5A0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F3BB-FF7E-4962-91D1-02F407D3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BA53-ADB7-4FB0-8B70-5ACAB70D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750-1F31-4CE1-A1AA-C524D928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07FC-9E3D-4F18-AD10-2EECBBCB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765F-F085-47B4-93DE-54C236AE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00DA-3B97-46A8-B73A-74DDDB1F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22E-D027-4FA7-A5B9-7E56058B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B14-51D8-449A-8AC1-2ABEDC15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DD43-9FAC-4808-8E16-7CBAE31E7F8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2F74-AE3E-4FD1-8642-B2757B68EF0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Schimmelziekten in grassportvegetatie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en andere aantasting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6535800" y="589608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nstell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. Nug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8840" y="403200"/>
            <a:ext cx="59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advlekken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echsleria poae/Helminosporium fragr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80836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eldbeemdgras en Engels raaig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rfst en voorja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of erg natt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lempgevoelig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spatten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chad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rt maaien of beschadig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oge stikstofgi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voeren van besmet maai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emwater beheer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m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oeien omringende bepla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aihoogte aanpas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-69840" y="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advlekken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38360" y="48888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Collectotrichum graminic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589040"/>
            <a:ext cx="6335640" cy="5268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ok veldbeemd 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ate zomer en ein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echte verdich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temperat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rme 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tensief gebrui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zomer wat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 verbet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-47520" y="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6121440" cy="4773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2576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1154160"/>
            <a:ext cx="8280360" cy="5467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13364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642840" y="18900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tbare rassen van Agrostis en Festu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ikstof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jaarsziek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 en hoge 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oed bemestingsreg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 in voorjaar werkt posit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jzersulfaat of ijzerchel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-49320" y="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ollars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1541520"/>
            <a:ext cx="8424720" cy="5316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56520" y="42372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82800" y="34452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914560"/>
            <a:ext cx="5715000" cy="394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343400" y="189000"/>
            <a:ext cx="4800600" cy="4897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40520" y="71136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5160" y="170028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419640" y="4762440"/>
            <a:ext cx="27716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Bronn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wasbeschermingsgids 2.10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bank gewasbesche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een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arenb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pgreen/Adv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ectconsul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zwakt ge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door lang doorgroeien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door late stikstofgif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spreiding door versl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terperiode en warme vochtige z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dichte 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ras droog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ntilati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itten om zode droog te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zichtig met stikstofgift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giften, vooral einde groeiseizo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afru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eritage, Sign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-103680" y="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neeuwschimmel/voetr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2967120"/>
            <a:ext cx="5184720" cy="389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04812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40" y="54936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ksenk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rasmius ore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ruchtlichamen in de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strijding is moeil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gelijks prikken en vochtig m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maand vol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ringen verdwijnen vaak vanz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-57240" y="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ksenk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7920" cy="6543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23960" y="2565360"/>
            <a:ext cx="39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ndeplekken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hiobo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aeumannomyces gramin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066000" y="0"/>
            <a:ext cx="307800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0920" y="1150920"/>
            <a:ext cx="8569080" cy="5707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15080" y="13500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3538440"/>
            <a:ext cx="4249800" cy="2962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348000" y="18900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583960" y="472428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oodzwenkgras is re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p jonge 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el w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- e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 en zand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control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nodig zure meststoff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vt. ammoniumsulfaat of 4,2 g/m ijzersulf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khoudende meststoffen en dressings voork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-12276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ndeplekkenziekte/takeall p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4044960" cy="6093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862520" y="40320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oddr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etisaria fuciform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al in Engels raaigras en roodzwemk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s in veldbee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t weer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erder in nazomer en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r nu ook het hele 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kort aan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elmatige aanvoer van stikstof (zwavelzure ammoni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immel verdwijnt vanzelf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-529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odddra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42680" y="488880"/>
            <a:ext cx="1948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Pythium S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anneer treden schimmelziekten o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schimmel moet aanwezig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waardplant moet er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waardplant moet ontvankelijk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groeiomstandigheden moeten goed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wakteparas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em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nge 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venwichtige bemesting en bereg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uctuurbederf verm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-47520" y="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6227640" cy="4110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3080" y="135000"/>
            <a:ext cx="26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roonro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coro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410160" y="1773360"/>
            <a:ext cx="2733840" cy="43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nd juni tot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gels raai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oed aan de groei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ak maai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-54720" y="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roonro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5280" y="4221000"/>
            <a:ext cx="38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95280" y="1341360"/>
            <a:ext cx="3887640" cy="2567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480" y="260280"/>
            <a:ext cx="35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uinevlekkenro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poae-nemor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ldbeemd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naf apr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-87120" y="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uinevlekkenro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ontbreken van bestijdingsmiddelen wordt het vakmanschap sterker dan ooit aangesprok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ek het antwoord op de onderstaande fou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e voed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 ontworpen beplant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1341360"/>
          <a:ext cx="8424720" cy="47926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250920" y="1341360"/>
          <a:ext cx="8424720" cy="47926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lagen in de gras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3760" y="344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nger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610160" y="0"/>
            <a:ext cx="4533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oeiomstandighe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emvo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met weinig we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se bodemstructu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srijke omgeving of extensief beheerde grasvel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regelmatig rollen belemmert de larve in zijn bewe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un bosrijke omgeving 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58880" y="2728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mel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1978200"/>
            <a:ext cx="6659640" cy="4879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268360" y="0"/>
            <a:ext cx="4319640" cy="1728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686640" y="0"/>
            <a:ext cx="2457360" cy="3714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026040" y="4519440"/>
            <a:ext cx="3117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 en vochtig bodemoppervl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rme en vochtige perio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zorg voor een goede ontwatering van de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chte bovenlaag door veel betreden of rollen beperkt de scha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580000" y="549360"/>
            <a:ext cx="2519280" cy="1900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76800" y="6332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ouwvli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50920" y="2924280"/>
            <a:ext cx="57960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organische resten in de bovenlaa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door de mat te rollen verbetert het contact tussen wortels en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en stikstof toe om grasgroei t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emische bestrijding heeft alleen zin als de larven jong zij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192720" y="0"/>
            <a:ext cx="2951280" cy="2222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47160" y="8492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egenw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755640" y="1773360"/>
            <a:ext cx="4968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-waar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bruik van veel organische m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blijft lig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verschraling met zand in najaar en voorjaar na 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-verlaging met zuurwerkende meststoff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erzwakte pl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aien en maaiw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te) veel bemest (hierdoor grotere cellen met zwakkere celwan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ogtest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urstof tekort in de g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over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eheersing van schimmels is het toepassen van kennis ov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assoorten en r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dem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oei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imatologische 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- en afvoer van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chanis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betredingsintens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268360" cy="1833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124000" y="1838160"/>
            <a:ext cx="702000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643880" cy="5005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uni tot sept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, Veldbeemd, Roodzwenk en 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dag- en nacht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(lucht)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ventila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morgens berege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u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inig stikstof en goede kaligi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emopbouw 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-54360" y="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ownp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9:02:40Z</dcterms:created>
  <dc:creator>Peter</dc:creator>
  <dc:description/>
  <dc:language>en-US</dc:language>
  <cp:lastModifiedBy>laptop</cp:lastModifiedBy>
  <dcterms:modified xsi:type="dcterms:W3CDTF">2008-01-29T10:52:19Z</dcterms:modified>
  <cp:revision>30</cp:revision>
  <dc:subject/>
  <dc:title>Schimmelziekten op de baan</dc:title>
</cp:coreProperties>
</file>