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E0C6-F852-45B2-AC2B-083C28BD4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BE81-23E8-4ECF-B7F7-1936D957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B7BF-22A2-4842-9AA6-06BE23473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D6E1-587E-4287-8880-D3221BB20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1F0E-1B64-43E5-8516-5D1D1C941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746F3-8806-4EAC-85CC-4BBB50FB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9A2BD-84F9-48D8-B5E1-2164DC42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55C7-2A06-4F3D-961E-1B98F9DD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A0C4-5A29-4596-940B-2866CC7D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B426-5679-40EF-954F-A1917C6B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0F04-BFAD-4560-96F5-870DE17A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CF09-0DFA-41F8-B840-663463B6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A333E-0C3D-4823-91BA-74A26263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5745-2E49-4360-837B-D5864803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D8777-20E5-4707-AFAF-46AB3316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6665-69AB-49E6-AA95-6CAA3A2AF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61FF-F9E6-4D5C-A7A7-6152C5792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69AC-9671-4EB4-9224-D536EFF7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2F58-09EB-4810-B451-5560B5EE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97D9-ADF7-452A-A6F6-46F09DAC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D7FA-AAA5-41F9-B736-7D6EBD31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E887-505E-491C-B756-B8850344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A1B9-FAB2-42C0-8E21-9F4D7E8D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2ED7-5AD4-4496-9F4E-8B44F951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836E-DF33-40D6-B765-D2C079B04F1C}" type="slidenum">
              <a:rPr b="0" lang="nl-NL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7DD8-858C-418E-B23D-927AF79EA1FF}" type="slidenum">
              <a:rPr b="0" lang="nl-NL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et herkennen van ziekten en plagen in de groensect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ied hendrix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zuigscha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16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O.a. aantasting door bladluizen, wantsen, tripsen, witte vlie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soms gevolgd door aantasting door roetdauwschimmels; deze leven van de honingdauw, zoete stoffen door oa. bladluizen uitgescheid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or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2708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cten of larven, die zich invreten in harde plantende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trupsen, iepenspintkever, prachtkever en boktor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98560" y="1886040"/>
            <a:ext cx="31273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alvorm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Gallen zijn vergroeiingen van een plant als reactie op stoffen die door een larven van een galwesp worden afgeschei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o.a. eikengalwespen en gleditsiagalmu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627440" y="1887480"/>
            <a:ext cx="400860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reterij aan ondergrondse del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Emelten: pootlo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Engerlingen met po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Meike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Junike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Rozenkev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2781360" cy="2114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43280" y="4076640"/>
            <a:ext cx="27244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pins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inselnesten afkomstig van spinselmotten o.a. in meidoorn, vuurdoorn, kardinaalsmu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0920" y="2747880"/>
            <a:ext cx="410184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secten toptien 2005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“tuin en landschap”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ikenprocessierups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Kleine wintervlinder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fruitbomen en loofgewass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Paardenkastanjemineermot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kastanj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Spinselmotten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meidoorn, kardinaalsmu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Koningsschildluis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oa. Esdoorn, iep, kastanje en 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lin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Grote wintervlinder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o.a. wilg, berk, k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Wilgenhoutrups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ls, es, populier, wil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Perenprachtkever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peer, meidoor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Horzelvlinder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vooral popul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Groene eikenbladroller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ik( soms andere gewasse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chimme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Hebben geen bladgro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chadelijke soorten parasiteren op gewas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oortplanting o.a. door spoorvor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ommige soorten blijven over als proppen ingedroogd pluis (sclerotiën) of als rhizomorfen (vete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ymptomen schimme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1640" y="1371600"/>
            <a:ext cx="4064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dvlek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estvlek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mmelpluis (meeldauw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dva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topping van vaatbun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gvallen kiemplan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gelsch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51160" cy="23907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990720" y="4314960"/>
            <a:ext cx="327636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cterieziek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57200" y="1886040"/>
            <a:ext cx="4013280" cy="4172040"/>
            <a:chOff x="457200" y="1886040"/>
            <a:chExt cx="4013280" cy="4172040"/>
          </a:xfrm>
        </p:grpSpPr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>
              <a:off x="457200" y="1886040"/>
              <a:ext cx="4013280" cy="41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 txBox="1"/>
            <p:nvPr/>
          </p:nvSpPr>
          <p:spPr>
            <a:xfrm>
              <a:off x="457200" y="1886040"/>
              <a:ext cx="4013280" cy="4172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ffcc00"/>
                </a:buClr>
                <a:buFont typeface="Monotype Sorts" charset="2"/>
                <a:buChar char="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O.a. bloedingsziekte paardenkastanje en bacterievuur in appel, peer, meidoorn, vuurdoorn, photin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Verstopping vaatbundels, bloe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fsterven scheu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an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Zwammen (honingzwam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Zwakteparasiet o.a. op loof en naaldbom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Vormt rhizomorfen, “draden” bestaand uit mycel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11280" y="2449440"/>
            <a:ext cx="388944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pbouw presentati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z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 m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el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gemene informatie over het herkennen van ziekten en plagen in groengewasse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0 m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el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t werken met een zoeksleutel aan de hand van plaatmateriaal of meegebracht materia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0 m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russ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roeire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ontheid, verkleuring, chlor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isvorm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zwak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elangrijk: uitgaan van gezond uitgangsmateriaal 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een bestrijding van de ziekte mogelij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oorbeeld virusziekt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antasting Buddle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Chlorose (verbleken) en verkleu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Verspreiding o.a. door vegetatieve vermee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292720" y="2133720"/>
            <a:ext cx="29192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cterievuur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4248000" cy="3133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208480" y="1916280"/>
            <a:ext cx="288288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cterieziektes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estrijding vooral gericht op bedrijfshygie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wijderen zieke plan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Werken met ontsmet (snoei)gereedsch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dachte bomen/struiken als laatste snoei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altj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ndwormen of nemato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ptom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hterblijven in groe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svorming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dvlekke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ardig wortelstels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tting bollen en knol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42728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ymptomen of ziekteverschijnsel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hterblijven in groe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reterij en beschadi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kleur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immelpluis, sclerotië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vorm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wel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oorbeelden van enkele symptom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2708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reterij en aanwezigheid ins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dbeschadiging door slak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3124440" cy="2165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143000" y="4267080"/>
            <a:ext cx="304812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oorbeelden van symptom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Bladvlekken bij plata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wasdraden van appelbloedluis bij Mal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48320" y="4267080"/>
            <a:ext cx="3484440" cy="2395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48320" y="1676520"/>
            <a:ext cx="342900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est voorkomende ziekten en plaag organism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ec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imm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terië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rus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altj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gewervelde zoals slak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sect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an het schadebeeld herken je het insect of de familie van de schadeverwekker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zuigschade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luizen, wantsen en trips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mineren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mineervlie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gewone vreterij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evers en keverlarven;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rupsen (vlinderlarve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boren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evers en rups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galvorming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galmug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ewone vreterij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2708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psen en kevers, keverlarv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estal vreterij van blad, soms ook worte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22480" y="1886040"/>
            <a:ext cx="267948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miner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Larven van sommige insecten zoals mineervliegen vreten het bladmoes weg tussen de opperhuidslag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Paardekastanjemineermot, hulstvlie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411480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3:28:35Z</dcterms:created>
  <dc:creator>whendrix</dc:creator>
  <dc:description/>
  <dc:language>en-US</dc:language>
  <cp:lastModifiedBy>Administrator</cp:lastModifiedBy>
  <dcterms:modified xsi:type="dcterms:W3CDTF">2009-12-28T18:57:03Z</dcterms:modified>
  <cp:revision>23</cp:revision>
  <dc:subject/>
  <dc:title>Het herkennen van ziekten en plagen in de groensector</dc:title>
</cp:coreProperties>
</file>