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595-0A5A-45A4-BC62-A0799556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AE4-DDF9-42A9-BD39-93114A28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F8F-7938-4C41-A966-A9BB4E10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53D-3278-42A0-BC56-ED4E5C11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C271-5242-4F30-AC7C-C4F5D631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9225-E97C-4407-9FEF-AE0E01D6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474A-0D9A-464C-B257-A91AEE2B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7CE0-C75F-4EBE-BC11-57CEACD7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C6F8-351E-4F76-87BA-21F5EE05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2B7E-1FA7-43B4-ADCA-C917BC77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B10A-E48F-4447-9F4B-6196FDBE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3F5-4D32-4BBB-8DBA-C4823826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C9C0-C961-4A7B-B94D-D26BC9C4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8117-C8FD-4AD7-87CB-C28F83F6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6127-3EEF-41E5-9427-D9C13A79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F0A3-B86D-4130-AC18-6D601E59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D047-713A-46E9-AD7F-186E8710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B80-7BA8-48D1-8CD1-A0B8EDA0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E11-0E21-4BD0-B8A0-D4E3005F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219-7C32-4ACF-A3D8-B2C7F33D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7CF-BB00-4A97-8DDE-9A42CFB4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AB3-3C24-479A-A9A5-50C6D78E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5D8-4766-493F-8E73-329A26C3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18B-BE34-4934-9B56-5D2632A1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EF7F-58AC-45D2-9BC6-67D065650F9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6206-8F84-4209-B3FA-AD85C14A636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ptomen van plantenziekt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 herkennen van symptomen van aantastingen van plan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765000"/>
            <a:ext cx="4140360" cy="2695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92360" y="29242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mijt in de 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294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83440" y="30160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indegal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4616280"/>
            <a:ext cx="3483000" cy="2241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95960" y="649116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ik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40560" y="10800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vo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003640" y="3862440"/>
            <a:ext cx="4140360" cy="2995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31440" y="36655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z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62360"/>
            <a:ext cx="3043080" cy="399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76960" y="260280"/>
            <a:ext cx="37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fselwoek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971800" cy="3025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627280" y="0"/>
            <a:ext cx="2619360" cy="4038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25520" y="589284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bez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67440" y="40924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640" y="250812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497400" cy="597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67480" y="75420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sterf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68600" y="44514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97600" cy="561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73720" y="819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846760" y="2565360"/>
            <a:ext cx="3297240" cy="4292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71360" y="57340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083720" y="0"/>
            <a:ext cx="21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ster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3554280"/>
            <a:ext cx="5076720" cy="3303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23680" y="589284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76720" cy="3286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12320" y="1571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ep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76400" y="45957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624720" cy="508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92480" y="100080"/>
            <a:ext cx="25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nec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82840" y="373212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830760" cy="3871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05000" y="24300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breksziek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64200" y="31305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kort van een voedingsstof (Ka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952720" y="38736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vle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830760" cy="5516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932360" y="3886200"/>
            <a:ext cx="4211640" cy="2971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859280" y="907920"/>
            <a:ext cx="3772080" cy="2468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95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5640" y="3035160"/>
            <a:ext cx="5400720" cy="3141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70240" y="24300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n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51800" y="366084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5280" y="1889280"/>
            <a:ext cx="5329080" cy="411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04960" y="316080"/>
            <a:ext cx="19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vui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79720" y="3300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 op uitschei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n 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95640" y="2565360"/>
            <a:ext cx="4788000" cy="3551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708360" cy="2441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02000" y="179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teri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90520" y="63086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ak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1640" y="1504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3708360" cy="2346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24720" y="60930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p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33360" y="747720"/>
            <a:ext cx="29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immelpl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105440"/>
            <a:ext cx="320364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292720" y="1557360"/>
            <a:ext cx="3438360" cy="3424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84360" y="1197000"/>
            <a:ext cx="2619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05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67280" cy="264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9640" y="3213000"/>
            <a:ext cx="4211640" cy="314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08720" y="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8320" y="263700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7760" y="314172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3960" y="64911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ve Sneeuwbalh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076720" y="4149720"/>
            <a:ext cx="3598920" cy="231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742440" y="37321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zenhaan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03640" cy="320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24280" y="1773360"/>
            <a:ext cx="4419720" cy="2973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4006800"/>
            <a:ext cx="4356000" cy="2851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5600" y="6093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roene sparre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9600" y="335772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16020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22160" y="4941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t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500280" cy="543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00720" y="765000"/>
            <a:ext cx="3460680" cy="540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87840" y="10800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75280" y="61801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5486400" cy="3530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55200" y="387360"/>
            <a:ext cx="39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telwoeke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62784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3400" y="13557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aal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567080" cy="59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31040" y="61088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3183120" cy="489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638520" cy="504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00560" y="108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82720" y="58244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Perepracht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39080" y="56815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ilgehoutr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5040" cy="4630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7480" y="3492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inee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4160" y="48690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lstvli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850000" y="76500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63240" y="54450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astanje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556000" y="4160880"/>
            <a:ext cx="3600360" cy="269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53360" y="315612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thuya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62320" y="1428840"/>
            <a:ext cx="2619360" cy="4000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64640" y="5729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619360" cy="4019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10640" y="4524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j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33360"/>
            <a:ext cx="57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vorming door 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0:47:46Z</dcterms:created>
  <dc:creator>nugter</dc:creator>
  <dc:description/>
  <dc:language>en-US</dc:language>
  <cp:lastModifiedBy>laptop</cp:lastModifiedBy>
  <dcterms:modified xsi:type="dcterms:W3CDTF">2006-10-05T10:15:17Z</dcterms:modified>
  <cp:revision>7</cp:revision>
  <dc:subject/>
  <dc:title>Dia 1</dc:title>
</cp:coreProperties>
</file>