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4F1E-9FE3-4EDB-ACA7-EBC970B93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187D-E206-4839-B42F-A40E6D37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0F58-CE40-4C6C-AE4C-DE35707CB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F250-F9EB-4007-8643-BB6BEAEFE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A4E1-E1EE-4919-9BF3-04A0E32C9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44AB-3814-476C-A807-F3716420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974F-88B7-4B9E-B8DA-DB9FD6D6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3160-D7DA-4B80-9907-59DF8811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2BEB-5568-4B7A-8CC2-8A7BE034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CD23-1342-45FF-B5E6-EAB07F19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76B2-19F5-4B5C-9C44-6AFC2FB7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7D21-506D-4BFA-80E3-FA1EB820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CA19-5642-4F40-8F7F-901D8E4A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FFE1-57B9-4D8C-B610-60453DDD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2CE9-8648-4A61-9719-1D688176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BDD2-7F2A-4005-BD28-4C292F733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C779-ED47-4823-B885-A05D48E81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084F-ED29-44A9-8A1C-0AD5EE86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514F-405E-4D66-B7FB-D8245930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BF05-D86B-4B2A-98B0-9980D510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9256-40D3-48E0-8C77-A4DBF5C0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8E24-C7AA-4FD2-AC10-5A62C3DA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F5B6-9757-4E60-AFB4-3C45A75B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25D4-E102-459C-B500-64E844ED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C70F-FB5C-40E8-8199-D6A7F48D8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56AD-CC78-47A9-82B6-D7E1902B7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39257"/>
                </a:solidFill>
                <a:latin typeface="Arial"/>
              </a:rPr>
              <a:t>Opslag van gewasbeschermingsmiddelen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3483000" cy="36021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643280" y="3110040"/>
            <a:ext cx="4098960" cy="32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Algemene eisen 2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oog, koel en uit de z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spla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blu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bsorbtiemateri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edgekeurde instructie (P7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ctra (NEN 10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oezicht op roken en open v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Nieuwe AMVB (2006)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’s bep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olgen van eventuele calamiteit beheersbaar ma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voor is kennis van de regels van be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Opslag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al ingericht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voldoen aan ei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en voor opslag van gewasbeschermings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oeibare middelen onde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door geen verontreiniging andere 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utel bezit 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484360" y="549360"/>
            <a:ext cx="428616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regelgeving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lende instaties controler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ID: gewasbeschermings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-SZW: gewasbeschermingswet en gewasbeschermingsmiddelenbesl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meente: AMvB’s en plaatselijke verord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edselveiligheid/EurepG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b39257"/>
                </a:solidFill>
                <a:latin typeface="Arial"/>
              </a:rPr>
              <a:t>Eisen aan oplslag van gewasbeschermingsmiddelen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 25 kg opslag: geen ei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5 kg tot max 400 kg: afgesloten ruimte of k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ddelen die binnen 48 uur worden gebruikt: op vloeistofdichte vl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Eisen aan de berging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veiligheidsei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oeistofdichte vl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lic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w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Algemene eisen 1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slu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e bouw en standpla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uis)d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ting van de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al voor de schapp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schuwingsbord op de d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1042920" y="981000"/>
            <a:ext cx="7200720" cy="4895640"/>
            <a:chOff x="1042920" y="981000"/>
            <a:chExt cx="7200720" cy="4895640"/>
          </a:xfrm>
        </p:grpSpPr>
        <p:sp>
          <p:nvSpPr>
            <p:cNvPr id="228" name=""/>
            <p:cNvSpPr/>
            <p:nvPr/>
          </p:nvSpPr>
          <p:spPr>
            <a:xfrm>
              <a:off x="1042920" y="981000"/>
              <a:ext cx="7200720" cy="489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Gewasbeschermingsmiddele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" descr="PIC 201 Vuur, open vlam en roken verboden * Ø 100 mm uitgevoerd in  Aluminium plaat"/>
            <p:cNvPicPr/>
            <p:nvPr/>
          </p:nvPicPr>
          <p:blipFill>
            <a:blip r:embed="rId1"/>
            <a:stretch/>
          </p:blipFill>
          <p:spPr>
            <a:xfrm>
              <a:off x="4907880" y="1905120"/>
              <a:ext cx="2265840" cy="23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MINIPIC 0704 Giftige Stoffen"/>
            <p:cNvPicPr/>
            <p:nvPr/>
          </p:nvPicPr>
          <p:blipFill>
            <a:blip r:embed="rId2"/>
            <a:stretch/>
          </p:blipFill>
          <p:spPr>
            <a:xfrm>
              <a:off x="1974600" y="1956960"/>
              <a:ext cx="2401200" cy="219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"/>
          <p:cNvSpPr/>
          <p:nvPr/>
        </p:nvSpPr>
        <p:spPr>
          <a:xfrm>
            <a:off x="1906920" y="5013360"/>
            <a:ext cx="541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oden voor onbevoeg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0:39:42Z</dcterms:created>
  <dc:creator>default</dc:creator>
  <dc:description/>
  <dc:language>en-US</dc:language>
  <cp:lastModifiedBy>Administrator</cp:lastModifiedBy>
  <dcterms:modified xsi:type="dcterms:W3CDTF">2009-12-28T17:50:09Z</dcterms:modified>
  <cp:revision>3</cp:revision>
  <dc:subject/>
  <dc:title>Opslag van gewasbeschermingsmiddelen</dc:title>
</cp:coreProperties>
</file>