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9D7-F13B-4639-B5C9-B9A6F636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9D2-A8A5-478E-99B1-2B4545B7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860-8BD2-47F6-B55F-00A352C3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527-006E-425B-9ED6-625F009B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DA6B-5146-43DF-AFA5-2096F461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FC12-5D0B-4C11-98F0-2AE5B4A2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C835-CEC3-47EF-9078-7DAF863E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FD7C-17D7-49FB-96DF-62755E8B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B482-9061-4064-8B20-22534C3C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7C47-D3B0-47AF-8172-7B49BABC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201F-8ECF-4DE4-B33C-48F61253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C96D-9ECE-4ECF-937F-6E7F1A3D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AF87-6C52-420E-B0F8-2E9E00B2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B85E-59C3-4B17-9C15-E8A6BB10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0427-C383-42FA-911B-8246AD39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B8BE-6D7C-4082-B359-C60EA595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EEE3-E622-44FC-8632-8914A7CA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4AEF-055D-4B1B-8D99-DB500D5B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EFD-037B-496A-AD7E-A15369A8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BDF-B091-4BD0-BF07-2C6FE031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D0DD-7C7A-4B4E-AFC5-8554C70F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5B0-F686-441E-838A-990486DE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CE5-93D6-4791-8368-0FC28DFA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F64-5155-4A72-A8E5-35A67ED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0D20-E664-481F-A230-EAB0FA7738AB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92A5-1AA5-4093-8A42-D8B9BF9C7119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issieget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2401920"/>
            <a:ext cx="91440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Figuur bij indicator Uitspoeling en drainage van bestrijdingsmiddelen, 2000"/>
          <p:cNvPicPr/>
          <p:nvPr/>
        </p:nvPicPr>
        <p:blipFill>
          <a:blip r:embed="rId1"/>
          <a:stretch/>
        </p:blipFill>
        <p:spPr>
          <a:xfrm>
            <a:off x="539640" y="0"/>
            <a:ext cx="78850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gs welke ro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van grondontsmettings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overige 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Uitspoeling naar grond en drain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ri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inigen van spuitapparatu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fspoelen naar het oppervlak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indero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ecifieke ro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oor het mil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nte middelen verdwijnen n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s, DDT, HCB, γ-HCH en β-hepta-chloor-epoxide zijn nóg ber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pervlakte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or verdamping ongewenste versprei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den van nuttige insec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bod op persistente midd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 lange termijn bereiken van de streefwaarden voor water, bodem en l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spreidings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en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elen met toekom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Committed to g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nieuwe stoffen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mplementatie van het voorzorgprincip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enbaar maken van informati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 zeer korte termijn verzamelen van gegevens over gevaarlijke eigenschappen van stoffen en product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kwaliteitsverbetering van stoffenbeleid op ondernemingsniveau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vulling van ketenverantwoordelijkheid (communicatie over gevaren, risico's en beheersmaatregelen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et niet meer gebruiken van stoffen of producten, die een onaanvaardbaar gevaar of risico met zich meedra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een carcinogenen, mutagene, reprotoxische (CMR-) stoffen of zeer persistente, bioaccumulerende, toxische (PBT-) stoffen in consumentenproducten en open toepassingen en zoveel mogelijk vermijden van dergelijke stoffen in industriële toepassin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reven naar beëindiging van emissies van PBT-stoffen binnen één generatie, uiterlijk 20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gecontroleerd weglekken van gewasbeschermingsmiddelen do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vo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sl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dadige toepas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n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olgen van 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oppervlakte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drink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ilieu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mens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hiusdier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 gaat het he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1280" y="912960"/>
            <a:ext cx="7848360" cy="58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in de landbouw stab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Gebruik chemische bestrijdingsmiddelen, sectoren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zet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0" y="1628640"/>
          <a:ext cx="9143640" cy="5228640"/>
        </p:xfrm>
        <a:graphic>
          <a:graphicData uri="http://schemas.openxmlformats.org/drawingml/2006/table">
            <a:tbl>
              <a:tblPr/>
              <a:tblGrid>
                <a:gridCol w="516600"/>
                <a:gridCol w="2481840"/>
                <a:gridCol w="838800"/>
                <a:gridCol w="838080"/>
                <a:gridCol w="838800"/>
                <a:gridCol w="840240"/>
                <a:gridCol w="839880"/>
                <a:gridCol w="877680"/>
                <a:gridCol w="1071720"/>
              </a:tblGrid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 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 8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3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ond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 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3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verige 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erale o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Nefy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jun07/0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8360" y="1214280"/>
          <a:ext cx="8229600" cy="5643720"/>
        </p:xfrm>
        <a:graphic>
          <a:graphicData uri="http://schemas.openxmlformats.org/drawingml/2006/table">
            <a:tbl>
              <a:tblPr/>
              <a:tblGrid>
                <a:gridCol w="641520"/>
                <a:gridCol w="1892160"/>
                <a:gridCol w="942840"/>
                <a:gridCol w="1065240"/>
                <a:gridCol w="1629000"/>
                <a:gridCol w="885600"/>
                <a:gridCol w="11732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ducti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.o.v. 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werkzam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 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 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0 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 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edelijke bepla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 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 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0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rtvel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hardin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 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 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orba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terl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 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bruikte stoff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i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lap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 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chloben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 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0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 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maz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 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C/okt02/0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partic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584280"/>
                <a:gridCol w="2423880"/>
                <a:gridCol w="2525760"/>
                <a:gridCol w="2695680"/>
              </a:tblGrid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 van totale 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                             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wa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jzer(II)sulf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naanzu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iperonylbutox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llusc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ldehy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mrt06/0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in andere l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Figuur bij indicator Afzet gewasbeschermingsmiddelen voor landbouwkundig gebruik in enkele landen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12:05Z</dcterms:created>
  <dc:creator>Peter</dc:creator>
  <dc:description/>
  <dc:language>en-US</dc:language>
  <cp:lastModifiedBy>Administrator</cp:lastModifiedBy>
  <dcterms:modified xsi:type="dcterms:W3CDTF">2009-12-28T17:45:33Z</dcterms:modified>
  <cp:revision>4</cp:revision>
  <dc:subject/>
  <dc:title>Gewasbescherming</dc:title>
</cp:coreProperties>
</file>