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FF4A5-84D8-4B39-88D5-1D6F3DCD0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41F06-6D6D-44DC-B896-474826654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AF5FE-D168-4F52-A209-FBBA0340C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978AA-0385-49A2-ACF7-659BF4E11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A554C-1C8E-4EF7-AB70-F817DBB79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73580-DB56-448F-9144-EEB9DF2DE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3E4A4-3230-48B1-A682-CAEDE4FD7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BBDFB-CF63-4367-A903-7C990AEEF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64FEA-CD83-4E40-BFF1-2C4AA3B4A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1317E-647E-4299-99E0-9EB79AD4A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80172-5897-43DE-92F3-5FFD9B017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856F4-B56A-4CD1-8A70-201900D91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80F2-3055-4DA8-A659-D7D49F6669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gewasbescherming.nl/index.asp?strPageType=styleit&amp;intStyleITID=10089"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chermende kled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andere veiligheidsvoorzien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king koolstoffilters</a:t>
            </a:r>
            <a:endParaRPr b="0" lang="en-US" sz="4400" spc="-1" strike="noStrike">
              <a:solidFill>
                <a:srgbClr val="000000"/>
              </a:solidFill>
              <a:latin typeface="Arial"/>
            </a:endParaRPr>
          </a:p>
        </p:txBody>
      </p:sp>
      <p:pic>
        <p:nvPicPr>
          <p:cNvPr id="61" name="" descr=""/>
          <p:cNvPicPr/>
          <p:nvPr/>
        </p:nvPicPr>
        <p:blipFill>
          <a:blip r:embed="rId1"/>
          <a:stretch/>
        </p:blipFill>
        <p:spPr>
          <a:xfrm>
            <a:off x="250920" y="1700280"/>
            <a:ext cx="8642160" cy="46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e lang werkt een filte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8 gebruiksur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maximaal 1 maand moet het filter vervangen word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andere maatstaf voor de gebruiks­duur is wanneer men de geur van middelen door het filter kan ruiken, moet het filter vervangen worden, maar eigenlijk bent u dan te l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je kennis over veilighei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1"/>
              </a:rPr>
              <a:t>http://www.gewasbescherming.nl/index.asp?strPageType=styleit&amp;intStyleITID=1008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kies uit een spel of een qui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6" name="" descr=""/>
          <p:cNvPicPr/>
          <p:nvPr/>
        </p:nvPicPr>
        <p:blipFill>
          <a:blip r:embed="rId1"/>
          <a:srcRect l="8269" t="17709" r="13223" b="2929"/>
          <a:stretch/>
        </p:blipFill>
        <p:spPr>
          <a:xfrm>
            <a:off x="0" y="0"/>
            <a:ext cx="9144000" cy="693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komt het middel het lichaan binnen?</a:t>
            </a:r>
            <a:endParaRPr b="0" lang="en-US" sz="4000" spc="-1" strike="noStrike">
              <a:solidFill>
                <a:srgbClr val="000000"/>
              </a:solidFill>
              <a:latin typeface="Arial"/>
            </a:endParaRPr>
          </a:p>
        </p:txBody>
      </p:sp>
      <p:pic>
        <p:nvPicPr>
          <p:cNvPr id="44" name="" descr=""/>
          <p:cNvPicPr/>
          <p:nvPr/>
        </p:nvPicPr>
        <p:blipFill>
          <a:blip r:embed="rId1"/>
          <a:stretch/>
        </p:blipFill>
        <p:spPr>
          <a:xfrm>
            <a:off x="0" y="2133720"/>
            <a:ext cx="9144000" cy="28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nneer persoonlijke beschermingsmiddelen</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beschikbaar stellen van de juiste persoonlijke beschermingsmiddelen is een verplichting van de werkgever (Arbowet). De werknemer is verplicht om de persoonlijke beschermingsmiddelen doelmatig te gebruiken. Werknemers die het gebruik weigeren mogen de betreffende werkzaamheden niet uitvoeren (de werkgever blijft verantwoordelijk). De werkgever mag bij het weigeren van het gebruik sancties nemen ( bijvoorbeeld ontsla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Blootstellingmomenten</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 praktijk is gebleken dat de belangrijkste blootstellingmomenten zij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gebruiksklaar maken van de spuitvloeisto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jdens het spuit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schoonmaken of repareren van apparatu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herbetreden van het behandelde gew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al tijdens het aanmaken van de spuitvloeistof kan men in aanraking komen met hoge concentra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giftiging via de huid</a:t>
            </a:r>
            <a:endParaRPr b="0" lang="en-US" sz="4400" spc="-1" strike="noStrike">
              <a:solidFill>
                <a:srgbClr val="000000"/>
              </a:solidFill>
              <a:latin typeface="Arial"/>
            </a:endParaRPr>
          </a:p>
        </p:txBody>
      </p:sp>
      <p:pic>
        <p:nvPicPr>
          <p:cNvPr id="50" name="" descr=""/>
          <p:cNvPicPr/>
          <p:nvPr/>
        </p:nvPicPr>
        <p:blipFill>
          <a:blip r:embed="rId1"/>
          <a:stretch/>
        </p:blipFill>
        <p:spPr>
          <a:xfrm>
            <a:off x="2411280" y="1484280"/>
            <a:ext cx="3229200" cy="537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embescherming</a:t>
            </a:r>
            <a:endParaRPr b="0" lang="en-US" sz="4400" spc="-1" strike="noStrike">
              <a:solidFill>
                <a:srgbClr val="000000"/>
              </a:solidFill>
              <a:latin typeface="Arial"/>
            </a:endParaRPr>
          </a:p>
        </p:txBody>
      </p:sp>
      <p:pic>
        <p:nvPicPr>
          <p:cNvPr id="52" name="" descr=""/>
          <p:cNvPicPr/>
          <p:nvPr/>
        </p:nvPicPr>
        <p:blipFill>
          <a:blip r:embed="rId1"/>
          <a:stretch/>
        </p:blipFill>
        <p:spPr>
          <a:xfrm>
            <a:off x="0" y="1349280"/>
            <a:ext cx="5508720" cy="5508720"/>
          </a:xfrm>
          <a:prstGeom prst="rect">
            <a:avLst/>
          </a:prstGeom>
          <a:ln w="0">
            <a:noFill/>
          </a:ln>
        </p:spPr>
      </p:pic>
      <p:pic>
        <p:nvPicPr>
          <p:cNvPr id="53" name="" descr=""/>
          <p:cNvPicPr/>
          <p:nvPr/>
        </p:nvPicPr>
        <p:blipFill>
          <a:blip r:embed="rId2"/>
          <a:stretch/>
        </p:blipFill>
        <p:spPr>
          <a:xfrm>
            <a:off x="6078600" y="1341360"/>
            <a:ext cx="3065400" cy="551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half‑ en volgelaatsmaskers zijn voorzien van ­filters (deze worden in een filterhuis gelegd) of schroeffilters (filter­bussen). Het filterpatroon of de filterbus moet voorzien zijn van een vermelding tegen welke stof(fen) bescherming wordt gebod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ilters worden als volgt ingedeel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offilters (tegen vaste deeltj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lstoffilters (tegen dampen of gass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combineerde filters (tegen vaste deeltjes en gassen of dam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ffilters filt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1: tegen hinder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2: tegen schade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3: tegen giftig fijnstof (bijvoorbeeld asbest is kankerverwekk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olstoffilters voor gassen en dampe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ine kleurcode lettercode A: gewone gewasbescherm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jze kleurcode lettercode B: blauwzuur–forma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e kleurcode lettercode E: zwaveldiox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ene kleurcode lettercode K: ammoni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59:01Z</dcterms:created>
  <dc:creator>Administrator</dc:creator>
  <dc:description/>
  <dc:language>en-US</dc:language>
  <cp:lastModifiedBy>Administrator</cp:lastModifiedBy>
  <dcterms:modified xsi:type="dcterms:W3CDTF">2009-12-28T17:42:21Z</dcterms:modified>
  <cp:revision>4</cp:revision>
  <dc:subject/>
  <dc:title>Beschermende kleding</dc:title>
</cp:coreProperties>
</file>