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016-220E-4934-9535-2D5C3487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C9C-BDD2-46E4-BB5D-1B4D13A5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EA7-A15E-47F1-A119-6719D397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BD4-9F30-4CAF-8632-548C5E20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56602-8BBB-4721-91DD-F643F3AE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813CF-BCCE-48DF-820F-B533294B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44D89-90DA-445E-BDA9-AD88870C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1D638-2E46-4F1E-A7A2-71157376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A0083-F986-49CB-A90E-1165F257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86412-E5F3-476C-BF52-1A5583AC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701B7-D3D3-4AB5-B213-5AA1D4E4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27D-5A02-408B-B957-7C45745C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D6FEA-D32B-47D7-A016-50F24155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4BB53-E369-43FF-A6CE-61F982AB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204F1-2E09-4259-962E-1C7C3237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E141E-6584-488C-B485-5995CC9C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3018E-6C06-41B4-B3DE-97C211EA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6B4-0C03-44FC-B9B1-8E7B58AA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6945-5EED-442A-A8DE-08EA2686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1C8-D302-4A0D-B2B2-D155D864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F5D-2AA7-453D-9CF3-C5BA16C2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154-CB59-48EE-8DBF-BD5730FF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88F-2B7B-410B-BA0F-FB1B7033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72A-A1ED-4161-B0E8-2418E315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948A-75C8-4B87-A434-BCC73F868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B0D8-6050-4FF3-8E71-EF24ADFB9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grodyn.org/Gewasbeschermingsplan/2009/Gewasbeschermingsplan%202009-grasland.pdf" TargetMode="External"/><Relationship Id="rId3" Type="http://schemas.openxmlformats.org/officeDocument/2006/relationships/hyperlink" Target="http://www.clm.nl/publicaties/data/gewaslogboek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m.nl/publicaties/data/gewaslogboek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ewasbeschermings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or iedere toepas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ppenplan in 3 del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vragen ter voorbereiding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het opstellen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et invullen van het logb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1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teelten, dat is bij een golfba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tee, fairway, green en zelfs de 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ter deze samen te voegen tot de b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ewasbeschermingsstrategie is overeenkoms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de vragen (2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ziekten, plagen en onkruiden zijn in de eigen baan van bel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belasting van het milieu kan voorkomen? Oppervlaktewater? Grondwat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zijn de jaarlijkse kos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arbo zaken zijn voor het personeel van bela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 effect kun je verwachten op natuurlijke vijand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ke maatregelen heb je het afgelopen jaar genom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was daarvan het eff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 heb je hiervoor gekoz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zou je nog meer of anders hebben kunnen do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2;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het plan opste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wnload ëen invulformuli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agrodyn.org/Gewasbeschermingsplan/2009/Gewasbeschermingsplan%202009-grasland.pdf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ul de relevante delen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 dieper in op de belangrijke proble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3; het logb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n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e ook de site van CLM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37:29Z</dcterms:created>
  <dc:creator>default</dc:creator>
  <dc:description/>
  <dc:language>en-US</dc:language>
  <cp:lastModifiedBy>default</cp:lastModifiedBy>
  <dcterms:modified xsi:type="dcterms:W3CDTF">2009-02-03T11:04:39Z</dcterms:modified>
  <cp:revision>2</cp:revision>
  <dc:subject/>
  <dc:title>Gewasbeschermingsplan</dc:title>
</cp:coreProperties>
</file>