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2D75-29AC-4D9F-B393-33D0CF09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472-AF7A-4AB6-ACF6-BFDF2724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76D-6CB5-4DB7-A47B-570CE08C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08E-436C-4F99-91A8-25BAC411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2D66-7EDE-42D5-879A-B4C54DE6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6FF3-5856-4E46-B4ED-C4C82482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261F-946E-4CBD-8466-9564F6D9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AB95-8808-444C-8BFC-A4FA4EAF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5EE2-26F3-4F3F-ADF4-B1DF93D7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1FDF-EE9C-45C8-A4D1-411AB629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60B8-784A-4885-B7A9-039B77C1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BC1-68DC-41B3-B68E-AF979047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A216-FEFF-425F-B567-589DACD1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058B-5DAA-4F4A-8FEB-FDEB55AA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5AA2-CF29-4EB6-A0ED-4D5456DB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E7E9-4EE1-4AA1-AB34-4522BAC0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FC6B-9F01-4E02-B63E-FEA2EECC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49A-5F75-425E-811A-937F2DE5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485-73FC-4B43-AF82-95696D09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8E0-E64C-45C0-9620-E4997AE1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6DA-6127-4223-8C36-7BBCC388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93D6-56B7-4532-A35B-3431815B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60B2-81D8-4693-9256-306F5C43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C81-FFBD-4878-B0A6-0DA3C8A9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7BF1-98DF-4164-A5F5-547D3E380B7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7727-3EA9-4FCC-87B9-FA99929B7FC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eti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ystemische werking, wordt in de sapstroom opgeno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ontactmiddelen, werkt alleen waar het gewas wordt geraa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electieve middelen, doodt alleen een soort of groep insecten of onkru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llesdoders, maakt geen onders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reventieve middelen voorkomt een pla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uratieve middelen gene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vaarsymbol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0" descr=""/>
          <p:cNvPicPr/>
          <p:nvPr/>
        </p:nvPicPr>
        <p:blipFill>
          <a:blip r:embed="rId1"/>
          <a:stretch/>
        </p:blipFill>
        <p:spPr>
          <a:xfrm>
            <a:off x="0" y="112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4" name="0" descr=""/>
          <p:cNvPicPr/>
          <p:nvPr/>
        </p:nvPicPr>
        <p:blipFill>
          <a:blip r:embed="rId2"/>
          <a:stretch/>
        </p:blipFill>
        <p:spPr>
          <a:xfrm>
            <a:off x="0" y="1916280"/>
            <a:ext cx="666720" cy="657000"/>
          </a:xfrm>
          <a:prstGeom prst="rect">
            <a:avLst/>
          </a:prstGeom>
          <a:ln w="0">
            <a:noFill/>
          </a:ln>
        </p:spPr>
      </p:pic>
      <p:pic>
        <p:nvPicPr>
          <p:cNvPr id="185" name="0" descr=""/>
          <p:cNvPicPr/>
          <p:nvPr/>
        </p:nvPicPr>
        <p:blipFill>
          <a:blip r:embed="rId3"/>
          <a:stretch/>
        </p:blipFill>
        <p:spPr>
          <a:xfrm>
            <a:off x="0" y="2708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6" name="0" descr=""/>
          <p:cNvPicPr/>
          <p:nvPr/>
        </p:nvPicPr>
        <p:blipFill>
          <a:blip r:embed="rId4"/>
          <a:stretch/>
        </p:blipFill>
        <p:spPr>
          <a:xfrm>
            <a:off x="0" y="3500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7" name="0" descr=""/>
          <p:cNvPicPr/>
          <p:nvPr/>
        </p:nvPicPr>
        <p:blipFill>
          <a:blip r:embed="rId5"/>
          <a:stretch/>
        </p:blipFill>
        <p:spPr>
          <a:xfrm>
            <a:off x="0" y="5013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8" name="0" descr=""/>
          <p:cNvPicPr/>
          <p:nvPr/>
        </p:nvPicPr>
        <p:blipFill>
          <a:blip r:embed="rId6"/>
          <a:stretch/>
        </p:blipFill>
        <p:spPr>
          <a:xfrm>
            <a:off x="0" y="580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9" name="0" descr=""/>
          <p:cNvPicPr/>
          <p:nvPr/>
        </p:nvPicPr>
        <p:blipFill>
          <a:blip r:embed="rId7"/>
          <a:stretch/>
        </p:blipFill>
        <p:spPr>
          <a:xfrm>
            <a:off x="0" y="4292640"/>
            <a:ext cx="666720" cy="657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86680" y="1216080"/>
            <a:ext cx="70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dshoofd”. Symbool voor zeer vergiftige en vergiftig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5200" y="2008080"/>
            <a:ext cx="85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askruis”. Voor middelen die irriterend zijn of schadelijk voor de gezond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9800" y="280044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m”. Voor licht ontvlambar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3960" y="3592440"/>
            <a:ext cx="51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m boven cirkel”. Voor oxyderend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4508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7200" y="4384800"/>
            <a:ext cx="81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b. van inwerkend zuur op materiaal of lichaamsdeel. Voor bijtende middel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0520" y="510552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ploffende bom”. Voor explosiev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8720" y="589752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aarlijk voor het mili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ketinfor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erkna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oelatingsnumm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rd van het prepara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zame 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ha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houd van de verp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aarschuwingszi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ligheidsaanbev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18456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wettelijk gebruiksvoorschrif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schadelijke organis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gewas of gewasgro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- of verzorgingssitu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omgeving waar de teelt plaatsvin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tijdstip van bestrij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lle andere toepassingen zijn verbod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veiligheidsterm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ijd tussen de laatste toepassing en de oog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is afhankelijk van de afbraaksnel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fvoeren van restanten en verpakk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 mogelijkhed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rug naar de leveranci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aar KCA-depo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drijfsafv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e STORL aanduiding geeft hierover inform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564000" y="4552920"/>
            <a:ext cx="3960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 oefening etiketle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2320" y="306864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454c6"/>
                </a:solidFill>
                <a:uFillTx/>
                <a:latin typeface="Arial"/>
                <a:hlinkClick r:id="rId1"/>
              </a:rPr>
              <a:t>klik hier voor een voorbe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stentie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felijk overdraagba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in blokk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ever niet me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maatregelen en bedrijfshygië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tige 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eringen en spuitinterva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anmaken van de spuitvloeist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etiket lez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oeveelheid middel bereken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persoonlijke beschermingsmiddelen aandoen/aanbren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apparatuur/toedieningsapparatuur klaarmak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iddel klaarmaken voor gebrui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ustreini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antwoord opruimen van de verpakking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edienen midd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restant verantwoord afvoer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choonmaken van apparatuur en beschermingsmiddel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braak van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acteriën, zonlicht, microorganismen, chemische reac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braaksnelheid aangeduid met DT-50 waarde = halfwaardetijd in 30 da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T-waarde van meer dan 60 dagen = een moeilijk afbreekbaar product =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mt op plaatsen terecht zoals grond- en regen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nstell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rkzame stof (W.S. of A.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verpakking aangegeven als percent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ak vaste stoffen of olieachtige 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oit als pure stof in verband met allerlei bezwa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vorm waarin de stof is gebracht is de “formulerin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uit bestaan de middele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plos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raagstof of vul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pergeermiddel (de w.s. blijft zwev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mulgator (het w.s. blijft gemeng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Uitvloe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ch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nti-schuimmidd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eur- en geur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spergeer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22878" t="18276" r="27257" b="8480"/>
          <a:stretch/>
        </p:blipFill>
        <p:spPr>
          <a:xfrm>
            <a:off x="1258920" y="1768320"/>
            <a:ext cx="597708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formuler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korr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low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ngbare olië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aterige oploss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uif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ranul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rooi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ok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asnevelformuler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eroso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24000" y="4307040"/>
            <a:ext cx="2808360" cy="2550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4836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751280" y="5200560"/>
            <a:ext cx="4392720" cy="1657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840360" y="0"/>
            <a:ext cx="2303640" cy="2736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846160" y="6093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itk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2421000"/>
            <a:ext cx="2149560" cy="443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2195640" y="1773360"/>
            <a:ext cx="2065320" cy="2305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422160" y="220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ul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77080" y="2924280"/>
            <a:ext cx="129528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914400" cy="64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4716360" y="1628640"/>
            <a:ext cx="2087640" cy="1729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162320" y="3357720"/>
            <a:ext cx="4981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waterige oplo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2:58:26Z</dcterms:created>
  <dc:creator>Peter</dc:creator>
  <dc:description/>
  <dc:language>en-US</dc:language>
  <cp:lastModifiedBy>Administrator</cp:lastModifiedBy>
  <dcterms:modified xsi:type="dcterms:W3CDTF">2009-12-28T17:39:34Z</dcterms:modified>
  <cp:revision>7</cp:revision>
  <dc:subject/>
  <dc:title>Gewasbescherming</dc:title>
</cp:coreProperties>
</file>