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0A31-C71D-4AC5-A3A2-CCDC6AA40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E2E3-59F9-4CCD-96EB-F7CFBB192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92F5-3BE8-4475-8BD4-FBB567D34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37B7-59C0-4595-A7D9-7BE8FBDF5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E22E-2F06-4274-9554-A131AC102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E221-720C-4A5A-8656-C91CB2CB4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3D01-28C2-48A8-B82A-F92CEFEAD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209A-5F1B-4CB3-A578-94E31DDBE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E674-ADBD-4EAE-97F6-FAB0F026C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0933-85DE-40B7-B240-1C7CCB7B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E8C4-15EF-4FA2-8B96-A4EE69EC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B5AB-6C95-4975-ABE9-CD4FDBF5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A4F89-DB5E-4172-9E9F-D2C3C6BF3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llisapi.dll/fetch/93689552/93691489/t-gewasbescherming.htm.html?nodeid=93689073&amp;vernum=-2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erekening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en met ha en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are = 100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ha = 10.000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, = 100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en met liters en ml (= c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, = c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liter = 100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liter per ha = 1000 ml per 10.000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 liter per ha = 1000 ml per 100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 1 are is dat: (1/100 van 1000 ml =) 1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8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en veldspuit heeft een inhoud van 1000 liter. Hiermee wordt op een perceel een bespuiting uitgevoerd. Op het etiket wordt voor het middel een dosering van 5 liter per ha aangegeven. De hoeveelheid water per ha is 400 liter. Hoeveel middel moet worden gereed gemaakt voor 1 tankvull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9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 een perceel wordt een bespuiting uitgevoerd. De dosering van het middel is 5 liter per ha. De hoeveel­heid water per ha is 400 liter. De tank moet voor de laatste omgang bijgevuld worden. Er is nog 100 liter spuitvloeistof in de tank. Er moet nog 2 ha gespoten worden. De noodzakelijke hoeveelheid rest­vloeistof is 25 li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 hoeveel water moet worden bijgevul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eveel middel moet hier aan worden toegevoeg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10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een bietenperceel van 5 ha wordt een rijenbepuiting uitge­voerd. De rijenaf­stand is 50 cm. De te bespuiten strook is 20 cm. Gerekend naar een volveldsbe­spuiting zou 300 liter per ha worden verspoten worden en de dosering van het middel zou 5 liter per ha zijn. De noodzakelijke hoeveelheid restvloeist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aagt 25 liter (De veldspuit heeft een tank van 1000 li­t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veel spuitvloeistof moet er worden gereedgemaak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veel middel moet hier aan worden toegevoeg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reken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5050"/>
                </a:solidFill>
                <a:uFillTx/>
                <a:latin typeface="Arial"/>
                <a:hlinkClick r:id="rId1"/>
              </a:rPr>
              <a:t>rekenoefe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ters en kilo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liter is 1000 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kilo is 1000 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ml weegt ongeveer 1 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liter weegt ongeveer 1 k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1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 een perceel van 2,5 ha moet een vloeibaar onkruidgewasbeschermingsmiddel worden toegediend. Op het etiket wordt een dose­ring van 3 liter per ha vermeld.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eveelheid water bij deze behandeling is 200 liter per 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reken de hoeveelheid middel die nodig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reken de hoeveelheid water die nodig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2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1500 m² moet een vloeibaar ziektebestrijdingsmiddel worden toegediend in een opgaand gewas. De `dosering' (beter: meng­verhouding of concentratie) is volgens het etiket 50 ml middel per 100 liter water. De benodigde hoeveelheid spuitvloeistof is 20 liter per 100 m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benodigde hoeveelheid water in li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benodigde hoeveelheid middel in m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pdrach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 een perceel van 5 ha wordt een spuitpoeder toegepast tegen bladluizen. De dosering bedraagt 0,5 kg per 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eveel kg middel moet in totaal afgewogen word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t middel moet ook worden toegepast op een klein perce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eveel middel is er voor dit perceel nodig, uitge­drukt in gram per a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pdrach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20 meter bij 25 meter moet een onkruidbestrijding worden uitgevoerd. Voor het uitrekenen van de beno­digde hoeveelheid middel en water moet je de oppervlakte we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oppervlakte van dit perce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 m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5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20 bij 25 meter moet een onkruidbe­strijding worden uitge­voerd. Op het etiket wordt voor het middel een dosering vermeld van 3 liter per ha. Bereken de hoeveelheid middel die voor deze bespuiting nodig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li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millili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ar hangt het van af of je de hoeveelheid uitdrukt in liters of in millili­t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6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 een perceel van 20 bij 25 meter moet een onkruidbe­strijding worden uitge­voerd. Op het etiket wordt voor het middel een dosering vermeld van 3 liter per ha en een hoeveelheid water van 200 liter per ha. Bereken de hoeveelheid water die voor de bespuiting nodig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7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 een perceel van 40 bij 25 meter moet een onkruidbe­strijding worden uitge­voerd. De dosering van het middel is 3 liter per ha en de hoeveelheid water 200 liter per ha. De bestrijding wordt uitgevoerd met een rugspuit die een tankinhoud heeft van 15 li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reken de hoeveelheid middel en water die nodig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n met 1 tankvulling worden volsta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reken de hoeveelheid middel voor de eerste tankvul­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reken de hoeveelheid middel en water voor de tweede tank­vul­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0T18:48:57Z</dcterms:created>
  <dc:creator>Peter</dc:creator>
  <dc:description/>
  <dc:language>en-US</dc:language>
  <cp:lastModifiedBy>Administrator</cp:lastModifiedBy>
  <dcterms:modified xsi:type="dcterms:W3CDTF">2009-12-28T17:53:48Z</dcterms:modified>
  <cp:revision>7</cp:revision>
  <dc:subject/>
  <dc:title>Berekeningen</dc:title>
</cp:coreProperties>
</file>