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BC18-E512-4790-87D4-E02361DE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F382-B9D3-4423-9155-C085ABD4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5BC-D876-4850-843C-03E35B25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DDE2-8E2E-4513-988B-8A7BB1DC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378B3-A61A-4C1B-A608-8DD996B4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DC58C-298F-42D7-9BB5-5870B2F5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95547-D2F5-4805-AF45-1DDBB1B9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B672F-84EA-43FD-93A7-DED6F9B6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2E518-75FE-4207-B8CB-34555F6D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37A6B-DD96-4967-AB6D-9558BAB5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9C24E-EA7B-43E2-8E6F-5CE8255B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A122-E10C-4C20-B38C-B2F74759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F9853-DB22-4785-9C4C-BFB3A34E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02BF4-53A2-4AAC-99EB-8E7F6231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9572F-0FA5-4443-9CA2-8A8FA026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6F66D7-07E5-49F9-A262-6B43356F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5A083-6566-4CEA-BF9F-554DCBC5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9031-AAFA-4282-8715-2FB7AD0F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1917-8E09-4765-917A-818AD03E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53B1-355B-40E1-9427-B4AAD33B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3725-A329-4500-B89B-FD28738F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3152-AD50-42CB-80DF-6F4956E1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0FDE-6A5A-4981-A154-9AE4F6A5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273D-2ECA-4533-8882-02A34B97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AC32-23A9-4A6E-9A6B-6ABD965E13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C4C6-3E72-4C34-BB15-C7A4CBE21E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grodyn.org/Gewasbeschermingsplan/2009/Gewasbeschermingsplan%202009-grasland.pdf" TargetMode="External"/><Relationship Id="rId3" Type="http://schemas.openxmlformats.org/officeDocument/2006/relationships/hyperlink" Target="http://www.clm.nl/publicaties/data/gewaslogboek.doc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lm.nl/publicaties/data/gewaslogboek.doc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Gewasbeschermingspl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or iedere toepass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ppenplan in 3 del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vragen ter voorbereiding van het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het opstellen van het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het invullen van het logb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 de vragen (1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teelten, dat is bij een golfba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tee, fairway, green en zelfs de r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ter deze samen te voegen tot de ba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gewasbeschermingsstrategie is overeenkomst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de vragen (2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ziekten, plagen en onkruiden zijn in de eigen baan van bela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belasting van het milieu kan voorkomen? Oppervlaktewater? Grondwater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zijn de jaarlijkse kost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arbo zaken zijn voor het personeel van bela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 effect kun je verwachten op natuurlijke vijand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 de vragen (3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ke maatregelen heb je het afgelopen jaar genom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 was daarvan het effec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arom heb je hiervoor gekoz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 zou je nog meer of anders hebben kunnen do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2;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het plan opstell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ownload ëen invulformuli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agrodyn.org/Gewasbeschermingsplan/2009/Gewasbeschermingsplan%202009-grasland.pdf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of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www.clm.nl/publicaties/data/gewaslogboek.d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ul de relevante delen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a dieper in op de belangrijke proble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3; het logboe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a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nn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e ook de site van CLM: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clm.nl/publicaties/data/gewaslogboek.d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0:37:29Z</dcterms:created>
  <dc:creator>default</dc:creator>
  <dc:description/>
  <dc:language>en-US</dc:language>
  <cp:lastModifiedBy>default</cp:lastModifiedBy>
  <dcterms:modified xsi:type="dcterms:W3CDTF">2009-02-03T11:04:39Z</dcterms:modified>
  <cp:revision>2</cp:revision>
  <dc:subject/>
  <dc:title>Gewasbeschermingsplan</dc:title>
</cp:coreProperties>
</file>