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C9DB-6E7A-420C-A55F-CA3FE6650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D00B-FB05-4EDF-BE5A-0BCCAC80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3973-E55C-467D-BEF7-266F91C2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E96D-A099-4DD5-8112-3EC9DCE3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245C-9575-44D5-8568-25E64349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6D1-07C6-40D9-A94A-A8EF67A4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B835-18B0-4E4C-9257-B4019308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6C6E-5E97-489B-B2D9-3460C07A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3F83-F4AF-4BB0-9443-09281474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ABFA-CA94-49BC-8EDC-6ACCE958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9226-7B13-4381-9FA4-25FE1DAA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F301-CA1D-4A18-98E0-BC9B9203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CE34-18AF-4825-99A1-C94E3A74B18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Schimmelziekten in grassportvegetatie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en andere aantasting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535800" y="589608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Samenstellin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P. Nug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7"/>
          <p:cNvSpPr/>
          <p:nvPr/>
        </p:nvSpPr>
        <p:spPr>
          <a:xfrm>
            <a:off x="2058840" y="403200"/>
            <a:ext cx="59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advlekken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echsleria poae/Helminosporium fragr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8" descr="helminthosporiumbladvlek"/>
          <p:cNvPicPr/>
          <p:nvPr/>
        </p:nvPicPr>
        <p:blipFill>
          <a:blip r:embed="rId1"/>
          <a:stretch/>
        </p:blipFill>
        <p:spPr>
          <a:xfrm>
            <a:off x="284328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bladvlekkena"/>
          <p:cNvPicPr/>
          <p:nvPr/>
        </p:nvPicPr>
        <p:blipFill>
          <a:blip r:embed="rId2"/>
          <a:stretch/>
        </p:blipFill>
        <p:spPr>
          <a:xfrm>
            <a:off x="0" y="134136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bladvlekkenziekte"/>
          <p:cNvPicPr/>
          <p:nvPr/>
        </p:nvPicPr>
        <p:blipFill>
          <a:blip r:embed="rId3"/>
          <a:stretch/>
        </p:blipFill>
        <p:spPr>
          <a:xfrm>
            <a:off x="0" y="3716280"/>
            <a:ext cx="2808360" cy="21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eldbeemdgras en Engels raaig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rfst en voorja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of erg natt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lempgevoelig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spattend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chad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rt maaien of beschadig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oge stikstofgif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fvoeren van besmet maai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odemwater beheer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m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noeien omringende beplan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Maaihoogte aanpas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-69840" y="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ladvlekkenziek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738360" y="48888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Collectotrichum graminic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antracnose3"/>
          <p:cNvPicPr/>
          <p:nvPr/>
        </p:nvPicPr>
        <p:blipFill>
          <a:blip r:embed="rId1"/>
          <a:stretch/>
        </p:blipFill>
        <p:spPr>
          <a:xfrm>
            <a:off x="0" y="1589040"/>
            <a:ext cx="633564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tracnose1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ok veldbeemd 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ate zomer en ein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echte verdich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temperat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rme 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tensief gebrui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 de zomer wat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 verbet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-47520" y="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8" descr="DollarSpota"/>
          <p:cNvPicPr/>
          <p:nvPr/>
        </p:nvPicPr>
        <p:blipFill>
          <a:blip r:embed="rId1"/>
          <a:stretch/>
        </p:blipFill>
        <p:spPr>
          <a:xfrm>
            <a:off x="2843280" y="1844640"/>
            <a:ext cx="6121440" cy="4773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dollarspot"/>
          <p:cNvPicPr/>
          <p:nvPr/>
        </p:nvPicPr>
        <p:blipFill>
          <a:blip r:embed="rId2"/>
          <a:stretch/>
        </p:blipFill>
        <p:spPr>
          <a:xfrm>
            <a:off x="0" y="0"/>
            <a:ext cx="342576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ollarspotb"/>
          <p:cNvPicPr/>
          <p:nvPr/>
        </p:nvPicPr>
        <p:blipFill>
          <a:blip r:embed="rId1"/>
          <a:stretch/>
        </p:blipFill>
        <p:spPr>
          <a:xfrm>
            <a:off x="539640" y="1154160"/>
            <a:ext cx="8280360" cy="5467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ollarSpot1"/>
          <p:cNvPicPr/>
          <p:nvPr/>
        </p:nvPicPr>
        <p:blipFill>
          <a:blip r:embed="rId1"/>
          <a:stretch/>
        </p:blipFill>
        <p:spPr>
          <a:xfrm>
            <a:off x="0" y="1133640"/>
            <a:ext cx="7620120" cy="5724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642840" y="189000"/>
            <a:ext cx="50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tbare rassen van Agrostis en Festu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ikstof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mer/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 en hoge 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oed bemestingsreg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 in voorjaar werkt posit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jzerchel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-49320" y="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ollarsp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sneeuwskimmel3"/>
          <p:cNvPicPr/>
          <p:nvPr/>
        </p:nvPicPr>
        <p:blipFill>
          <a:blip r:embed="rId1"/>
          <a:stretch/>
        </p:blipFill>
        <p:spPr>
          <a:xfrm>
            <a:off x="324000" y="1541520"/>
            <a:ext cx="8424720" cy="5316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2756520" y="42372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382800" y="34452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sneeuwschimmel2"/>
          <p:cNvPicPr/>
          <p:nvPr/>
        </p:nvPicPr>
        <p:blipFill>
          <a:blip r:embed="rId1"/>
          <a:stretch/>
        </p:blipFill>
        <p:spPr>
          <a:xfrm>
            <a:off x="0" y="2914560"/>
            <a:ext cx="5715000" cy="3943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sneeuwschimmel3"/>
          <p:cNvPicPr/>
          <p:nvPr/>
        </p:nvPicPr>
        <p:blipFill>
          <a:blip r:embed="rId2"/>
          <a:stretch/>
        </p:blipFill>
        <p:spPr>
          <a:xfrm>
            <a:off x="4343400" y="189000"/>
            <a:ext cx="4800600" cy="4897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740520" y="71136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85160" y="170028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0" descr="028%20sneeuwschimmel-028%20sneeuwschimmel-1"/>
          <p:cNvPicPr/>
          <p:nvPr/>
        </p:nvPicPr>
        <p:blipFill>
          <a:blip r:embed="rId3"/>
          <a:stretch/>
        </p:blipFill>
        <p:spPr>
          <a:xfrm>
            <a:off x="3419640" y="4762440"/>
            <a:ext cx="27716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Bronn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wasbeschermingsgids 2.10.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eldbank gewasbesche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eenkee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arenb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opgreen/Adva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ectconsult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zwakt gew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-door lang doorgroeien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-door late stikstofgif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spreiding door versl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periode en warme vochtige z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dichte 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iltla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ras droog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ntilati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itten om zode droog te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zichtig met stikstofgift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giften, vooral einde groeiseizo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afru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ilt bestr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eritage, Signum Caram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-103680" y="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Sneeuwschimmel/voetr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heksenkring5"/>
          <p:cNvPicPr/>
          <p:nvPr/>
        </p:nvPicPr>
        <p:blipFill>
          <a:blip r:embed="rId1"/>
          <a:stretch/>
        </p:blipFill>
        <p:spPr>
          <a:xfrm>
            <a:off x="250920" y="2967120"/>
            <a:ext cx="5184720" cy="389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eksenkring4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3240" y="549360"/>
            <a:ext cx="285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ksenk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rasmius ore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030%20weidekring-030%20weidekring-1"/>
          <p:cNvPicPr/>
          <p:nvPr/>
        </p:nvPicPr>
        <p:blipFill>
          <a:blip r:embed="rId3"/>
          <a:stretch/>
        </p:blipFill>
        <p:spPr>
          <a:xfrm>
            <a:off x="5724360" y="3402000"/>
            <a:ext cx="3419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ruchtlichamen in de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strijding is moeil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gelijks prikken en vochtig m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1 maand vol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ringen verdwijnen vaak vanz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-57240" y="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Heksenk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rondeplekken"/>
          <p:cNvPicPr/>
          <p:nvPr/>
        </p:nvPicPr>
        <p:blipFill>
          <a:blip r:embed="rId1"/>
          <a:stretch/>
        </p:blipFill>
        <p:spPr>
          <a:xfrm>
            <a:off x="0" y="0"/>
            <a:ext cx="4957920" cy="6543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3423960" y="2565360"/>
            <a:ext cx="39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ndeplekken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hiobol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aeumannomyces grami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takealltpddl_3057021"/>
          <p:cNvPicPr/>
          <p:nvPr/>
        </p:nvPicPr>
        <p:blipFill>
          <a:blip r:embed="rId2"/>
          <a:stretch/>
        </p:blipFill>
        <p:spPr>
          <a:xfrm>
            <a:off x="5364000" y="402264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rondeplekken1"/>
          <p:cNvPicPr/>
          <p:nvPr/>
        </p:nvPicPr>
        <p:blipFill>
          <a:blip r:embed="rId3"/>
          <a:stretch/>
        </p:blipFill>
        <p:spPr>
          <a:xfrm>
            <a:off x="6066000" y="0"/>
            <a:ext cx="3078000" cy="25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take all"/>
          <p:cNvPicPr/>
          <p:nvPr/>
        </p:nvPicPr>
        <p:blipFill>
          <a:blip r:embed="rId1"/>
          <a:stretch/>
        </p:blipFill>
        <p:spPr>
          <a:xfrm>
            <a:off x="250920" y="1150920"/>
            <a:ext cx="8569080" cy="5707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315080" y="13500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TakeAll1"/>
          <p:cNvPicPr/>
          <p:nvPr/>
        </p:nvPicPr>
        <p:blipFill>
          <a:blip r:embed="rId1"/>
          <a:stretch/>
        </p:blipFill>
        <p:spPr>
          <a:xfrm>
            <a:off x="250920" y="3538440"/>
            <a:ext cx="4249800" cy="2962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takeall3"/>
          <p:cNvPicPr/>
          <p:nvPr/>
        </p:nvPicPr>
        <p:blipFill>
          <a:blip r:embed="rId2"/>
          <a:stretch/>
        </p:blipFill>
        <p:spPr>
          <a:xfrm>
            <a:off x="3348000" y="189000"/>
            <a:ext cx="5508720" cy="366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Take All patch_news_6905"/>
          <p:cNvPicPr/>
          <p:nvPr/>
        </p:nvPicPr>
        <p:blipFill>
          <a:blip r:embed="rId3"/>
          <a:stretch/>
        </p:blipFill>
        <p:spPr>
          <a:xfrm>
            <a:off x="395280" y="404640"/>
            <a:ext cx="3529080" cy="2651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5583960" y="472428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03848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oodzwenkgras is resis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p jonge 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oel w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- e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 en zand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control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nodig zure meststoff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vt. ammoniumsulfaat of 4,2 g/m ijzersulf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khoudende meststoffen en dressings voork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-122760" y="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ndeplekkenziekte/takeall p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rooddraad"/>
          <p:cNvPicPr/>
          <p:nvPr/>
        </p:nvPicPr>
        <p:blipFill>
          <a:blip r:embed="rId1"/>
          <a:stretch/>
        </p:blipFill>
        <p:spPr>
          <a:xfrm>
            <a:off x="468360" y="404640"/>
            <a:ext cx="4044960" cy="6093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4862520" y="403200"/>
            <a:ext cx="28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oddr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etisaria fuciform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rooddraad1"/>
          <p:cNvPicPr/>
          <p:nvPr/>
        </p:nvPicPr>
        <p:blipFill>
          <a:blip r:embed="rId2"/>
          <a:stretch/>
        </p:blipFill>
        <p:spPr>
          <a:xfrm>
            <a:off x="5219640" y="162864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al in Engels raaigras en roodzwemk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oms in veldbeem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t weer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erder in nazomer en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r nu ook het hele 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kort aan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gelmatige aanvoer van stikstof (zwavelzure ammonia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chimmel verdwijnt vanzelf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-52920" y="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odddra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patch"/>
          <p:cNvPicPr/>
          <p:nvPr/>
        </p:nvPicPr>
        <p:blipFill>
          <a:blip r:embed="rId1"/>
          <a:stretch/>
        </p:blipFill>
        <p:spPr>
          <a:xfrm>
            <a:off x="1547640" y="170028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742680" y="488880"/>
            <a:ext cx="1948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Tahoma"/>
              </a:rPr>
              <a:t>Pythium Sp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Wanneer treden schimmelziekten o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schimmel moet aanwezig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waardplant moet er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waardplant moet ontvankelijk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roeiomstandigheden moeten goed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wakteparas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iem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onge 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Evenwichtige bemesting en bereg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bederf verm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-47520" y="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kroonroest"/>
          <p:cNvPicPr/>
          <p:nvPr/>
        </p:nvPicPr>
        <p:blipFill>
          <a:blip r:embed="rId1"/>
          <a:stretch/>
        </p:blipFill>
        <p:spPr>
          <a:xfrm>
            <a:off x="0" y="1268280"/>
            <a:ext cx="6227640" cy="4110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63080" y="135000"/>
            <a:ext cx="26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roonro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coron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kroonroest2"/>
          <p:cNvPicPr/>
          <p:nvPr/>
        </p:nvPicPr>
        <p:blipFill>
          <a:blip r:embed="rId2"/>
          <a:stretch/>
        </p:blipFill>
        <p:spPr>
          <a:xfrm>
            <a:off x="6410160" y="1773360"/>
            <a:ext cx="2733840" cy="43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ind juni tot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Goed aan de groei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ak maai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-54720" y="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Kroonro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bruinevlekroest"/>
          <p:cNvPicPr/>
          <p:nvPr/>
        </p:nvPicPr>
        <p:blipFill>
          <a:blip r:embed="rId1"/>
          <a:stretch/>
        </p:blipFill>
        <p:spPr>
          <a:xfrm>
            <a:off x="395280" y="4221000"/>
            <a:ext cx="3889440" cy="2551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puccinia poaenemo"/>
          <p:cNvPicPr/>
          <p:nvPr/>
        </p:nvPicPr>
        <p:blipFill>
          <a:blip r:embed="rId2"/>
          <a:stretch/>
        </p:blipFill>
        <p:spPr>
          <a:xfrm>
            <a:off x="395280" y="1341360"/>
            <a:ext cx="3887640" cy="2567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rust1"/>
          <p:cNvPicPr/>
          <p:nvPr/>
        </p:nvPicPr>
        <p:blipFill>
          <a:blip r:embed="rId3"/>
          <a:stretch/>
        </p:blipFill>
        <p:spPr>
          <a:xfrm>
            <a:off x="4551480" y="0"/>
            <a:ext cx="45925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762480" y="260280"/>
            <a:ext cx="35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uinevlekkenro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poae-nemo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ldbeemd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naf apr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-87120" y="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uinevlekkenro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or ontbreken van bestijdingsmiddelen wordt het vakmanschap sterker dan ooit aangesprok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ek het antwoord op de onderstaande fou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e voed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 ontworpen beplant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50920" y="1341360"/>
          <a:ext cx="8424720" cy="47944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232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233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50920" y="1341360"/>
          <a:ext cx="8424720" cy="47944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1356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1358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Plagen in de gras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1013760" y="344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ngerl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Engerlingen_buitendienstwk42"/>
          <p:cNvPicPr/>
          <p:nvPr/>
        </p:nvPicPr>
        <p:blipFill>
          <a:blip r:embed="rId1"/>
          <a:stretch/>
        </p:blipFill>
        <p:spPr>
          <a:xfrm>
            <a:off x="0" y="1413000"/>
            <a:ext cx="3708360" cy="2781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101%20engerling%20algemeen%20d-101%20engerling%20algemeen%20d-1"/>
          <p:cNvPicPr/>
          <p:nvPr/>
        </p:nvPicPr>
        <p:blipFill>
          <a:blip r:embed="rId2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ais_engerlingen_1-mais_engerlingen_1-1"/>
          <p:cNvPicPr/>
          <p:nvPr/>
        </p:nvPicPr>
        <p:blipFill>
          <a:blip r:embed="rId3"/>
          <a:stretch/>
        </p:blipFill>
        <p:spPr>
          <a:xfrm>
            <a:off x="4610160" y="0"/>
            <a:ext cx="4533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Groeiomstandighe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i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vo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lant met weinig we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se bodemstructu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srijke omgeving of extensief beheerde grasvel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regelmatig rollen belemmert de larve in zijn beweg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un bosrijke omgeving 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758880" y="2728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mel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6" descr="emeltenschade"/>
          <p:cNvPicPr/>
          <p:nvPr/>
        </p:nvPicPr>
        <p:blipFill>
          <a:blip r:embed="rId1"/>
          <a:stretch/>
        </p:blipFill>
        <p:spPr>
          <a:xfrm>
            <a:off x="0" y="1978200"/>
            <a:ext cx="6659640" cy="4879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102%20emelt-102%20emelt-1"/>
          <p:cNvPicPr/>
          <p:nvPr/>
        </p:nvPicPr>
        <p:blipFill>
          <a:blip r:embed="rId2"/>
          <a:stretch/>
        </p:blipFill>
        <p:spPr>
          <a:xfrm>
            <a:off x="2268360" y="0"/>
            <a:ext cx="4319640" cy="1728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emelten1-emelten1-1"/>
          <p:cNvPicPr/>
          <p:nvPr/>
        </p:nvPicPr>
        <p:blipFill>
          <a:blip r:embed="rId3"/>
          <a:stretch/>
        </p:blipFill>
        <p:spPr>
          <a:xfrm>
            <a:off x="6686640" y="0"/>
            <a:ext cx="2457360" cy="3714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langpootmug%20gr-langpootmug%20gr-1"/>
          <p:cNvPicPr/>
          <p:nvPr/>
        </p:nvPicPr>
        <p:blipFill>
          <a:blip r:embed="rId4"/>
          <a:stretch/>
        </p:blipFill>
        <p:spPr>
          <a:xfrm>
            <a:off x="6026040" y="4519440"/>
            <a:ext cx="31179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 en vochtig bodemoppervl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rme en vochtige perio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zorg voor een goede ontwatering van de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chte bovenlaag door veel betreden of rollen beperkt de scha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rouwvlieg"/>
          <p:cNvPicPr/>
          <p:nvPr/>
        </p:nvPicPr>
        <p:blipFill>
          <a:blip r:embed="rId1"/>
          <a:stretch/>
        </p:blipFill>
        <p:spPr>
          <a:xfrm>
            <a:off x="5580000" y="549360"/>
            <a:ext cx="2519280" cy="1900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76800" y="6332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ouwvlie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6" descr="rouwvlieg1"/>
          <p:cNvPicPr/>
          <p:nvPr/>
        </p:nvPicPr>
        <p:blipFill>
          <a:blip r:embed="rId2"/>
          <a:stretch/>
        </p:blipFill>
        <p:spPr>
          <a:xfrm>
            <a:off x="250920" y="2924280"/>
            <a:ext cx="57960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el organische resten in de bovenlaa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door de mat te rollen verbetert het contact tussen wortels en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en stikstof toe om grasgroei t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hemische bestrijding heeft alleen zin als de larven jong zij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regenworm"/>
          <p:cNvPicPr/>
          <p:nvPr/>
        </p:nvPicPr>
        <p:blipFill>
          <a:blip r:embed="rId1"/>
          <a:stretch/>
        </p:blipFill>
        <p:spPr>
          <a:xfrm>
            <a:off x="6192720" y="0"/>
            <a:ext cx="2951280" cy="2222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947160" y="84924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egenw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6" descr="regenworm1"/>
          <p:cNvPicPr/>
          <p:nvPr/>
        </p:nvPicPr>
        <p:blipFill>
          <a:blip r:embed="rId2"/>
          <a:stretch/>
        </p:blipFill>
        <p:spPr>
          <a:xfrm>
            <a:off x="755640" y="1773360"/>
            <a:ext cx="4968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-waar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ebruik van veel organische m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blijft lig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verschraling met zand in najaar en voorjaar na 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-verlaging met zuurwerkende meststoff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Verzwakte plan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en en maaiw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(te) veel bemest (hierdoor grotere cellen met zwakkere celwan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ar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oogtest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uurstof tekort in de g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Beheersing van schimmels is het toepassen van kennis over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assoorten en r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dem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oei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imatologische 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- en afvoer van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chanisat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volgen betredingsintensite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brown_patch_rotting_for_web_at_sheath_closeup"/>
          <p:cNvPicPr/>
          <p:nvPr/>
        </p:nvPicPr>
        <p:blipFill>
          <a:blip r:embed="rId1"/>
          <a:stretch/>
        </p:blipFill>
        <p:spPr>
          <a:xfrm>
            <a:off x="324000" y="260280"/>
            <a:ext cx="2268360" cy="1833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11" descr="brownpatch5"/>
          <p:cNvPicPr/>
          <p:nvPr/>
        </p:nvPicPr>
        <p:blipFill>
          <a:blip r:embed="rId2"/>
          <a:stretch/>
        </p:blipFill>
        <p:spPr>
          <a:xfrm>
            <a:off x="2124000" y="1838160"/>
            <a:ext cx="7020000" cy="501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brownpatch6"/>
          <p:cNvPicPr/>
          <p:nvPr/>
        </p:nvPicPr>
        <p:blipFill>
          <a:blip r:embed="rId1"/>
          <a:stretch/>
        </p:blipFill>
        <p:spPr>
          <a:xfrm>
            <a:off x="826920" y="1413000"/>
            <a:ext cx="7643880" cy="5005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uni tot sept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, Veldbeemd, Roodzwenk en 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dag- en nachtte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(lucht)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ventilat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 morgens berege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lu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stikstof en goede kaligif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opbouw 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-54360" y="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ownp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9:02:40Z</dcterms:created>
  <dc:creator>Peter</dc:creator>
  <dc:description/>
  <dc:language>en-US</dc:language>
  <cp:lastModifiedBy>nugter</cp:lastModifiedBy>
  <dcterms:modified xsi:type="dcterms:W3CDTF">2011-02-02T09:26:26Z</dcterms:modified>
  <cp:revision>31</cp:revision>
  <dc:subject/>
  <dc:title>Schimmelziekten op de baan</dc:title>
</cp:coreProperties>
</file>