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4E7E-2B2B-4843-A84E-2E0B9B3AF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3AA7-F73B-4DA6-BE29-680D9820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3CD4-1CAA-40FD-A489-2504B11C8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CEA2-00BA-4270-86D9-ED7FF803D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422B-3D2E-412B-B8B9-27A7375F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9886-5CF4-4388-B823-48274E71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B434-CB20-4383-9F9B-76C6D9DA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C084-7E90-49C4-B452-4688A849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8043-89B1-4B19-AF3E-EB225B06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768B-35A0-440E-AB2C-B727F40E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6B73-8B78-432E-87B2-DC614C22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BED7-97C2-44D0-9D3B-7343393B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5CF0-8A00-4AFE-9E5B-4D90FDAC2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/fetch/93689552/93691489/t-gewasbescherming.htm.html?nodeid=93689073&amp;vernum=-2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erekening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ha en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are = 100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ha = 10.000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, = 100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liters en ml (= 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, = c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liter = 100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liter per ha = 1000 ml per 10.000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 liter per ha = 1000 ml per 100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 1 are is dat: (1/100 van 1000 ml =) 1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8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n veldspuit heeft een inhoud van 1000 liter. Hiermee wordt op een perceel een bespuiting uitgevoerd. Op het etiket wordt voor het middel een dosering van 5 liter per ha aangegeven. De hoeveelheid water per ha is 400 liter. Hoeveel middel moet worden gereed gemaakt voor 1 tankvull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9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 een perceel wordt een bespuiting uitgevoerd. De dosering van het middel is 5 liter per ha. De hoeveel­heid water per ha is 400 liter. De tank moet voor de laatste omgang bijgevuld worden. Er is nog 100 liter spuitvloeistof in de tank. Er moet nog 2 ha gespoten worden. De noodzakelijke hoeveelheid rest­vloeistof is 25 li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 hoeveel water moet worden bijgevu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 middel moet hier aan worden toegevoeg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10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een bietenperceel van 5 ha wordt een rijenbepuiting uitge­voerd. De rijenaf­stand is 50 cm. De te bespuiten strook is 20 cm. Gerekend naar een volveldsbe­spuiting zou 300 liter per ha worden verspoten worden en de dosering van het middel zou 5 liter per ha zijn. De noodzakelijke hoeveelheid restvloeist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aagt 25 liter (De veldspuit heeft een tank van 1000 li­t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spuitvloeistof moet er worden gereedgemaak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middel moet hier aan worden toegevoeg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reken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rekenoef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ers en kilo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liter is 1000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kilo is 1000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ml weegt ongeveer 1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liter weegt ongeveer 1 k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 een perceel van 2,5 ha moet een vloeibaar onkruidgewasbeschermingsmiddel worden toegediend. Op het etiket wordt een dose­ring van 3 liter per ha vermeld.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heid water bij deze behandeling is 200 liter per 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eken de hoeveelheid middel die nodig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eken de hoeveelheid water die nodig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1500 m² moet een vloeibaar ziektebestrijdingsmiddel worden toegediend in een opgaand gewas. De `dosering' (beter: meng­verhouding of concentratie) is volgens het etiket 50 ml middel per 100 liter water. De benodigde hoeveelheid spuitvloeistof is 20 liter per 100 m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benodigde hoeveelheid water in 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benodigde hoeveelheid middel in m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drach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 een perceel van 5 ha wordt een spuitpoeder toegepast tegen bladluizen. De dosering bedraagt 0,5 kg per 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 kg middel moet in totaal afgewogen wor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t middel moet ook worden toegepast op een klein perce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 middel is er voor dit perceel nodig, uitge­drukt in gram per 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drach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0 meter bij 25 meter moet een onkruidbestrijding worden uitgevoerd. Voor het uitrekenen van de beno­digde hoeveelheid middel en water moet je de oppervlakte we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oppervlakte van dit perce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m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5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0 bij 25 meter moet een onkruidbe­strijding worden uitge­voerd. Op het etiket wordt voor het middel een dosering vermeld van 3 liter per ha. Bereken de hoeveelheid middel die voor deze bespuiting nodig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milli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 hangt het van af of je de hoeveelheid uitdrukt in liters of in millili­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6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 een perceel van 20 bij 25 meter moet een onkruidbe­strijding worden uitge­voerd. Op het etiket wordt voor het middel een dosering vermeld van 3 liter per ha en een hoeveelheid water van 200 liter per ha. Bereken de hoeveelheid water die voor de bespuiting nodig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7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 een perceel van 40 bij 25 meter moet een onkruidbe­strijding worden uitge­voerd. De dosering van het middel is 3 liter per ha en de hoeveelheid water 200 liter per ha. De bestrijding wordt uitgevoerd met een rugspuit die een tankinhoud heeft van 15 li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eken de hoeveelheid middel en water die nodig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n met 1 tankvulling worden volsta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eken de hoeveelheid middel voor de eerste tankvul­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eken de hoeveelheid middel en water voor de tweede tank­vul­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0T18:48:57Z</dcterms:created>
  <dc:creator>Peter</dc:creator>
  <dc:description/>
  <dc:language>en-US</dc:language>
  <cp:lastModifiedBy>Administrator</cp:lastModifiedBy>
  <dcterms:modified xsi:type="dcterms:W3CDTF">2009-12-28T17:53:48Z</dcterms:modified>
  <cp:revision>7</cp:revision>
  <dc:subject/>
  <dc:title>Berekeningen</dc:title>
</cp:coreProperties>
</file>