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19E6-F629-4CF0-A2F1-3B3733CC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A873-E880-4F42-BCB4-45008DCB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C1BE-1B58-469D-9722-009941FA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4F1-D61C-45FF-AED6-71AFCA5C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4917-44A9-4A90-BDA4-7242019B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3FF1-EA30-4DF3-8F01-BA16549C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25D4-8D51-4D33-B7C6-6C3A0A70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67E9-3224-427D-987D-8A751EB0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E283-9129-46A9-B629-6A0AD121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C806-DEDA-4FE9-B7D3-5266760A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13EB-9626-45C1-ADEB-02D45981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BD6-F3C9-47D6-BE2B-DEFE6C41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F76F-A116-4D67-A018-A1DC08C2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E2B6-84BD-404E-A571-8D6A808A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6BCC-88E6-4BF1-991C-5137656D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B826-8CD5-4EFC-8668-94237A63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23E1-54D1-463E-ABD1-CC4402C8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1133-C3EB-404E-9D63-CD14AFE6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D3B-B29F-44E9-BB04-F81FF6B8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4FCF-F889-4989-8C1A-08190936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7F3-C914-42A0-96D0-C0461031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162-993E-468F-B825-53CEDA0E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2ED2-BE01-4F19-9044-E4C3930C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BD8E-28E4-493F-9CB3-7F7DE842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CAC5-3A1B-48F7-9C98-77E86A7AA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96C6-2CD3-43E0-A3E3-6CF6BDE54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9257"/>
                </a:solidFill>
                <a:latin typeface="Arial"/>
              </a:rPr>
              <a:t>Opslag van gewasbeschermingsmiddelen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3483000" cy="3602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43280" y="3110040"/>
            <a:ext cx="409896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2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oog, koel en uit de 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s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blu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sorbtie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gekeurde instructie (P7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ctra (NEN 1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zicht op roken en open v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Nieuwe AMVB (2006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’s bep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olgen van eventuele calamiteit beheersbaar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voor is kennis van de regels van be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Opsla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al ingericht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voldoen aa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en voor opslag van gewasbescherming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bare middelen onde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door geen verontreiniging andere 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utel bezit 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28616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regelgev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instaties controler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ID: gewasbescherming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-SZW: gewasbeschermingswet en gewasbeschermingsmiddelen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ente: AMvB’s en plaatselijke verord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dselveiligheid/Eurep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b39257"/>
                </a:solidFill>
                <a:latin typeface="Arial"/>
              </a:rPr>
              <a:t>Eisen aan oplslag van gewasbeschermingsmiddelen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 25 kg opslag: gee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5 kg tot max 400 kg: afgesloten ruimte of k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ddelen die binnen 48 uur worden gebruikt: op 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Eisen aan de berg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veiligheids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1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l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e bouw en stand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uis)d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ting van d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al voor de schap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ingsbord op de d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042920" y="981000"/>
            <a:ext cx="7200720" cy="4895640"/>
            <a:chOff x="1042920" y="981000"/>
            <a:chExt cx="7200720" cy="4895640"/>
          </a:xfrm>
        </p:grpSpPr>
        <p:sp>
          <p:nvSpPr>
            <p:cNvPr id="228" name=""/>
            <p:cNvSpPr/>
            <p:nvPr/>
          </p:nvSpPr>
          <p:spPr>
            <a:xfrm>
              <a:off x="1042920" y="981000"/>
              <a:ext cx="7200720" cy="489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ewasbeschermingsmiddele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PIC 201 Vuur, open vlam en roken verboden * Ø 100 mm uitgevoerd in  Aluminium plaat"/>
            <p:cNvPicPr/>
            <p:nvPr/>
          </p:nvPicPr>
          <p:blipFill>
            <a:blip r:embed="rId1"/>
            <a:stretch/>
          </p:blipFill>
          <p:spPr>
            <a:xfrm>
              <a:off x="4907880" y="1905120"/>
              <a:ext cx="2265840" cy="23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MINIPIC 0704 Giftige Stoffen"/>
            <p:cNvPicPr/>
            <p:nvPr/>
          </p:nvPicPr>
          <p:blipFill>
            <a:blip r:embed="rId2"/>
            <a:stretch/>
          </p:blipFill>
          <p:spPr>
            <a:xfrm>
              <a:off x="1974600" y="1956960"/>
              <a:ext cx="2401200" cy="219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>
            <a:off x="1906920" y="5013360"/>
            <a:ext cx="54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oden voor onbevoe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0:39:42Z</dcterms:created>
  <dc:creator>default</dc:creator>
  <dc:description/>
  <dc:language>en-US</dc:language>
  <cp:lastModifiedBy>Administrator</cp:lastModifiedBy>
  <dcterms:modified xsi:type="dcterms:W3CDTF">2009-12-28T17:50:09Z</dcterms:modified>
  <cp:revision>3</cp:revision>
  <dc:subject/>
  <dc:title>Opslag van gewasbeschermingsmiddelen</dc:title>
</cp:coreProperties>
</file>