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2438-62F6-4784-98D4-54F5074C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0BBF-C44F-4F10-B439-0E942057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9E1-9D06-49FE-AF15-B9A71075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BF3-7B75-4A06-80DE-7C5A1F90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0498-898B-4503-9C1A-8D3573EE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EC6D-FDD8-4E8D-BECC-1D4C696B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C383-29D3-485C-97BE-80D91F72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E2AF-9A32-485E-B527-302C3CCD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3ACB-DC5B-4A25-8D79-BA4CFF9D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118E-DAD8-4CAE-A40E-D90CD42B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9964-5F62-40B6-A1D3-7D98F4B9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AB3-883E-412B-8102-00DD3C81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2321-891F-4DEB-88D7-789DA576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975E-9C82-4D8A-A163-77FFCA3A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B46A-B58D-4781-8135-0330A509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9F0A-3EFB-4E31-9985-99085A30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9AA8-0218-4251-A186-411F2D0F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7E89-588B-483F-AA9B-4C569B1E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8C1-1435-4305-B533-C0FC9C51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DD5-E336-4E8A-B830-F624DDF6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13C-970E-4EF3-97F3-09A3201A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C7C-1CB2-424F-8090-C9637051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B13-6C39-4AF2-AD0B-19A4B6ED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957-EE4E-42F6-96F2-B5251B0A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2340-027A-4750-87A8-FA7585FF61F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06A7-8189-4846-8FCC-FCC2ED59B09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JP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85: 21.000.000 kg actieve stof afgezet in de landbou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0 gehal­veerd moet zijn in verge­lijking met het gebruik in de periode 1984-198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 is een akkoord bereikt over vermindering van de milieulast van 95% in 2010 ten opzicht van 19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Administrator</cp:lastModifiedBy>
  <dcterms:modified xsi:type="dcterms:W3CDTF">2010-01-06T20:30:55Z</dcterms:modified>
  <cp:revision>2</cp:revision>
  <dc:subject/>
  <dc:title>Uitvoeren gewasbescherming</dc:title>
</cp:coreProperties>
</file>