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08B78-D738-49BD-98F7-C99CB7ADC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0E1C4-A43A-447F-8F15-D37864534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39089-4407-4027-B7E7-BA58851F7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C23934-A845-4F03-96DB-E65FB66C4C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D20D3D-1A9C-42F8-B238-9BE0CCE4BD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1B04F-C7BD-477D-96F4-B3D701EEE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0A566-3F27-40E8-AC2F-F4577015E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F1425A-9048-4A9C-8EA9-D35A4C496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1E30D-5663-466A-B18F-C0A7B530E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72490-9CAE-405A-9658-55535F02F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4D772-80C3-4F9F-A9DA-02BA157FD9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A70E2-6D2E-4B31-B433-FF6B24409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7A241-6ABB-40FB-A8D8-8D53FDB67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8A88E-9770-4153-AE16-C32FD5B52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130E26-27A2-4641-A24D-881B79A01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E9ADC8-D669-45AD-B99E-85EDFA9E1C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EAF280-C4DC-4EE4-AE64-8A1F9249D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7AD6B-6C5F-454D-BDD5-A494F979D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7CC25-38B5-4AE0-9F02-983B7D791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715BA-3391-47E2-BFA1-77A4BF3DC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8DC68-E4E7-4AEE-BB9A-A54949E51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CA84A-8392-460B-B57E-726D1CF14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E109B-2A2B-469B-AAB3-3E12A7305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8B763-BD4E-4FEA-AA45-B4513E55C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flipH="1" flipV="1">
                          <a:off x="11520" y="261396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flipH="1" flipV="1">
                          <a:off x="25920" y="222696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flipH="1" flipV="1">
                          <a:off x="25200" y="174096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flipH="1" flipV="1">
                          <a:off x="40320" y="117108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flipH="1" flipV="1">
                          <a:off x="1109880" y="76932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flipH="1" flipV="1">
                          <a:off x="27000" y="297612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flipH="1" flipV="1">
                          <a:off x="23040" y="328680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flipH="1">
                          <a:off x="669960" y="474480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flipH="1" flipV="1">
                          <a:off x="203760" y="452520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flipH="1" flipV="1">
                          <a:off x="26640" y="382104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flipH="1">
                          <a:off x="1557360" y="482112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flipH="1">
                          <a:off x="1686240" y="483192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flipH="1">
                          <a:off x="1805760" y="483264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flipH="1">
                          <a:off x="1935000" y="483768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flipH="1">
                          <a:off x="2082960" y="484812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flipH="1">
                          <a:off x="2230920" y="485172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flipH="1">
                          <a:off x="2595240" y="487188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2615400" y="487548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2633040" y="488520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653560" y="488664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2673720" y="488664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
                        <p:cNvSpPr/>
                        <p:nvPr/>
                      </p:nvSpPr>
                      <p:spPr>
                        <a:xfrm>
                          <a:off x="2684880" y="488556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2709720" y="489168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2726640" y="488412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2749320" y="487980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
                        <p:cNvSpPr/>
                        <p:nvPr/>
                      </p:nvSpPr>
                      <p:spPr>
                        <a:xfrm>
                          <a:off x="2760840" y="486468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2766960" y="485172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2779200" y="484128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2785320" y="482436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2786400" y="480744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789280" y="478980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2780280" y="474624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flipV="1">
                          <a:off x="2741400" y="379872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V="1">
                          <a:off x="2728800" y="327996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8780000">
                            <a:off x="2382120" y="429228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18780000">
                            <a:off x="2262960" y="399528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18780000">
                            <a:off x="2170800" y="373644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18780000">
                            <a:off x="2071800" y="342036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rot="18780000">
                            <a:off x="1981080" y="316584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rot="18780000">
                            <a:off x="1850760" y="289188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rot="18780000">
                            <a:off x="1738800" y="262260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rot="18780000">
                            <a:off x="1602000" y="236880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rot="18780000">
                            <a:off x="1498680" y="208476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rot="18734400">
                            <a:off x="1408320" y="181224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rot="18819600">
                            <a:off x="1313280" y="152136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flipV="1">
                          <a:off x="2654280" y="178092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2666520" y="213300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flipV="1">
                          <a:off x="2668320" y="193608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V="1">
                          <a:off x="2676960" y="229320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flipV="1">
                          <a:off x="2683800" y="246852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2703960" y="288504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V="1">
                          <a:off x="2716920" y="309600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V="1">
                          <a:off x="2737800" y="355716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V="1">
                          <a:off x="2750040" y="404424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V="1">
                          <a:off x="2754720" y="437760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2752920" y="470376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73" name=""/>
                        <p:cNvSpPr/>
                        <p:nvPr/>
                      </p:nvSpPr>
                      <p:spPr>
                        <a:xfrm>
                          <a:off x="2769840" y="472464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787840" y="476856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2415240" y="486252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1447920" y="480960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1337040" y="479772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1218960" y="478944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1115640" y="477864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1009440" y="477144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897480" y="476136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783000" y="475200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H="1">
                          <a:off x="566280" y="473364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43520" y="472392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317880" y="471096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 name=""/>
                        <p:cNvSpPr/>
                        <p:nvPr/>
                      </p:nvSpPr>
                      <p:spPr>
                        <a:xfrm flipH="1" flipV="1">
                          <a:off x="65880" y="429768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flipV="1">
                          <a:off x="25560" y="406296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23760" y="355932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flipV="1">
                          <a:off x="362880" y="97200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722880" y="83232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flipV="1">
                          <a:off x="1506240" y="78732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1857240" y="83916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2576880" y="104292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2597400" y="116748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2608920" y="131112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2622240" y="146160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2635920" y="162648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H="1" flipV="1">
                  <a:off x="1405440" y="605160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1996560" y="665028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flipV="1">
                    <a:off x="564120" y="575640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flipV="1">
                    <a:off x="401040" y="485640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flipV="1">
                    <a:off x="28080" y="471024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110520" y="485604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558000" y="545148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29520" y="427968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rot="19111200">
                <a:off x="3156120" y="304596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5" name=""/>
              <p:cNvSpPr/>
              <p:nvPr/>
            </p:nvSpPr>
            <p:spPr>
              <a:xfrm rot="16512000">
                <a:off x="3117600" y="414828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6" name=""/>
              <p:cNvSpPr/>
              <p:nvPr/>
            </p:nvSpPr>
            <p:spPr>
              <a:xfrm rot="18182400">
                <a:off x="1616760" y="427716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17" name=""/>
              <p:cNvSpPr/>
              <p:nvPr/>
            </p:nvSpPr>
            <p:spPr>
              <a:xfrm rot="20763600">
                <a:off x="1091880" y="277452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E8447-B70C-4588-8A3A-BBD0BF4DE37C}"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3366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flipV="1">
                          <a:off x="-12240" y="2650320"/>
                          <a:ext cx="2410560" cy="19620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2160" y="2263320"/>
                          <a:ext cx="2404080" cy="233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flipV="1">
                          <a:off x="1440" y="1777320"/>
                          <a:ext cx="2414880" cy="2813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flipV="1">
                          <a:off x="16560" y="1207440"/>
                          <a:ext cx="2404800" cy="3370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1086120" y="805680"/>
                          <a:ext cx="1399320" cy="3764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flipV="1">
                          <a:off x="3240" y="3012480"/>
                          <a:ext cx="2387160" cy="16167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flipV="1">
                          <a:off x="-720" y="3323160"/>
                          <a:ext cx="2388960" cy="1322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646200" y="4781160"/>
                          <a:ext cx="1787400" cy="492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flipV="1">
                          <a:off x="180000" y="4561560"/>
                          <a:ext cx="2232000" cy="179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flipV="1">
                          <a:off x="2880" y="3857400"/>
                          <a:ext cx="2391840" cy="830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1533600" y="4857480"/>
                          <a:ext cx="972720" cy="135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1662480" y="4868280"/>
                          <a:ext cx="853920" cy="1448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1782000" y="4869000"/>
                          <a:ext cx="739080" cy="1550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1911240" y="4874040"/>
                          <a:ext cx="617040" cy="165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2059200" y="4884480"/>
                          <a:ext cx="479880" cy="1765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2207160" y="4888080"/>
                          <a:ext cx="339480" cy="1874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2571480" y="4908240"/>
                          <a:ext cx="4680" cy="1926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591640" y="4911840"/>
                          <a:ext cx="170280" cy="19220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609280" y="4921560"/>
                          <a:ext cx="331920" cy="1896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629800" y="4923000"/>
                          <a:ext cx="513360" cy="1906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2649960" y="4923000"/>
                          <a:ext cx="694080" cy="1907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661120" y="4921920"/>
                          <a:ext cx="893520" cy="1891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685960" y="4928040"/>
                          <a:ext cx="1103040" cy="1892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702880" y="4920480"/>
                          <a:ext cx="1348200" cy="1911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725560" y="4916160"/>
                          <a:ext cx="1623960" cy="1913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737080" y="4901040"/>
                          <a:ext cx="19432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743200" y="4888080"/>
                          <a:ext cx="2359800" cy="193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755440" y="4877640"/>
                          <a:ext cx="2860560" cy="19508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61560" y="4860720"/>
                          <a:ext cx="3499560" cy="196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762640" y="4843800"/>
                          <a:ext cx="3958200" cy="1785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2765520" y="4826160"/>
                          <a:ext cx="3994920" cy="139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756520" y="4782600"/>
                          <a:ext cx="3909960" cy="6591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2717640" y="3835080"/>
                          <a:ext cx="3219480" cy="88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2705040" y="3316320"/>
                          <a:ext cx="2922120" cy="1375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bfbfab"/>
                        </a:solidFill>
                        <a:ln w="936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rot="18780000">
                            <a:off x="2358360" y="4328640"/>
                            <a:ext cx="446040" cy="798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rot="18780000">
                            <a:off x="2239200" y="4031640"/>
                            <a:ext cx="747720" cy="12902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18780000">
                            <a:off x="2147040" y="3772800"/>
                            <a:ext cx="988920" cy="17920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8780000">
                            <a:off x="2048040" y="3456720"/>
                            <a:ext cx="1247760" cy="23284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8780000">
                            <a:off x="1957320" y="3202200"/>
                            <a:ext cx="1543320" cy="28238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8780000">
                            <a:off x="1827000" y="2928240"/>
                            <a:ext cx="1852560" cy="33235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18780000">
                            <a:off x="1715040" y="2658960"/>
                            <a:ext cx="2136960" cy="3806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rot="18780000">
                            <a:off x="1578240" y="2405160"/>
                            <a:ext cx="2481480" cy="427968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rot="18780000">
                            <a:off x="1474920" y="2121120"/>
                            <a:ext cx="2716200" cy="478764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18734400">
                            <a:off x="1384560" y="1848600"/>
                            <a:ext cx="2984400" cy="531000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rot="18819600">
                            <a:off x="1289520" y="1557720"/>
                            <a:ext cx="3252960" cy="5829120"/>
                          </a:xfrm>
                          <a:prstGeom prst="ellipse">
                            <a:avLst/>
                          </a:prstGeom>
                          <a:noFill/>
                          <a:ln w="9360">
                            <a:solidFill>
                              <a:srgbClr val="bfbfa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7" name=""/>
                        <p:cNvSpPr/>
                        <p:nvPr/>
                      </p:nvSpPr>
                      <p:spPr>
                        <a:xfrm flipV="1">
                          <a:off x="2630520" y="1817280"/>
                          <a:ext cx="1318680" cy="2809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2642760" y="2169360"/>
                          <a:ext cx="1767600" cy="24642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2644560" y="1972440"/>
                          <a:ext cx="1554120" cy="2647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2653200" y="2329560"/>
                          <a:ext cx="1976760" cy="2312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2660040" y="2504880"/>
                          <a:ext cx="2215080" cy="21448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2680200" y="2921400"/>
                          <a:ext cx="2536920" cy="1747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2693160" y="3132360"/>
                          <a:ext cx="2707560" cy="15472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714040" y="3593520"/>
                          <a:ext cx="3031200" cy="1114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2726280" y="4080600"/>
                          <a:ext cx="3373200" cy="645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2730960" y="4413960"/>
                          <a:ext cx="3548160" cy="3175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2729160" y="4740120"/>
                          <a:ext cx="3704040" cy="2520"/>
                        </a:xfrm>
                        <a:prstGeom prst="line">
                          <a:avLst/>
                        </a:prstGeom>
                        <a:ln w="9360">
                          <a:solidFill>
                            <a:srgbClr val="bfbfab"/>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238" name=""/>
                        <p:cNvSpPr/>
                        <p:nvPr/>
                      </p:nvSpPr>
                      <p:spPr>
                        <a:xfrm>
                          <a:off x="2746080" y="4761000"/>
                          <a:ext cx="3829320" cy="3164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2764080" y="4804920"/>
                          <a:ext cx="3989880" cy="10155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2391480" y="4898880"/>
                          <a:ext cx="172080" cy="1921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1424160" y="4845960"/>
                          <a:ext cx="1061640" cy="1255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1313280" y="4834080"/>
                          <a:ext cx="1163160" cy="1161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1195200" y="4825800"/>
                          <a:ext cx="1275480" cy="10681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1091880" y="4815000"/>
                          <a:ext cx="1371600" cy="966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985680" y="4807800"/>
                          <a:ext cx="1464120" cy="858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873720" y="4797720"/>
                          <a:ext cx="1573200" cy="742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759240" y="4788360"/>
                          <a:ext cx="1680840" cy="6206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542520" y="4770000"/>
                          <a:ext cx="1885320" cy="348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419760" y="4760280"/>
                          <a:ext cx="2001240" cy="1879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294120" y="4747320"/>
                          <a:ext cx="2119320" cy="17640"/>
                        </a:xfrm>
                        <a:prstGeom prst="line">
                          <a:avLst/>
                        </a:prstGeom>
                        <a:ln w="9360">
                          <a:solidFill>
                            <a:srgbClr val="bfbfab"/>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1" name=""/>
                        <p:cNvSpPr/>
                        <p:nvPr/>
                      </p:nvSpPr>
                      <p:spPr>
                        <a:xfrm flipH="1" flipV="1">
                          <a:off x="42120" y="4334040"/>
                          <a:ext cx="2364120" cy="391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1800" y="4099320"/>
                          <a:ext cx="2397240" cy="606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flipV="1">
                          <a:off x="0" y="3595680"/>
                          <a:ext cx="2390040" cy="10774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339120" y="1008360"/>
                          <a:ext cx="2095200" cy="35643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flipV="1">
                          <a:off x="699120" y="868680"/>
                          <a:ext cx="1756080" cy="370296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1482480" y="823680"/>
                          <a:ext cx="1018800" cy="37404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flipV="1">
                          <a:off x="1833480" y="875520"/>
                          <a:ext cx="685800" cy="369324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V="1">
                          <a:off x="2553120" y="1079280"/>
                          <a:ext cx="4320" cy="3493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573640" y="1203840"/>
                          <a:ext cx="304560" cy="337932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2585160" y="1347480"/>
                          <a:ext cx="585720" cy="32446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2598480" y="1497960"/>
                          <a:ext cx="846000" cy="310608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2612160" y="1662840"/>
                          <a:ext cx="1095120" cy="29448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flipV="1">
                  <a:off x="1381680" y="6087960"/>
                  <a:ext cx="353880" cy="7351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bfbfa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1972800" y="6686640"/>
                    <a:ext cx="121680" cy="13968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540360" y="5792760"/>
                    <a:ext cx="844200" cy="2937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flipV="1">
                    <a:off x="377280" y="4892760"/>
                    <a:ext cx="159840" cy="9000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flipV="1">
                    <a:off x="4320" y="4746600"/>
                    <a:ext cx="372600" cy="14616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86760" y="4892400"/>
                    <a:ext cx="288720" cy="30780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534240" y="5487840"/>
                    <a:ext cx="279000" cy="304920"/>
                  </a:xfrm>
                  <a:prstGeom prst="line">
                    <a:avLst/>
                  </a:prstGeom>
                  <a:ln w="19080">
                    <a:solidFill>
                      <a:srgbClr val="bfbf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5760" y="4316040"/>
                    <a:ext cx="21960" cy="36360"/>
                  </a:xfrm>
                  <a:prstGeom prst="line">
                    <a:avLst/>
                  </a:prstGeom>
                  <a:ln w="19080">
                    <a:solidFill>
                      <a:srgbClr val="bfbfab"/>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bfbfa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rot="19111200">
                <a:off x="3132360" y="3082320"/>
                <a:ext cx="21477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0" name=""/>
              <p:cNvSpPr/>
              <p:nvPr/>
            </p:nvSpPr>
            <p:spPr>
              <a:xfrm rot="16512000">
                <a:off x="3093840" y="4184640"/>
                <a:ext cx="351936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1" name=""/>
              <p:cNvSpPr/>
              <p:nvPr/>
            </p:nvSpPr>
            <p:spPr>
              <a:xfrm rot="18182400">
                <a:off x="1593000" y="4313520"/>
                <a:ext cx="42512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82" name=""/>
              <p:cNvSpPr/>
              <p:nvPr/>
            </p:nvSpPr>
            <p:spPr>
              <a:xfrm rot="20763600">
                <a:off x="1068120" y="2810880"/>
                <a:ext cx="3794040" cy="27000"/>
              </a:xfrm>
              <a:prstGeom prst="rect">
                <a:avLst/>
              </a:prstGeom>
              <a:solidFill>
                <a:srgbClr val="bfbfab"/>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bfbfab"/>
                    </a:gs>
                    <a:gs pos="100000">
                      <a:srgbClr val="c8c8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bfbfab"/>
                    </a:gs>
                    <a:gs pos="100000">
                      <a:srgbClr val="c8c8b7"/>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000000"/>
                </a:solidFill>
                <a:latin typeface="Arial"/>
              </a:rPr>
              <a:t>Click to edit the title text format</a:t>
            </a:r>
            <a:endParaRPr b="0" lang="en-US" sz="5100" spc="-1" strike="noStrike">
              <a:solidFill>
                <a:srgbClr val="000000"/>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E7134-9C8F-4998-93F3-82E8AB721C7D}" type="slidenum">
              <a:rPr b="0" lang="nl-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33660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100" spc="-1" strike="noStrike">
                <a:solidFill>
                  <a:srgbClr val="000000"/>
                </a:solidFill>
                <a:latin typeface="Arial"/>
              </a:rPr>
              <a:t>Meerjaren-plan gewasbescherming</a:t>
            </a:r>
            <a:endParaRPr b="0" lang="en-US" sz="5100" spc="-1" strike="noStrike">
              <a:solidFill>
                <a:srgbClr val="000000"/>
              </a:solidFill>
              <a:latin typeface="Arial"/>
            </a:endParaRPr>
          </a:p>
        </p:txBody>
      </p:sp>
      <p:sp>
        <p:nvSpPr>
          <p:cNvPr id="33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JPG</a:t>
            </a:r>
            <a:endParaRPr b="0" lang="en-US" sz="3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 in 1987</a:t>
            </a:r>
            <a:endParaRPr b="0" lang="en-US" sz="4400" spc="-1" strike="noStrike">
              <a:solidFill>
                <a:srgbClr val="000000"/>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el milieuproble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lucht</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 oppervlaktewater</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vervuilde grond</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én van de oorzaken: het gebruik van chemische bestrijdingsmiddelen</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leidsplannen</a:t>
            </a: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Meer aandacht voor bijdrijfshygiene</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Bevorderen gebruik resistente rass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ruchtwissel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lei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Geintegreerde bestrijding</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Verdana"/>
              </a:rPr>
              <a:t>Verminderen van het aantal middelen</a:t>
            </a:r>
            <a:endParaRPr b="0" lang="en-US" sz="3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itvoering richt zich op:</a:t>
            </a:r>
            <a:endParaRPr b="0" lang="en-US" sz="4400" spc="-1" strike="noStrike">
              <a:solidFill>
                <a:srgbClr val="000000"/>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orkomen van ziekten en plagen</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erugdringen bestrijdingsmiddelen (50% vermindering in 2000 en 95% in 2001</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t grote risico’s voor mens en milieu</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vordering alternatieve vormen van bestrijding</a:t>
            </a:r>
            <a:endParaRPr b="0" lang="en-US" sz="3200" spc="-1" strike="noStrike">
              <a:solidFill>
                <a:srgbClr val="000000"/>
              </a:solidFill>
              <a:latin typeface="Verdana"/>
            </a:endParaRPr>
          </a:p>
          <a:p>
            <a:pPr marL="343080" indent="-343080">
              <a:lnSpc>
                <a:spcPct val="90000"/>
              </a:lnSpc>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erbeteren toepassingstechnieken</a:t>
            </a:r>
            <a:endParaRPr b="0" lang="en-US" sz="3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volgen</a:t>
            </a: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grondwaterbeschermingsgebied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meer toepassen in watergang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een middelen die giftig zijn voor niet schadelijke en nuttige dier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nkruidbeheer en onkruidbeheersing</a:t>
            </a:r>
            <a:endParaRPr b="0" lang="en-US" sz="3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en middelen toepassen in watergangen</a:t>
            </a:r>
            <a:endParaRPr b="0" lang="en-US" sz="4000" spc="-1" strike="noStrike">
              <a:solidFill>
                <a:srgbClr val="000000"/>
              </a:solidFill>
              <a:latin typeface="Arial"/>
            </a:endParaRPr>
          </a:p>
        </p:txBody>
      </p:sp>
      <p:pic>
        <p:nvPicPr>
          <p:cNvPr id="341" name="" descr=""/>
          <p:cNvPicPr/>
          <p:nvPr/>
        </p:nvPicPr>
        <p:blipFill>
          <a:blip r:embed="rId1"/>
          <a:srcRect l="18458" t="8855" r="18801" b="33445"/>
          <a:stretch/>
        </p:blipFill>
        <p:spPr>
          <a:xfrm>
            <a:off x="1258920" y="2039760"/>
            <a:ext cx="6985080" cy="4818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3348000" y="188640"/>
            <a:ext cx="5796000" cy="6669000"/>
          </a:xfrm>
          <a:prstGeom prst="rect">
            <a:avLst/>
          </a:prstGeom>
          <a:noFill/>
          <a:ln w="0">
            <a:noFill/>
          </a:ln>
        </p:spPr>
        <p:txBody>
          <a:bodyPr lIns="90000" rIns="90000" tIns="46800" bIns="46800" anchor="t">
            <a:normAutofit/>
          </a:bodyPr>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Grondwaterbeschermingsgebieden</a:t>
            </a:r>
            <a:br>
              <a:rPr sz="2100"/>
            </a:br>
            <a:r>
              <a:rPr b="0" lang="en-US" sz="2100" spc="-1" strike="noStrike">
                <a:solidFill>
                  <a:srgbClr val="000000"/>
                </a:solidFill>
                <a:latin typeface="Verdana"/>
              </a:rPr>
              <a:t>Het grondwaterbeschermingsgebied is een zone rondom het waterwingebied, een buffer die is ingesteld om het grondwater in het waterwingebied te beschermen. Voor deze zone zijn er minder verboden dan in het waterwingebied. In elk geval gelden er beperkingen voor:</a:t>
            </a:r>
            <a:br>
              <a:rPr sz="2100"/>
            </a:b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isleid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cht verontreinigde grond;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erhardingen en gebouw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oorputten en boring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nd- en funderingswerken en constructies;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vloeistofinjectie;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rmte- en koudeopslag;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graafplaatsen en uitstrooiveld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estrijdingsmiddelen;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zuiveringsslib; </a:t>
            </a:r>
            <a:endParaRPr b="0" lang="en-US" sz="2100" spc="-1" strike="noStrike">
              <a:solidFill>
                <a:srgbClr val="000000"/>
              </a:solidFill>
              <a:latin typeface="Verdana"/>
            </a:endParaRPr>
          </a:p>
          <a:p>
            <a:pPr marL="343080" indent="-343080">
              <a:lnSpc>
                <a:spcPct val="80000"/>
              </a:lnSpc>
              <a:spcBef>
                <a:spcPts val="524"/>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ststoffen. </a:t>
            </a:r>
            <a:endParaRPr b="0" lang="en-US" sz="2100" spc="-1" strike="noStrike">
              <a:solidFill>
                <a:srgbClr val="000000"/>
              </a:solidFill>
              <a:latin typeface="Verdana"/>
            </a:endParaRPr>
          </a:p>
        </p:txBody>
      </p:sp>
      <p:pic>
        <p:nvPicPr>
          <p:cNvPr id="343" name="" descr=""/>
          <p:cNvPicPr/>
          <p:nvPr/>
        </p:nvPicPr>
        <p:blipFill>
          <a:blip r:embed="rId1"/>
          <a:stretch/>
        </p:blipFill>
        <p:spPr>
          <a:xfrm>
            <a:off x="0" y="1268280"/>
            <a:ext cx="3240000" cy="4537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cc5"/>
            </a:gs>
            <a:gs pos="100000">
              <a:srgbClr val="bfbfab"/>
            </a:gs>
          </a:gsLst>
          <a:lin ang="81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hadelijk voor nuttige organismen:</a:t>
            </a:r>
            <a:endParaRPr b="0" lang="en-US" sz="4000" spc="-1" strike="noStrike">
              <a:solidFill>
                <a:srgbClr val="000000"/>
              </a:solidFill>
              <a:latin typeface="Arial"/>
            </a:endParaRPr>
          </a:p>
        </p:txBody>
      </p:sp>
      <p:sp>
        <p:nvSpPr>
          <p:cNvPr id="3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ogels eten van bespoten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aterorganismen ondervinden schade van middelen die in het water terechtkom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ijen gaan dood bij gebruik van middelen op bloeiende planten</a:t>
            </a:r>
            <a:endParaRPr b="0" lang="en-US" sz="3200" spc="-1" strike="noStrike">
              <a:solidFill>
                <a:srgbClr val="000000"/>
              </a:solidFill>
              <a:latin typeface="Verdana"/>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genwormen sterven door sommige middelen</a:t>
            </a:r>
            <a:endParaRPr b="0" lang="en-US" sz="3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19:12:53Z</dcterms:created>
  <dc:creator>Administrator</dc:creator>
  <dc:description/>
  <dc:language>en-US</dc:language>
  <cp:lastModifiedBy>Administrator</cp:lastModifiedBy>
  <dcterms:modified xsi:type="dcterms:W3CDTF">2009-12-28T17:52:07Z</dcterms:modified>
  <cp:revision>3</cp:revision>
  <dc:subject/>
  <dc:title>Meerjaren-plan gewasbescherming</dc:title>
</cp:coreProperties>
</file>