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BAA-3A8D-4259-9251-1BDA6E62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54DB-27CC-4C00-9504-B94D909A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43C-9D9B-490D-A917-D05602726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6E0-CBBA-4349-8C73-8EE0524E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20A48-1A3C-4E1A-8893-6703A7E2B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548B-4F38-444D-95A5-2F234128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352D-091B-4247-9BEA-86665301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3F30-D54F-431A-855C-66EDA490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FEF9-A9AB-4F87-81D4-58D65A1D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FE1E-AA31-4F5F-88F6-EC51378A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6C24-718A-440E-AB72-2197E672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C10A-714A-45A0-B7A8-0FDF9A8E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9F88-C36E-4D03-909C-04600586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9622-3C0B-4754-A648-09365D49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EE61-E022-4290-9185-0693DC8D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07B9-A2F2-48EC-B0E8-95D0B5EF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0232-8774-4A0E-8D00-3E577A60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7F96-A7F0-4281-B0CA-CCCCDF86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4947-7E77-43FD-A0A0-CFDEB4CD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D4F-C4B0-4959-9F6D-D8663ED3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AC8-FD92-4106-A71F-F61726B1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147-9B4A-4F19-BD65-FEA946FA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779A-A325-4BE1-A69C-55355C07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BE2-96CA-4C40-BF1C-44DBEF0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5449-3DF9-4DE8-BC37-60697E6F3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7d1b9"/>
                </a:gs>
                <a:gs pos="100000">
                  <a:srgbClr val="e6e3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2bf91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0cd9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c9c696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bf91"/>
                  </a:gs>
                  <a:gs pos="100000">
                    <a:srgbClr val="e6e3a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cd9b"/>
                  </a:gs>
                  <a:gs pos="100000">
                    <a:srgbClr val="e6e3a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bbb98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c9c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b0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e6e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e5e2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e5e2ad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d7d4a1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e6e3ac"/>
                  </a:gs>
                  <a:gs pos="100000">
                    <a:srgbClr val="d7d4a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dddba5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1b9"/>
                  </a:gs>
                  <a:gs pos="100000">
                    <a:srgbClr val="e6e3a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6e3ac"/>
                  </a:gs>
                  <a:gs pos="100000">
                    <a:srgbClr val="d7d1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7d1b9"/>
                    </a:gs>
                    <a:gs pos="100000">
                      <a:srgbClr val="e6e3a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e3ac"/>
                    </a:gs>
                    <a:gs pos="100000">
                      <a:srgbClr val="d7d1b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145C-CC1C-4AA8-8197-952E01105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39257"/>
                </a:solidFill>
                <a:latin typeface="Arial"/>
              </a:rPr>
              <a:t>Opslag van gewasbeschermingsmiddelen</a:t>
            </a:r>
            <a:endParaRPr b="0" lang="en-US" sz="4800" spc="-1" strike="noStrike">
              <a:solidFill>
                <a:srgbClr val="b39257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3483000" cy="3602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4643280" y="3110040"/>
            <a:ext cx="409896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2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og, koel en uit de z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s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randblus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bsorbtie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oedgekeurde instructie (P7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lectra (NEN 1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oezicht op roken en open v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Nieuwe AMVB (2006)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’s bep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olgen van eventuele calamiteit beheersbaar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voor is kennis van de regels van bel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Opsla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al ingerichte 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voldoen aa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en voor opslag van gewasbeschermings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bare middelen onde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door geen verontreiniging andere mid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utel bezit 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84360" y="549360"/>
            <a:ext cx="428616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regelgev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instaties controler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ID: gewasbescherming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-SZW: gewasbeschermingswet en gewasbeschermingsmiddelenbesl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meente: AMvB’s en plaatselijke verord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edselveiligheid/Eurep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39257"/>
                </a:solidFill>
                <a:latin typeface="Arial"/>
              </a:rPr>
              <a:t>Eisen aan oplslag van gewasbeschermingsmiddelen</a:t>
            </a:r>
            <a:endParaRPr b="0" lang="en-US" sz="40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 25 kg opslag: geen 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5 kg tot max 400 kg: afgesloten ruimte of k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die binnen 48 uur worden gebruikt: op 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Eisen aan de berging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dveiligheidsei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istofdichte vlo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w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9257"/>
                </a:solidFill>
                <a:latin typeface="Arial"/>
              </a:rPr>
              <a:t>Algemene eisen 1</a:t>
            </a:r>
            <a:endParaRPr b="0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slui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e bouw en standpla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uis)di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ting van de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 voor de schap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ingsbord op de d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042920" y="981000"/>
            <a:ext cx="7200720" cy="4895640"/>
            <a:chOff x="1042920" y="981000"/>
            <a:chExt cx="7200720" cy="4895640"/>
          </a:xfrm>
        </p:grpSpPr>
        <p:sp>
          <p:nvSpPr>
            <p:cNvPr id="228" name=""/>
            <p:cNvSpPr/>
            <p:nvPr/>
          </p:nvSpPr>
          <p:spPr>
            <a:xfrm>
              <a:off x="1042920" y="981000"/>
              <a:ext cx="7200720" cy="489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ewasbeschermingsmiddele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PIC 201 Vuur, open vlam en roken verboden * Ø 100 mm uitgevoerd in  Aluminium plaat"/>
            <p:cNvPicPr/>
            <p:nvPr/>
          </p:nvPicPr>
          <p:blipFill>
            <a:blip r:embed="rId1"/>
            <a:stretch/>
          </p:blipFill>
          <p:spPr>
            <a:xfrm>
              <a:off x="4907880" y="1905120"/>
              <a:ext cx="2265840" cy="23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MINIPIC 0704 Giftige Stoffen"/>
            <p:cNvPicPr/>
            <p:nvPr/>
          </p:nvPicPr>
          <p:blipFill>
            <a:blip r:embed="rId2"/>
            <a:stretch/>
          </p:blipFill>
          <p:spPr>
            <a:xfrm>
              <a:off x="1974600" y="1956960"/>
              <a:ext cx="2401200" cy="219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"/>
          <p:cNvSpPr/>
          <p:nvPr/>
        </p:nvSpPr>
        <p:spPr>
          <a:xfrm>
            <a:off x="1906920" y="5013360"/>
            <a:ext cx="541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oden voor onbevoe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0:39:42Z</dcterms:created>
  <dc:creator>default</dc:creator>
  <dc:description/>
  <dc:language>en-US</dc:language>
  <cp:lastModifiedBy>Administrator</cp:lastModifiedBy>
  <dcterms:modified xsi:type="dcterms:W3CDTF">2009-12-28T17:50:09Z</dcterms:modified>
  <cp:revision>3</cp:revision>
  <dc:subject/>
  <dc:title>Opslag van gewasbeschermingsmiddelen</dc:title>
</cp:coreProperties>
</file>