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2779-1AC1-436F-87D6-DCA6E2B5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C05-3603-4986-B9C0-33561869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C388-C62D-4D4C-89F5-33ED60DC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E39-421A-4B33-A52C-5CCA56FF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523FB-497F-4223-A00A-5B7034AA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3CBB7-3991-4A51-A03A-18F40E77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A775D-B432-4D08-B6A8-81A18BF1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5C0E3-9B32-4217-A99D-FF84425A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3D3C3-E2F0-4290-87A1-76BD36F5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69977-5DE4-43EB-BC99-A5CD8D03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A85C5-D00A-4BAD-A730-FA2506F0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8DD-4BDC-4DB9-B638-520A3FEF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3F396-8A7B-464D-BCD7-EEE2A5D4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6B058-EE9F-4356-8D2D-5B461DE7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72CD7-4A1D-4689-A097-C5149078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EA7FD-76CA-4EFA-BD79-D4DABCBC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70D03-B86D-4268-9E0F-594D3B78E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EA1-2797-4079-A374-69B39589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C3AD-17B3-4442-B356-565B690E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73F5-B6C4-4A25-91DE-83F4A0A8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7C9-2A71-47A6-B6BC-0F65D279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8453-B752-45B4-8474-CD813853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C75-B490-4362-BD25-D9C4D4B8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E0B8-FA77-40C3-9C52-4B172810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C0E8-7985-4FC2-B9CF-4F540A8B3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4C98-D29D-49E3-A263-A676AAD353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grodyn.org/Gewasbeschermingsplan/2009/Gewasbeschermingsplan%202009-grasland.pdf" TargetMode="External"/><Relationship Id="rId3" Type="http://schemas.openxmlformats.org/officeDocument/2006/relationships/hyperlink" Target="http://www.clm.nl/publicaties/data/gewaslogboek.doc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m.nl/publicaties/data/gewaslogboek.doc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Gewasbeschermings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or iedere toepass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ppenplan in 3 del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vragen ter voorbereiding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het opstellen van het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het invullen van het logb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1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lke teelten, dat is bij een golfbaa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tee, fairway, green en zelfs de roug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ter deze samen te voegen tot de ba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ewasbeschermingsstrategie is overeenkomsti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de vragen (2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ziekten, plagen en onkruiden zijn in de eigen baan van bela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belasting van het milieu kan voorkomen? Oppervlaktewater? Grondwater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zijn de jaarlijkse kost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e arbo zaken zijn voor het personeel van belang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lk effect kun je verwachten op natuurlijke vijand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1; de vragen (3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lke maatregelen heb je het afgelopen jaar genom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was daarvan het effec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 heb je hiervoor gekoz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 zou je nog meer of anders hebben kunnen doe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2;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het plan opstell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ownload ëen invulformuli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agrodyn.org/Gewasbeschermingsplan/2009/Gewasbeschermingsplan%202009-grasland.pdf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 of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ul de relevante delen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a dieper in op de belangrijke proble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ap 3; het logboe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ar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nn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Zie ook de site van CLM: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clm.nl/publicaties/data/gewaslogboek.do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0:37:29Z</dcterms:created>
  <dc:creator>default</dc:creator>
  <dc:description/>
  <dc:language>en-US</dc:language>
  <cp:lastModifiedBy>default</cp:lastModifiedBy>
  <dcterms:modified xsi:type="dcterms:W3CDTF">2009-02-03T11:04:39Z</dcterms:modified>
  <cp:revision>2</cp:revision>
  <dc:subject/>
  <dc:title>Gewasbeschermingsplan</dc:title>
</cp:coreProperties>
</file>