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14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39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430-1CC5-460A-AC40-2AF8534F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3C89-43D1-46B2-997F-8E63EDF8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0FD6-BEEA-4B3E-BF8F-F8CEBE04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7C90-FC91-4092-8FB5-500C85189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644B-ED70-458F-B5C4-7C501D67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C2E2-4F5A-4087-8157-C8ABD2B0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70E4-1210-4962-93A2-2320B877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00F1-CAFF-4191-9909-F52A65E0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B17-CAF7-400F-AEB5-A6367E3F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97EB-BF53-4C16-9E45-958F9B85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DE86-B4AA-445B-89D0-D92A2797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7455-2BD9-4011-9964-EF8C7671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7C4D-1703-4FAB-B99D-26F7D96F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5D27-DB81-48BA-A2CD-7663B29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AC34-D804-4196-9A5F-02B2AD96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E2E2-FE18-4269-B776-2AD98DA00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5876-8448-42D2-962C-C43B0AC4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6D92-4ACD-4024-B2C8-8CBC1B3F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8AC-086F-4306-BA07-BD343934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9AC-C103-4925-9F47-22B7D067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4D0-F18F-4158-8377-55B44D16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39FF-AEA8-482C-AAAD-D0B3A8BB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55AA-DCE9-4E99-9E19-9681DDD7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EC54-22AC-4815-A5AD-E37296E9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856-32B3-4739-B589-7A3B4EA7BFD2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F631-E1BF-41D4-A30C-D71327C9B583}" type="slidenum">
              <a:rPr b="0" lang="nl-NL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terplante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éntha 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457200"/>
            <a:ext cx="3990960" cy="62485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536600" y="76212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mu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971440" y="1371600"/>
            <a:ext cx="5501160" cy="932400"/>
            <a:chOff x="2971440" y="1371600"/>
            <a:chExt cx="5501160" cy="932400"/>
          </a:xfrm>
        </p:grpSpPr>
        <p:sp>
          <p:nvSpPr>
            <p:cNvPr id="225" name=""/>
            <p:cNvSpPr/>
            <p:nvPr/>
          </p:nvSpPr>
          <p:spPr>
            <a:xfrm>
              <a:off x="4724280" y="1600200"/>
              <a:ext cx="3748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10) in een sterk ruikende, bolvormig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971440" y="1371600"/>
              <a:ext cx="1523880" cy="4572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1143000"/>
            <a:ext cx="5756400" cy="5334120"/>
            <a:chOff x="2971800" y="1143000"/>
            <a:chExt cx="5756400" cy="5334120"/>
          </a:xfrm>
        </p:grpSpPr>
        <p:pic>
          <p:nvPicPr>
            <p:cNvPr id="228" name="" descr=""/>
            <p:cNvPicPr/>
            <p:nvPr/>
          </p:nvPicPr>
          <p:blipFill>
            <a:blip r:embed="rId2"/>
            <a:stretch/>
          </p:blipFill>
          <p:spPr>
            <a:xfrm>
              <a:off x="4495680" y="1295280"/>
              <a:ext cx="4232520" cy="518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2971800" y="1143000"/>
              <a:ext cx="15238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enyánthes trifoliát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08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4647960" y="3657600"/>
            <a:ext cx="2910240" cy="1008720"/>
            <a:chOff x="4647960" y="3657600"/>
            <a:chExt cx="2910240" cy="1008720"/>
          </a:xfrm>
        </p:grpSpPr>
        <p:sp>
          <p:nvSpPr>
            <p:cNvPr id="235" name=""/>
            <p:cNvSpPr/>
            <p:nvPr/>
          </p:nvSpPr>
          <p:spPr>
            <a:xfrm>
              <a:off x="5334120" y="3657600"/>
              <a:ext cx="2224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bloemen (5-6) met gefranjerde kroonslipp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4647960" y="4191120"/>
              <a:ext cx="5331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648320" y="2143080"/>
            <a:ext cx="4267080" cy="4200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7360560" y="76212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8000"/>
                </a:solidFill>
                <a:latin typeface="Times New Roman"/>
              </a:rPr>
              <a:t>Waterdriebla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04920" y="0"/>
            <a:ext cx="8610480" cy="6553080"/>
            <a:chOff x="304920" y="0"/>
            <a:chExt cx="8610480" cy="6553080"/>
          </a:xfrm>
        </p:grpSpPr>
        <p:pic>
          <p:nvPicPr>
            <p:cNvPr id="240" name="" descr=""/>
            <p:cNvPicPr/>
            <p:nvPr/>
          </p:nvPicPr>
          <p:blipFill>
            <a:blip r:embed="rId3"/>
            <a:stretch/>
          </p:blipFill>
          <p:spPr>
            <a:xfrm>
              <a:off x="304920" y="1301760"/>
              <a:ext cx="8610480" cy="52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304920" y="0"/>
              <a:ext cx="335268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Myosótis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9256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5862960" y="838080"/>
            <a:ext cx="28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-vergeet-me- nietj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343040" y="3124080"/>
            <a:ext cx="4209480" cy="398880"/>
            <a:chOff x="4343040" y="3124080"/>
            <a:chExt cx="4209480" cy="398880"/>
          </a:xfrm>
        </p:grpSpPr>
        <p:sp>
          <p:nvSpPr>
            <p:cNvPr id="248" name=""/>
            <p:cNvSpPr/>
            <p:nvPr/>
          </p:nvSpPr>
          <p:spPr>
            <a:xfrm>
              <a:off x="5630040" y="3124080"/>
              <a:ext cx="292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6) in schi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343040" y="3352680"/>
              <a:ext cx="1219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28600" y="0"/>
            <a:ext cx="8458200" cy="6543720"/>
            <a:chOff x="228600" y="0"/>
            <a:chExt cx="8458200" cy="6543720"/>
          </a:xfrm>
        </p:grpSpPr>
        <p:pic>
          <p:nvPicPr>
            <p:cNvPr id="251" name="" descr=""/>
            <p:cNvPicPr/>
            <p:nvPr/>
          </p:nvPicPr>
          <p:blipFill>
            <a:blip r:embed="rId2"/>
            <a:stretch/>
          </p:blipFill>
          <p:spPr>
            <a:xfrm>
              <a:off x="685800" y="1295280"/>
              <a:ext cx="8001000" cy="52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685800" y="0"/>
              <a:ext cx="358164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1447920"/>
              <a:ext cx="457200" cy="19047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2438280" y="1752480"/>
            <a:ext cx="4133880" cy="4572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0033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úphar lúteum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1371600"/>
            <a:ext cx="5715000" cy="50101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7543440" y="8380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plom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943240" y="1981080"/>
            <a:ext cx="2605320" cy="1313640"/>
            <a:chOff x="5943240" y="1981080"/>
            <a:chExt cx="2605320" cy="1313640"/>
          </a:xfrm>
        </p:grpSpPr>
        <p:sp>
          <p:nvSpPr>
            <p:cNvPr id="261" name=""/>
            <p:cNvSpPr/>
            <p:nvPr/>
          </p:nvSpPr>
          <p:spPr>
            <a:xfrm>
              <a:off x="6629400" y="1981080"/>
              <a:ext cx="19191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elkbladen groter dan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943240" y="251460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1371600"/>
            <a:ext cx="8382240" cy="528012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80880" y="1295280"/>
            <a:ext cx="8382240" cy="538488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304920" y="1295280"/>
            <a:ext cx="8534160" cy="5410440"/>
            <a:chOff x="304920" y="1295280"/>
            <a:chExt cx="8534160" cy="5410440"/>
          </a:xfrm>
        </p:grpSpPr>
        <p:pic>
          <p:nvPicPr>
            <p:cNvPr id="266" name="" descr=""/>
            <p:cNvPicPr/>
            <p:nvPr/>
          </p:nvPicPr>
          <p:blipFill>
            <a:blip r:embed="rId4"/>
            <a:stretch/>
          </p:blipFill>
          <p:spPr>
            <a:xfrm>
              <a:off x="304920" y="1295280"/>
              <a:ext cx="8534160" cy="541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53600" y="6095880"/>
              <a:ext cx="162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ortelstokk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Nymphaéa álba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838080"/>
            <a:ext cx="5562720" cy="51166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7391520" y="838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leli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486040" y="1981080"/>
            <a:ext cx="2833920" cy="1313640"/>
            <a:chOff x="5486040" y="1981080"/>
            <a:chExt cx="2833920" cy="1313640"/>
          </a:xfrm>
        </p:grpSpPr>
        <p:sp>
          <p:nvSpPr>
            <p:cNvPr id="274" name=""/>
            <p:cNvSpPr/>
            <p:nvPr/>
          </p:nvSpPr>
          <p:spPr>
            <a:xfrm>
              <a:off x="6248520" y="1981080"/>
              <a:ext cx="20714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et kroonbladen groter dan kelk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5486040" y="2514600"/>
              <a:ext cx="685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380880" y="685800"/>
            <a:ext cx="8153640" cy="6019920"/>
            <a:chOff x="380880" y="685800"/>
            <a:chExt cx="8153640" cy="601992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8077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380880" y="685800"/>
              <a:ext cx="4572000" cy="533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666880" y="1905120"/>
            <a:ext cx="3730680" cy="38098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7162560" cy="4438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Ranúnculus aquátilis</a:t>
            </a:r>
            <a:r>
              <a:rPr b="0" lang="nl-NL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71800" y="1371600"/>
            <a:ext cx="4392000" cy="4742280"/>
            <a:chOff x="2971800" y="1371600"/>
            <a:chExt cx="4392000" cy="4742280"/>
          </a:xfrm>
        </p:grpSpPr>
        <p:sp>
          <p:nvSpPr>
            <p:cNvPr id="285" name=""/>
            <p:cNvSpPr/>
            <p:nvPr/>
          </p:nvSpPr>
          <p:spPr>
            <a:xfrm>
              <a:off x="3499920" y="137160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rijvende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93400" y="57150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gedoken blader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724280" y="5257440"/>
              <a:ext cx="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971800" y="160020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28600" y="2514600"/>
            <a:ext cx="1919160" cy="1008720"/>
            <a:chOff x="228600" y="2514600"/>
            <a:chExt cx="1919160" cy="1008720"/>
          </a:xfrm>
        </p:grpSpPr>
        <p:sp>
          <p:nvSpPr>
            <p:cNvPr id="290" name=""/>
            <p:cNvSpPr/>
            <p:nvPr/>
          </p:nvSpPr>
          <p:spPr>
            <a:xfrm>
              <a:off x="228600" y="2514600"/>
              <a:ext cx="1919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8) met witte kroonbl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71600" y="3048120"/>
              <a:ext cx="609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8610480" cy="51894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34120" y="3352680"/>
            <a:ext cx="3047760" cy="272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246000" y="838080"/>
            <a:ext cx="256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wone waterranonk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4870440" cy="75596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agittária sagit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885840" y="838080"/>
            <a:ext cx="3673800" cy="1999080"/>
            <a:chOff x="3885840" y="838080"/>
            <a:chExt cx="3673800" cy="1999080"/>
          </a:xfrm>
        </p:grpSpPr>
        <p:sp>
          <p:nvSpPr>
            <p:cNvPr id="300" name=""/>
            <p:cNvSpPr/>
            <p:nvPr/>
          </p:nvSpPr>
          <p:spPr>
            <a:xfrm>
              <a:off x="4716360" y="1600200"/>
              <a:ext cx="28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9) éénslach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1760" y="2438280"/>
              <a:ext cx="119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721400" y="838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3885840" y="10666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14800" y="2666880"/>
              <a:ext cx="5335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0" y="0"/>
            <a:ext cx="8763120" cy="7178760"/>
            <a:chOff x="0" y="0"/>
            <a:chExt cx="8763120" cy="7178760"/>
          </a:xfrm>
        </p:grpSpPr>
        <p:pic>
          <p:nvPicPr>
            <p:cNvPr id="306" name="" descr=""/>
            <p:cNvPicPr/>
            <p:nvPr/>
          </p:nvPicPr>
          <p:blipFill>
            <a:blip r:embed="rId2"/>
            <a:stretch/>
          </p:blipFill>
          <p:spPr>
            <a:xfrm>
              <a:off x="0" y="152280"/>
              <a:ext cx="4527720" cy="702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7" name=""/>
            <p:cNvGrpSpPr/>
            <p:nvPr/>
          </p:nvGrpSpPr>
          <p:grpSpPr>
            <a:xfrm>
              <a:off x="228600" y="0"/>
              <a:ext cx="8534520" cy="6561000"/>
              <a:chOff x="228600" y="0"/>
              <a:chExt cx="8534520" cy="6561000"/>
            </a:xfrm>
          </p:grpSpPr>
          <p:pic>
            <p:nvPicPr>
              <p:cNvPr id="3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28600" y="838080"/>
                <a:ext cx="8534520" cy="5722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228600" y="0"/>
                <a:ext cx="49528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215640" y="304920"/>
              <a:ext cx="44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diverse bladvormen, drijvend en op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228600" y="762120"/>
            <a:ext cx="8686800" cy="58021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>
            <a:off x="1295280" y="762120"/>
            <a:ext cx="3691080" cy="5790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52280" y="304920"/>
            <a:ext cx="4803840" cy="7038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                                </a:t>
            </a: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zuring                     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9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círpus lac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rcRect l="-1834" t="0" r="0" b="0"/>
          <a:stretch/>
        </p:blipFill>
        <p:spPr>
          <a:xfrm>
            <a:off x="0" y="685800"/>
            <a:ext cx="7238880" cy="6173640"/>
          </a:xfrm>
          <a:prstGeom prst="rect">
            <a:avLst/>
          </a:prstGeom>
          <a:ln w="0">
            <a:noFill/>
          </a:ln>
        </p:spPr>
      </p:pic>
      <p:grpSp>
        <p:nvGrpSpPr>
          <p:cNvPr id="318" name=""/>
          <p:cNvGrpSpPr/>
          <p:nvPr/>
        </p:nvGrpSpPr>
        <p:grpSpPr>
          <a:xfrm>
            <a:off x="6629400" y="1523880"/>
            <a:ext cx="2224080" cy="1008720"/>
            <a:chOff x="6629400" y="1523880"/>
            <a:chExt cx="2224080" cy="1008720"/>
          </a:xfrm>
        </p:grpSpPr>
        <p:sp>
          <p:nvSpPr>
            <p:cNvPr id="319" name=""/>
            <p:cNvSpPr/>
            <p:nvPr/>
          </p:nvSpPr>
          <p:spPr>
            <a:xfrm>
              <a:off x="7086600" y="1523880"/>
              <a:ext cx="1766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éénslachtige bloemen (7-8) in aartj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629400" y="2057400"/>
              <a:ext cx="3808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324480" y="4038480"/>
            <a:ext cx="2057400" cy="703800"/>
            <a:chOff x="6324480" y="4038480"/>
            <a:chExt cx="2057400" cy="703800"/>
          </a:xfrm>
        </p:grpSpPr>
        <p:sp>
          <p:nvSpPr>
            <p:cNvPr id="322" name=""/>
            <p:cNvSpPr/>
            <p:nvPr/>
          </p:nvSpPr>
          <p:spPr>
            <a:xfrm>
              <a:off x="7010280" y="4038480"/>
              <a:ext cx="1371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gelede stengel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6324480" y="4419720"/>
              <a:ext cx="60984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686800" cy="57913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2952720" y="304920"/>
            <a:ext cx="27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attenbies of Stoelenb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48610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1905120" y="1905120"/>
            <a:ext cx="6923520" cy="1465560"/>
            <a:chOff x="1905120" y="1905120"/>
            <a:chExt cx="6923520" cy="1465560"/>
          </a:xfrm>
        </p:grpSpPr>
        <p:sp>
          <p:nvSpPr>
            <p:cNvPr id="330" name=""/>
            <p:cNvSpPr/>
            <p:nvPr/>
          </p:nvSpPr>
          <p:spPr>
            <a:xfrm>
              <a:off x="5630400" y="2971800"/>
              <a:ext cx="31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2 schutbladen (</a:t>
              </a:r>
              <a:r>
                <a:rPr b="0" i="1" lang="en-US" sz="2000" spc="-1" strike="noStrike">
                  <a:solidFill>
                    <a:srgbClr val="5e855b"/>
                  </a:solidFill>
                  <a:latin typeface="Times New Roman"/>
                </a:rPr>
                <a:t>krabbescheer</a:t>
              </a: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3581280" y="1905120"/>
              <a:ext cx="1981440" cy="12952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1905120" y="2590560"/>
              <a:ext cx="3657600" cy="60948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2057040" y="1066680"/>
            <a:ext cx="5882040" cy="1313640"/>
            <a:chOff x="2057040" y="1066680"/>
            <a:chExt cx="5882040" cy="1313640"/>
          </a:xfrm>
        </p:grpSpPr>
        <p:sp>
          <p:nvSpPr>
            <p:cNvPr id="334" name=""/>
            <p:cNvSpPr/>
            <p:nvPr/>
          </p:nvSpPr>
          <p:spPr>
            <a:xfrm>
              <a:off x="5562720" y="1066680"/>
              <a:ext cx="237636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5-7) meestal vrouwelijk, net boven het water uitsteke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057040" y="1295280"/>
              <a:ext cx="33526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057040" y="4572000"/>
            <a:ext cx="6263280" cy="398880"/>
            <a:chOff x="2057040" y="4572000"/>
            <a:chExt cx="6263280" cy="398880"/>
          </a:xfrm>
        </p:grpSpPr>
        <p:sp>
          <p:nvSpPr>
            <p:cNvPr id="337" name=""/>
            <p:cNvSpPr/>
            <p:nvPr/>
          </p:nvSpPr>
          <p:spPr>
            <a:xfrm>
              <a:off x="5632560" y="4572000"/>
              <a:ext cx="26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scherp gezaag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057040" y="4800600"/>
              <a:ext cx="35053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80880" y="0"/>
            <a:ext cx="8991720" cy="6858000"/>
            <a:chOff x="380880" y="0"/>
            <a:chExt cx="8991720" cy="6858000"/>
          </a:xfrm>
        </p:grpSpPr>
        <p:grpSp>
          <p:nvGrpSpPr>
            <p:cNvPr id="340" name=""/>
            <p:cNvGrpSpPr/>
            <p:nvPr/>
          </p:nvGrpSpPr>
          <p:grpSpPr>
            <a:xfrm>
              <a:off x="380880" y="0"/>
              <a:ext cx="8991720" cy="6858000"/>
              <a:chOff x="380880" y="0"/>
              <a:chExt cx="8991720" cy="6858000"/>
            </a:xfrm>
          </p:grpSpPr>
          <p:pic>
            <p:nvPicPr>
              <p:cNvPr id="3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304920"/>
                <a:ext cx="5837400" cy="640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6172200" y="0"/>
                <a:ext cx="3200400" cy="68580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6319080" y="6095880"/>
              <a:ext cx="227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twikkelingscyclu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28600" y="304920"/>
            <a:ext cx="8763120" cy="6292800"/>
            <a:chOff x="228600" y="304920"/>
            <a:chExt cx="8763120" cy="6292800"/>
          </a:xfrm>
        </p:grpSpPr>
        <p:pic>
          <p:nvPicPr>
            <p:cNvPr id="345" name="" descr=""/>
            <p:cNvPicPr/>
            <p:nvPr/>
          </p:nvPicPr>
          <p:blipFill>
            <a:blip r:embed="rId3"/>
            <a:stretch/>
          </p:blipFill>
          <p:spPr>
            <a:xfrm>
              <a:off x="228600" y="914400"/>
              <a:ext cx="8763120" cy="568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287280" y="39528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438640" y="304920"/>
              <a:ext cx="1676160" cy="6094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25720" y="380880"/>
            <a:ext cx="8766000" cy="6256080"/>
            <a:chOff x="225720" y="380880"/>
            <a:chExt cx="8766000" cy="6256080"/>
          </a:xfrm>
        </p:grpSpPr>
        <p:pic>
          <p:nvPicPr>
            <p:cNvPr id="349" name="" descr=""/>
            <p:cNvPicPr/>
            <p:nvPr/>
          </p:nvPicPr>
          <p:blipFill>
            <a:blip r:embed="rId4"/>
            <a:stretch/>
          </p:blipFill>
          <p:spPr>
            <a:xfrm>
              <a:off x="228600" y="914040"/>
              <a:ext cx="8763120" cy="57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225720" y="380880"/>
              <a:ext cx="143496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oven wat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4343400" y="914400"/>
            <a:ext cx="3451320" cy="56386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86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Stratiótes aloíd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113720" y="304920"/>
            <a:ext cx="16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rabbesche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09480" y="228600"/>
            <a:ext cx="346716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3200040" y="1066680"/>
            <a:ext cx="3416760" cy="3004200"/>
            <a:chOff x="3200040" y="1066680"/>
            <a:chExt cx="3416760" cy="3004200"/>
          </a:xfrm>
        </p:grpSpPr>
        <p:sp>
          <p:nvSpPr>
            <p:cNvPr id="358" name=""/>
            <p:cNvSpPr/>
            <p:nvPr/>
          </p:nvSpPr>
          <p:spPr>
            <a:xfrm>
              <a:off x="4110480" y="1066680"/>
              <a:ext cx="243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mann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95360" y="3672000"/>
              <a:ext cx="252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vrouwelijke bloeiwijz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200040" y="129528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52320" y="38862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200040" y="1828800"/>
            <a:ext cx="5585760" cy="398880"/>
            <a:chOff x="3200040" y="1828800"/>
            <a:chExt cx="5585760" cy="398880"/>
          </a:xfrm>
        </p:grpSpPr>
        <p:sp>
          <p:nvSpPr>
            <p:cNvPr id="363" name=""/>
            <p:cNvSpPr/>
            <p:nvPr/>
          </p:nvSpPr>
          <p:spPr>
            <a:xfrm flipH="1">
              <a:off x="3200040" y="2057400"/>
              <a:ext cx="76212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03280" y="1828800"/>
              <a:ext cx="468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géén of weinig ruimte tussen de bloeiwijz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200400" y="304920"/>
            <a:ext cx="5486400" cy="6172200"/>
            <a:chOff x="3200400" y="304920"/>
            <a:chExt cx="5486400" cy="6172200"/>
          </a:xfrm>
        </p:grpSpPr>
        <p:pic>
          <p:nvPicPr>
            <p:cNvPr id="366" name="" descr=""/>
            <p:cNvPicPr/>
            <p:nvPr/>
          </p:nvPicPr>
          <p:blipFill>
            <a:blip r:embed="rId2"/>
            <a:stretch/>
          </p:blipFill>
          <p:spPr>
            <a:xfrm>
              <a:off x="4572000" y="304920"/>
              <a:ext cx="4114800" cy="617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3200400" y="914400"/>
              <a:ext cx="137160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3657600"/>
              <a:ext cx="121932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14800" cy="6172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304920" y="0"/>
            <a:ext cx="8381880" cy="6477120"/>
            <a:chOff x="304920" y="0"/>
            <a:chExt cx="8381880" cy="6477120"/>
          </a:xfrm>
        </p:grpSpPr>
        <p:pic>
          <p:nvPicPr>
            <p:cNvPr id="371" name="" descr=""/>
            <p:cNvPicPr/>
            <p:nvPr/>
          </p:nvPicPr>
          <p:blipFill>
            <a:blip r:embed="rId4"/>
            <a:stretch/>
          </p:blipFill>
          <p:spPr>
            <a:xfrm>
              <a:off x="457200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" descr=""/>
            <p:cNvPicPr/>
            <p:nvPr/>
          </p:nvPicPr>
          <p:blipFill>
            <a:blip r:embed="rId5"/>
            <a:stretch/>
          </p:blipFill>
          <p:spPr>
            <a:xfrm>
              <a:off x="304920" y="1143000"/>
              <a:ext cx="41148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419720" y="1143000"/>
              <a:ext cx="152280" cy="5334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920" y="0"/>
              <a:ext cx="8381880" cy="1143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Týpha lat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38160" y="304920"/>
            <a:ext cx="289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rote lisdodde, Rietsiga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67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132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Alísma plantágo-aquátic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2200" y="8380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Waterweegbre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14440" y="1981080"/>
            <a:ext cx="3491280" cy="1295280"/>
            <a:chOff x="4114440" y="1981080"/>
            <a:chExt cx="3491280" cy="1295280"/>
          </a:xfrm>
        </p:grpSpPr>
        <p:sp>
          <p:nvSpPr>
            <p:cNvPr id="119" name=""/>
            <p:cNvSpPr/>
            <p:nvPr/>
          </p:nvSpPr>
          <p:spPr>
            <a:xfrm>
              <a:off x="5410080" y="1981080"/>
              <a:ext cx="2195640" cy="7038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9) in pluim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440" y="2590560"/>
              <a:ext cx="1143000" cy="68580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114800" y="1371600"/>
            <a:ext cx="4664160" cy="5257800"/>
            <a:chOff x="4114800" y="1371600"/>
            <a:chExt cx="4664160" cy="525780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5334120" y="1371600"/>
              <a:ext cx="34448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114800" y="2438280"/>
              <a:ext cx="121932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257800" y="1371600"/>
            <a:ext cx="3529080" cy="5334120"/>
            <a:chOff x="5257800" y="1371600"/>
            <a:chExt cx="3529080" cy="5334120"/>
          </a:xfrm>
        </p:grpSpPr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5257800" y="1371600"/>
              <a:ext cx="352908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7389000" y="6172200"/>
              <a:ext cx="138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66"/>
                  </a:solidFill>
                  <a:latin typeface="Times New Roman"/>
                </a:rPr>
                <a:t>winterbeel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834400" y="6613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67080" y="0"/>
            <a:ext cx="4267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Cáltha palústr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" y="152280"/>
            <a:ext cx="4854600" cy="67057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085880" y="8380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Dotterblo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343040" y="914040"/>
            <a:ext cx="3711960" cy="1161360"/>
            <a:chOff x="4343040" y="914040"/>
            <a:chExt cx="3711960" cy="1161360"/>
          </a:xfrm>
        </p:grpSpPr>
        <p:sp>
          <p:nvSpPr>
            <p:cNvPr id="133" name=""/>
            <p:cNvSpPr/>
            <p:nvPr/>
          </p:nvSpPr>
          <p:spPr>
            <a:xfrm>
              <a:off x="5562720" y="1676520"/>
              <a:ext cx="2492280" cy="398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5-6 bloembladen (4-5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flipV="1">
              <a:off x="4343040" y="914040"/>
              <a:ext cx="1066680" cy="76212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33520" y="0"/>
            <a:ext cx="8001000" cy="6629400"/>
            <a:chOff x="533520" y="0"/>
            <a:chExt cx="8001000" cy="66294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533520" y="1295280"/>
              <a:ext cx="800100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33520" y="0"/>
              <a:ext cx="4876920" cy="12952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533520" y="1295280"/>
            <a:ext cx="8001000" cy="5334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533520" y="1295280"/>
            <a:ext cx="8001000" cy="5346720"/>
          </a:xfrm>
          <a:prstGeom prst="rect">
            <a:avLst/>
          </a:prstGeom>
          <a:ln w="0">
            <a:noFill/>
          </a:ln>
        </p:spPr>
      </p:pic>
      <p:grpSp>
        <p:nvGrpSpPr>
          <p:cNvPr id="140" name=""/>
          <p:cNvGrpSpPr/>
          <p:nvPr/>
        </p:nvGrpSpPr>
        <p:grpSpPr>
          <a:xfrm>
            <a:off x="599760" y="457200"/>
            <a:ext cx="3362760" cy="3276360"/>
            <a:chOff x="599760" y="457200"/>
            <a:chExt cx="3362760" cy="3276360"/>
          </a:xfrm>
        </p:grpSpPr>
        <p:pic>
          <p:nvPicPr>
            <p:cNvPr id="141" name="" descr=""/>
            <p:cNvPicPr/>
            <p:nvPr/>
          </p:nvPicPr>
          <p:blipFill>
            <a:blip r:embed="rId5"/>
            <a:stretch/>
          </p:blipFill>
          <p:spPr>
            <a:xfrm>
              <a:off x="609480" y="533160"/>
              <a:ext cx="318636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599760" y="457200"/>
              <a:ext cx="336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zaden in bootvormige vrucht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77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Elodéa canadénsi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4516560" cy="703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29200" y="1219320"/>
            <a:ext cx="3657600" cy="5209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780960" y="685800"/>
            <a:ext cx="18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Brede waterp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78400" y="457200"/>
            <a:ext cx="143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i (6-8)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oven wat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Filipéndula ulm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98600" y="228600"/>
            <a:ext cx="375588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2133360" y="2514600"/>
            <a:ext cx="6016320" cy="1479960"/>
            <a:chOff x="2133360" y="2514600"/>
            <a:chExt cx="6016320" cy="1479960"/>
          </a:xfrm>
        </p:grpSpPr>
        <p:sp>
          <p:nvSpPr>
            <p:cNvPr id="155" name=""/>
            <p:cNvSpPr/>
            <p:nvPr/>
          </p:nvSpPr>
          <p:spPr>
            <a:xfrm>
              <a:off x="5019480" y="2514600"/>
              <a:ext cx="279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in ‘speren’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133360" y="2743200"/>
              <a:ext cx="28954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06160" y="3290760"/>
              <a:ext cx="314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aderen afgebroken geveer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onderzijde witviltig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91120" y="3581280"/>
              <a:ext cx="76176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7160760" y="762120"/>
            <a:ext cx="159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spire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304920"/>
            <a:ext cx="8382240" cy="6324480"/>
            <a:chOff x="380880" y="304920"/>
            <a:chExt cx="8382240" cy="632448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80880" y="1219320"/>
              <a:ext cx="838224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380880" y="304920"/>
              <a:ext cx="3657600" cy="914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12372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Iris pseudácoru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80880" y="380880"/>
            <a:ext cx="3409920" cy="62485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849080" y="76212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Gele li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362320" y="1523880"/>
            <a:ext cx="4814640" cy="703800"/>
            <a:chOff x="2362320" y="1523880"/>
            <a:chExt cx="4814640" cy="703800"/>
          </a:xfrm>
        </p:grpSpPr>
        <p:sp>
          <p:nvSpPr>
            <p:cNvPr id="169" name=""/>
            <p:cNvSpPr/>
            <p:nvPr/>
          </p:nvSpPr>
          <p:spPr>
            <a:xfrm>
              <a:off x="4267080" y="1523880"/>
              <a:ext cx="2909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5e855b"/>
                  </a:solidFill>
                  <a:latin typeface="Times New Roman"/>
                </a:rPr>
                <a:t>drietallige bloemen (5-7) met duidelijk honingmer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362320" y="2057400"/>
              <a:ext cx="18288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590920" y="3809880"/>
            <a:ext cx="4572000" cy="2470680"/>
            <a:chOff x="2590920" y="3809880"/>
            <a:chExt cx="4572000" cy="247068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4648320" y="3809880"/>
              <a:ext cx="2514600" cy="20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33200" y="588168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zaden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76920"/>
              <a:ext cx="22860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80880" y="228600"/>
            <a:ext cx="8323560" cy="6629400"/>
            <a:chOff x="380880" y="228600"/>
            <a:chExt cx="8323560" cy="6629400"/>
          </a:xfrm>
        </p:grpSpPr>
        <p:pic>
          <p:nvPicPr>
            <p:cNvPr id="176" name="" descr=""/>
            <p:cNvPicPr/>
            <p:nvPr/>
          </p:nvPicPr>
          <p:blipFill>
            <a:blip r:embed="rId3">
              <a:lum bright="24000"/>
            </a:blip>
            <a:stretch/>
          </p:blipFill>
          <p:spPr>
            <a:xfrm>
              <a:off x="380880" y="228600"/>
              <a:ext cx="4395960" cy="647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5410080" y="1371600"/>
              <a:ext cx="329436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724280" y="228600"/>
              <a:ext cx="762120" cy="66294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0004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nummul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304920" y="228600"/>
            <a:ext cx="3851280" cy="6629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010280" y="7621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Penningk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038480" y="1905120"/>
            <a:ext cx="4395960" cy="398880"/>
            <a:chOff x="4038480" y="1905120"/>
            <a:chExt cx="4395960" cy="398880"/>
          </a:xfrm>
        </p:grpSpPr>
        <p:sp>
          <p:nvSpPr>
            <p:cNvPr id="185" name=""/>
            <p:cNvSpPr/>
            <p:nvPr/>
          </p:nvSpPr>
          <p:spPr>
            <a:xfrm>
              <a:off x="5478480" y="1905120"/>
              <a:ext cx="295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(6-7) alleenstaand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038480" y="2133720"/>
              <a:ext cx="137160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38480" y="1600200"/>
            <a:ext cx="4641840" cy="4610160"/>
            <a:chOff x="4038480" y="1600200"/>
            <a:chExt cx="4641840" cy="4610160"/>
          </a:xfrm>
        </p:grpSpPr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4419720" y="1600200"/>
              <a:ext cx="4260600" cy="461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038480" y="1905120"/>
              <a:ext cx="381240" cy="53316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927000"/>
            <a:ext cx="4297320" cy="5931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ysimáchia thyrsifól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04640" y="83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Moeraswederi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28640" y="4114800"/>
            <a:ext cx="4875480" cy="703800"/>
            <a:chOff x="3428640" y="4114800"/>
            <a:chExt cx="4875480" cy="703800"/>
          </a:xfrm>
        </p:grpSpPr>
        <p:sp>
          <p:nvSpPr>
            <p:cNvPr id="196" name=""/>
            <p:cNvSpPr/>
            <p:nvPr/>
          </p:nvSpPr>
          <p:spPr>
            <a:xfrm>
              <a:off x="5638680" y="4114800"/>
              <a:ext cx="266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e855b"/>
                  </a:solidFill>
                  <a:latin typeface="Times New Roman"/>
                </a:rPr>
                <a:t>bloemen in trossen (5-6)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3428640" y="4343400"/>
              <a:ext cx="1981080" cy="0"/>
            </a:xfrm>
            <a:prstGeom prst="line">
              <a:avLst/>
            </a:prstGeom>
            <a:ln w="15840">
              <a:solidFill>
                <a:srgbClr val="5e855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352680" y="1295280"/>
            <a:ext cx="5029200" cy="5257800"/>
            <a:chOff x="3352680" y="1295280"/>
            <a:chExt cx="5029200" cy="525780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19720" y="1295280"/>
              <a:ext cx="396216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352680" y="4191120"/>
              <a:ext cx="1067040" cy="3808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76360" y="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cc"/>
                </a:solidFill>
                <a:latin typeface="Arial"/>
              </a:rPr>
              <a:t>Lýthrum salicári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" y="0"/>
            <a:ext cx="4492800" cy="6629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466400" y="762120"/>
            <a:ext cx="14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8000"/>
                </a:solidFill>
                <a:latin typeface="Times New Roman"/>
              </a:rPr>
              <a:t>Kattenstaa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3080" y="6172200"/>
            <a:ext cx="336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e855b"/>
                </a:solidFill>
                <a:latin typeface="Times New Roman"/>
              </a:rPr>
              <a:t>bloemen (6-7) in schijnkrans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114440" y="1905120"/>
            <a:ext cx="5029560" cy="3523680"/>
            <a:chOff x="4114440" y="1905120"/>
            <a:chExt cx="5029560" cy="3523680"/>
          </a:xfrm>
        </p:grpSpPr>
        <p:sp>
          <p:nvSpPr>
            <p:cNvPr id="208" name=""/>
            <p:cNvSpPr/>
            <p:nvPr/>
          </p:nvSpPr>
          <p:spPr>
            <a:xfrm>
              <a:off x="5410080" y="2895480"/>
              <a:ext cx="373392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opmerkelijk: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000" spc="-1" strike="noStrike">
                  <a:solidFill>
                    <a:srgbClr val="990033"/>
                  </a:solidFill>
                  <a:latin typeface="Times New Roman"/>
                </a:rPr>
                <a:t>trimorfie:</a:t>
              </a: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drie verschillende stijl- en meeldraadlengtes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(per plant één bepaalde lengte)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990033"/>
                  </a:solidFill>
                  <a:latin typeface="Times New Roman"/>
                </a:rPr>
                <a:t>Hierdoor is kruisbestuiving gegarandeerd.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114440" y="3124080"/>
              <a:ext cx="1143000" cy="30492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267080" y="1905120"/>
              <a:ext cx="990720" cy="121896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114440" y="3124080"/>
              <a:ext cx="1143000" cy="1600200"/>
            </a:xfrm>
            <a:prstGeom prst="line">
              <a:avLst/>
            </a:prstGeom>
            <a:ln w="158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80880" y="0"/>
            <a:ext cx="4953240" cy="6858000"/>
            <a:chOff x="380880" y="0"/>
            <a:chExt cx="4953240" cy="6858000"/>
          </a:xfrm>
        </p:grpSpPr>
        <p:pic>
          <p:nvPicPr>
            <p:cNvPr id="213" name="" descr=""/>
            <p:cNvPicPr/>
            <p:nvPr/>
          </p:nvPicPr>
          <p:blipFill>
            <a:blip r:embed="rId2"/>
            <a:stretch/>
          </p:blipFill>
          <p:spPr>
            <a:xfrm>
              <a:off x="380880" y="0"/>
              <a:ext cx="3730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114800" y="0"/>
              <a:ext cx="1219320" cy="685800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04920" y="0"/>
            <a:ext cx="8610480" cy="6858000"/>
            <a:chOff x="304920" y="0"/>
            <a:chExt cx="8610480" cy="6858000"/>
          </a:xfrm>
        </p:grpSpPr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304920" y="1219320"/>
              <a:ext cx="8610480" cy="535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304920" y="0"/>
              <a:ext cx="3962160" cy="12193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4920" y="6553080"/>
              <a:ext cx="3962160" cy="3049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-360" y="6613560"/>
            <a:ext cx="91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inhoud: 2 &lt;E</a:t>
            </a: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gt;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834040" y="6613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1:48:51Z</dcterms:created>
  <dc:creator>default</dc:creator>
  <dc:description/>
  <dc:language>en-US</dc:language>
  <cp:lastModifiedBy>Administrator</cp:lastModifiedBy>
  <dcterms:modified xsi:type="dcterms:W3CDTF">2011-01-18T20:20:44Z</dcterms:modified>
  <cp:revision>12</cp:revision>
  <dc:subject/>
  <dc:title>Dia 1</dc:title>
</cp:coreProperties>
</file>