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A6D-0200-4F5A-A84B-2E427450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71A-90CC-41E2-A309-F303330C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FF0-FF82-4E4F-BC34-5EC73C5C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B07-F331-4D04-ACA9-9060CEBC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5B267-5A36-45CE-94C5-134D8E88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B3E8-80A8-4AE4-A492-11BD1B44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A586-D231-4673-BA3F-517D90A5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5ECA-D68F-4BE3-AB75-DA711F2D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4CD9-D771-4EBD-B5F7-DA037B05B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7D89-C19F-457C-804F-5A7ACC9A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F9A0-4A79-44C1-B013-C41E625A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11DB-83B8-4075-BFE2-83FEC2BD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7E30-20D8-410A-A4C9-950A4CC5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0759-3B27-4831-9F36-7884BCF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7924-79D4-494A-843C-DA6B94C1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BEAD-6CB1-4B07-8E7E-A6D6D577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84E5-4502-443C-8113-DB577D13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745D-8260-43E1-8903-342FBABF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588-0E7C-4F2F-B6CF-18C2D586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F55D-1ACB-4594-92A2-2B7675FA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7C3B-35AD-4B8D-9BAB-F2B7D315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1ED-B5DA-42D7-8DE5-03036321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5DAB-B0F5-4E70-8426-7A9D068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36A-3299-4F08-9A1F-5F2A5A29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4C49-7AEF-4FEC-BEA5-BEA0BBAE800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2C59-EDEB-425C-B771-7C5B4E331490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/fetch/93689552/93691489/t-gewasbescherming.htm.html?nodeid=93689073&amp;vernum=-2" TargetMode="External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ewasbescherm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eti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ystemische werking, wordt in de sapstroom opgeno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ontactmiddelen, werkt alleen waar het gewas wordt geraak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electieve middelen, doodt alleen een soort of groep insecten of onkrui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lesdoders, maakt geen onders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reventieve middelen voorkomt een plaa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uratieve middelen genez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vaarsymbol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0" descr=""/>
          <p:cNvPicPr/>
          <p:nvPr/>
        </p:nvPicPr>
        <p:blipFill>
          <a:blip r:embed="rId1"/>
          <a:stretch/>
        </p:blipFill>
        <p:spPr>
          <a:xfrm>
            <a:off x="0" y="112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4" name="0" descr=""/>
          <p:cNvPicPr/>
          <p:nvPr/>
        </p:nvPicPr>
        <p:blipFill>
          <a:blip r:embed="rId2"/>
          <a:stretch/>
        </p:blipFill>
        <p:spPr>
          <a:xfrm>
            <a:off x="0" y="1916280"/>
            <a:ext cx="666720" cy="657000"/>
          </a:xfrm>
          <a:prstGeom prst="rect">
            <a:avLst/>
          </a:prstGeom>
          <a:ln w="0">
            <a:noFill/>
          </a:ln>
        </p:spPr>
      </p:pic>
      <p:pic>
        <p:nvPicPr>
          <p:cNvPr id="185" name="0" descr=""/>
          <p:cNvPicPr/>
          <p:nvPr/>
        </p:nvPicPr>
        <p:blipFill>
          <a:blip r:embed="rId3"/>
          <a:stretch/>
        </p:blipFill>
        <p:spPr>
          <a:xfrm>
            <a:off x="0" y="2708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6" name="0" descr=""/>
          <p:cNvPicPr/>
          <p:nvPr/>
        </p:nvPicPr>
        <p:blipFill>
          <a:blip r:embed="rId4"/>
          <a:stretch/>
        </p:blipFill>
        <p:spPr>
          <a:xfrm>
            <a:off x="0" y="350028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7" name="0" descr=""/>
          <p:cNvPicPr/>
          <p:nvPr/>
        </p:nvPicPr>
        <p:blipFill>
          <a:blip r:embed="rId5"/>
          <a:stretch/>
        </p:blipFill>
        <p:spPr>
          <a:xfrm>
            <a:off x="0" y="5013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8" name="0" descr=""/>
          <p:cNvPicPr/>
          <p:nvPr/>
        </p:nvPicPr>
        <p:blipFill>
          <a:blip r:embed="rId6"/>
          <a:stretch/>
        </p:blipFill>
        <p:spPr>
          <a:xfrm>
            <a:off x="0" y="5805360"/>
            <a:ext cx="666720" cy="657360"/>
          </a:xfrm>
          <a:prstGeom prst="rect">
            <a:avLst/>
          </a:prstGeom>
          <a:ln w="0">
            <a:noFill/>
          </a:ln>
        </p:spPr>
      </p:pic>
      <p:pic>
        <p:nvPicPr>
          <p:cNvPr id="189" name="0" descr=""/>
          <p:cNvPicPr/>
          <p:nvPr/>
        </p:nvPicPr>
        <p:blipFill>
          <a:blip r:embed="rId7"/>
          <a:stretch/>
        </p:blipFill>
        <p:spPr>
          <a:xfrm>
            <a:off x="0" y="4292640"/>
            <a:ext cx="666720" cy="65736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86680" y="1216080"/>
            <a:ext cx="70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odshoofd”. Symbool voor zeer vergiftige en vergiftig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45200" y="2008080"/>
            <a:ext cx="85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askruis”. Voor middelen die irriterend zijn of schadelijk voor de gezondhe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9800" y="280044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m”. Voor licht ontvlambar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3960" y="3592440"/>
            <a:ext cx="51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m boven cirkel”. Voor oxyderend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17200" y="4384800"/>
            <a:ext cx="81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b. van inwerkend zuur op materiaal of lichaamsdeel. Voor bijtende middel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0520" y="510552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ploffende bom”. Voor explosieve midd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720" y="5897520"/>
            <a:ext cx="28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aarlijk voor het milie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iketinfor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rkna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oelatingsnumm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ard van het prepara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erkzame 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ha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houd van de verpak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uwingszin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eligheidsaanbev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18456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wettelijk gebruiksvoorschrif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schadelijke organis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soort gewas of gewasgro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- of verzorgingssitu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omgeving waar de teelt plaatsvin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tijdstip van bestrij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lle andere toepassingen zijn verbode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veiligheidsterm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ijd tussen de laatste toepassing en de oog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is afhankelijk van de afbraaksnelhe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fvoeren van restanten en verpakk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3 mogelijkhed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Terug naar de leveranci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aar KCA-depo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drijfsafv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e STORL aanduiding geeft hierover informat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564000" y="4552920"/>
            <a:ext cx="3960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 oefening etiketlez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2320" y="306864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454c6"/>
                </a:solidFill>
                <a:uFillTx/>
                <a:latin typeface="Arial"/>
                <a:hlinkClick r:id="rId1"/>
              </a:rPr>
              <a:t>klik hier voor een voorbe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istentie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felijk overdraagba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elen in blokken afwiss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ever niet me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eltmaatregelen en bedrijfshygië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uttige insec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seringen en spuitinterval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t aanmaken van de spuitvloeist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etiket lez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oeveelheid middel bereken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persoonlijke beschermingsmiddelen aandoen/aanbren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apparatuur/toedieningsapparatuur klaarmak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iddel klaarmaken voor gebruik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ustreinig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antwoord opruimen van de verpakkin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toedienen middel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restant verantwoord afvoeren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choonmaken van apparatuur en beschermingsmiddel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afbraak van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cteriën, zonlicht, microorganismen, chemische reac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fbraaksnelheid aangeduid met DT-50 waarde = halfwaardetijd in 30 da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T-waarde van meer dan 60 dagen = een moeilijk afbreekbaar product =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mt op plaatsen terecht zoals grond- en regenw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nstell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rkzame stof (W.S. of A.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verpakking aangegeven als percent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aak vaste stoffen of olieachtige 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oit als pure stof in verband met allerlei bezwa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vorm waarin de stof is gebracht is de “formulering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uit bestaan de middel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plos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raagstof of vulst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spergeermiddel (de w.s. blijft zweve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mulgator (het w.s. blijft gemeng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Uitvloe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ech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nti-schuimmiddel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eur- en geurstoff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spergeer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22878" t="18276" r="27257" b="8480"/>
          <a:stretch/>
        </p:blipFill>
        <p:spPr>
          <a:xfrm>
            <a:off x="1258920" y="1768320"/>
            <a:ext cx="597708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emul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formulering van de mid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puitkorr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Flow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Mengbare olië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Waterige oploss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uifpoe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ranul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Strooi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Rookmidde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Gasnevelformulerin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Aeroso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124000" y="43070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4836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751280" y="5200560"/>
            <a:ext cx="4392720" cy="16574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6840360" y="0"/>
            <a:ext cx="2303640" cy="2736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846160" y="60930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it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2421000"/>
            <a:ext cx="2149560" cy="4437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2195640" y="1773360"/>
            <a:ext cx="2065320" cy="2305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422160" y="220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ul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1295280" cy="576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914400" cy="64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4716360" y="162864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162320" y="3357720"/>
            <a:ext cx="4981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en waterige oplo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2:58:26Z</dcterms:created>
  <dc:creator>Peter</dc:creator>
  <dc:description/>
  <dc:language>en-US</dc:language>
  <cp:lastModifiedBy>Administrator</cp:lastModifiedBy>
  <dcterms:modified xsi:type="dcterms:W3CDTF">2009-12-28T17:39:34Z</dcterms:modified>
  <cp:revision>7</cp:revision>
  <dc:subject/>
  <dc:title>Gewasbescherming</dc:title>
</cp:coreProperties>
</file>