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1CF0-C6D0-424A-8D59-F36BC5D6F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FE6D-D153-414A-92C1-2EBDC2D26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3AAB-392B-46B3-8A80-96A15FC9F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9694-FE84-4C0A-B53A-D96A01788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A6046-0C00-4E49-9556-D5A3A0C33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C5EB1-F8E6-4EEC-9707-F14B279F3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D9301-134A-4E36-9DF9-572EA2B6B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1FAFC-B5E7-4AE6-9A9D-1CF99DAA4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4A870-24E1-4952-96BC-6B1ED02F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BD138-C68A-4D10-8D5B-1957B68CC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BA96A-7145-4B8C-BF43-60736772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32F3-8170-4DAE-A485-94D69C57D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8A6D5-C0FF-4206-8930-0D333228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A9687-32EE-47D0-AFB5-E4707D17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79C42-E51F-4FE6-BCAB-DA7E8FF4B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DDC05-FBE7-47D6-92AD-7B71A4DFC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0A4F4-FD38-4644-8F93-6F4FEBF88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DE49-7975-4134-A35E-EB54C14E3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0D8E-177A-45FC-82AD-936638517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26B3-C8DD-4072-8924-E5DD3E3A9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14BB-92BC-4BD3-9235-7AD191AD6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9566-CE1E-4B8F-9A37-FE8A415F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DCCB-368D-488E-93C3-18644B63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3BEF-4432-40E2-8379-735F7FED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2323E-2798-40A7-8FF5-D0310FC3B075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D81BC-9730-4EE4-835A-4C0ADAFC32ED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Uitvoeren gewasbescherming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le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JP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985: 21.000.000 kg actieve stof afgezet in de landbou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000 gehal­veerd moet zijn in verge­lijking met het gebruik in de periode 1984-1988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003 is een akkoord bereikt over vermindering van de milieulast van 95% in 2010 ten opzicht van 1998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Hoe kom je aan een licenti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bedrijfsvoerder en de distribuant van gewasbeschermingsmiddelen over de nodige kennis beschikk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s men bepaalde cursussen met goed gevolg heeft doorlopen of bepaalde certificaten heeft behaald, kan men in het bezit komen van de wettelijk vereiste licen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elke licenties zijn er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uitvoeren gewasbescherm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deze licentie heeft iedereen nodig die gewasbeschermings ­ middelen toepas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bedrijfsvoeren gewasbescherm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deze licentie is bestemd voor de bedrijfsvoerder van een loonwerkbedrijf of bedrijf in de groenvoorziening die in opdracht van anderen gewas- beschermingsmiddelen toepas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distribueren gewasbeschermingsmiddel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iedere beheerder van een verkooppunt van gewasbeschermingsmiddelen moet deze licentie in zijn bezit hebb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e wet, welke wet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t gewasbeschermingsmiddelen en bioci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 gebruiker van gewasbeschermingsmiddelen is het goed om te weten dat er per oktober 2007 het een en ander is veranderd in de regelgeving. Op die datum is de nieuw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et gewasbeschermingsmiddelen en biocid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werking getreden. Deze wet vervangt de Bestrijdingsmiddelenwet uit 196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Professionele en niet professionele gebruiker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nieuwe wet maakt onderscheid tussen professionele en niet-professionele gebruikers van gewasbeschermings- middelen. Ook kent de wet een categorie middelen geschikt voor niet professioneel gebruik. Andere middelen mag u slechts ontvangen, voorhanden hebben of gebruiken als u een (professionele) gebruiker bent die een bewijs van vakbekwaamheid hee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 u="sng">
                <a:solidFill>
                  <a:srgbClr val="330033"/>
                </a:solidFill>
                <a:uFillTx/>
                <a:latin typeface="Times New Roman"/>
              </a:rPr>
              <a:t>Professionele gebruikers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everanciers en gebruikers van gewasbeschermingsmiddelen hebben een bewijs nodig van vakbekwaamheid (spuitlicentie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et bewijs blijft 5 jaar geldi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erlenging is mogelijk door het volgen van verlengingscursuss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Niet-professionele gebruikers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et-professionele gebruikers hebben geen bewijs van vakbekwaamheid nodi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ij mogen ook maar een beperkt aantal middelen gebruik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lijk die middelen waarvan expliciet is aangegeven (op het etiket) dat ze geschikt zijn voor niet-professioneel gebrui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Geïntegreerde bestrijding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 bent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verplich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m een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gewasbeschermingspla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(zie bijlage 1) te maken. Dit is niet nieuw. Wel nieuw is dat elke gebruiker van gewasbeschermingsmiddelen zo’n plan moet maken, dus ook wanneer u alleen maar bijv.verharde oppervlakten bewerk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plaats van de verplichting tot het bijhouden van een logboek moet u het gebruik van gewasbeschermingsmiddelen verantwoorden in uw administratie. U neemt daarin op welk middel u in welke hoeveelheid op welk perceel hebt gebruikt, wanneer u het middel heeft gekocht, van wie en in welke hoeveelhe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20:22:13Z</dcterms:created>
  <dc:creator>Administrator</dc:creator>
  <dc:description/>
  <dc:language>en-US</dc:language>
  <cp:lastModifiedBy>Administrator</cp:lastModifiedBy>
  <dcterms:modified xsi:type="dcterms:W3CDTF">2010-01-06T20:30:55Z</dcterms:modified>
  <cp:revision>2</cp:revision>
  <dc:subject/>
  <dc:title>Uitvoeren gewasbescherming</dc:title>
</cp:coreProperties>
</file>