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87E-DDCB-4DA9-B7C0-57F6D041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9AF-1F6C-49F5-B457-D600BB86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90D-AD7C-479A-8FD1-A79D3DA5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D077-39B1-4953-A83A-4025410A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C9FC-F808-4344-ADF2-2931D8E0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0456F-1D7A-4BE5-A75A-DA80E1A2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56EF-68F0-49B4-9C0E-C1F4F6A2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D718-BD8B-4FFA-AC86-550FD49B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0499-B775-46F0-B60F-167D4709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7E2E-C4DD-4518-8CC3-F705390E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AE43-ED95-4B73-8970-1A2645E0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0DCF-554E-4101-BA5E-8A6470CE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2BE-66A2-47D4-A796-E0CEF74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F1F-AECB-4C07-80FF-FDE40F7F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53A6-AA44-4F5E-ABB3-264F662D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5194-9234-4A37-A257-5586D287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1AEA-E83D-4000-BDB8-97D42CBFB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158B-6C75-48C6-BD5E-36D00BC7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658-77A6-4F17-AE69-88B434C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6161-4AB8-473A-BF5D-77C74C75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5D9-6FDF-489A-BC91-B382D0C6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7A-3C51-4673-B6C6-2C549CA1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F72-D5CD-43EE-83F4-DBFD88C0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4FF5-5F47-4C42-9B70-7BECBDBD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5796-4A14-4CFD-AC3D-7317783D3971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8c8b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388D-A041-42FA-B017-A3317F2A3C0E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596880"/>
            <a:ext cx="8037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 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missieget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2401920"/>
            <a:ext cx="91440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Figuur bij indicator Uitspoeling en drainage van bestrijdingsmiddelen, 2000"/>
          <p:cNvPicPr/>
          <p:nvPr/>
        </p:nvPicPr>
        <p:blipFill>
          <a:blip r:embed="rId1"/>
          <a:stretch/>
        </p:blipFill>
        <p:spPr>
          <a:xfrm>
            <a:off x="539640" y="0"/>
            <a:ext cx="788508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gs welke rou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van grondontsmettings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damping overige midd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Uitspoeling naar grond en drain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ri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inigen van spuitapparatu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fspoelen naar het oppervlaktew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indero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ecifieke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798480"/>
            <a:ext cx="91440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volgen voor het mili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Persistente middelen verdwijnen nie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s, DDT, HCB, γ-HCH en β-hepta-chloor-epoxide zijn nóg ber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rink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pervlaktewater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or verdamping ongewenste verspreid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Doden van nuttige insec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bod op persistente middel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Op lange termijn bereiken van de streefwaarden voor water, bodem en luc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spreidingsbron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0" y="1270080"/>
            <a:ext cx="914400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ojecten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Telen met toekom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Committed to gre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nieuwe stoffenbel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mplementatie van het voorzorgprincip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enbaar maken van informatie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op zeer korte termijn verzamelen van gegevens over gevaarlijke eigenschappen van stoffen en product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kwaliteitsverbetering van stoffenbeleid op ondernemingsniveau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invulling van ketenverantwoordelijkheid (communicatie over gevaren, risico's en beheersmaatregelen)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het niet meer gebruiken van stoffen of producten, die een onaanvaardbaar gevaar of risico met zich meedra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een carcinogenen, mutagene, reprotoxische (CMR-) stoffen of zeer persistente, bioaccumulerende, toxische (PBT-) stoffen in consumentenproducten en open toepassingen en zoveel mogelijk vermijden van dergelijke stoffen in industriële toepassingen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reven naar beëindiging van emissies van PBT-stoffen binnen één generatie, uiterlijk 202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gecontroleerd weglekken van gewasbeschermingsmiddelen do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vo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sla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ng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erdadige toepass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tant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volgen van Emiss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oppervlakte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Vervuiling drink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Milieuvervu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mens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Gevaar voor hiusdier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 gaat het he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1280" y="912960"/>
            <a:ext cx="7848360" cy="58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in de landbouw stab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Gebruik chemische bestrijdingsmiddelen, sectoren"/>
          <p:cNvPicPr/>
          <p:nvPr/>
        </p:nvPicPr>
        <p:blipFill>
          <a:blip r:embed="rId1"/>
          <a:stretch/>
        </p:blipFill>
        <p:spPr>
          <a:xfrm>
            <a:off x="0" y="1538280"/>
            <a:ext cx="91440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zet in de landbo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0" y="1628640"/>
          <a:ext cx="9143640" cy="5228640"/>
        </p:xfrm>
        <a:graphic>
          <a:graphicData uri="http://schemas.openxmlformats.org/drawingml/2006/table">
            <a:tbl>
              <a:tblPr/>
              <a:tblGrid>
                <a:gridCol w="516600"/>
                <a:gridCol w="2481840"/>
                <a:gridCol w="838800"/>
                <a:gridCol w="838080"/>
                <a:gridCol w="838800"/>
                <a:gridCol w="840240"/>
                <a:gridCol w="839880"/>
                <a:gridCol w="877680"/>
                <a:gridCol w="1071720"/>
              </a:tblGrid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1 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 8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9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6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3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4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9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4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5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rond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 7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 9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3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verige 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5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erale ol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Nefyt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jun07/0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68360" y="1214280"/>
          <a:ext cx="8229600" cy="5643720"/>
        </p:xfrm>
        <a:graphic>
          <a:graphicData uri="http://schemas.openxmlformats.org/drawingml/2006/table">
            <a:tbl>
              <a:tblPr/>
              <a:tblGrid>
                <a:gridCol w="641520"/>
                <a:gridCol w="1892160"/>
                <a:gridCol w="942840"/>
                <a:gridCol w="1065240"/>
                <a:gridCol w="1629000"/>
                <a:gridCol w="885600"/>
                <a:gridCol w="117324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ducti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.o.v. 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g werkzame st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 gebrui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0 6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0 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 1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edelijke beplan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6 2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9 0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0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rtvel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5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hardin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 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 6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oorban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0 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 1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0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aterl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 8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1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ebruikte stoff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mitr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3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5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alap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5 7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4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chloben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 0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 0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 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 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 9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 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 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8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5 6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 5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 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 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maz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4 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 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 2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C/okt02/0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door partic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584280"/>
                <a:gridCol w="2423880"/>
                <a:gridCol w="2525760"/>
                <a:gridCol w="2695680"/>
              </a:tblGrid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% van totale verko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000 kg actieve stof                             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ung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zwa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erb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jzer(II)sulf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yfosaa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naanzu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4-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C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ct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iperonylbutox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lluscici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.o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ldehy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ntsmettingsmiddel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ron: CB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BS/MNC/mrt06/05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bfbfa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uik in andere la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Figuur bij indicator Afzet gewasbeschermingsmiddelen voor landbouwkundig gebruik in enkele landen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6:12:05Z</dcterms:created>
  <dc:creator>Peter</dc:creator>
  <dc:description/>
  <dc:language>en-US</dc:language>
  <cp:lastModifiedBy>Administrator</cp:lastModifiedBy>
  <dcterms:modified xsi:type="dcterms:W3CDTF">2009-12-28T17:45:33Z</dcterms:modified>
  <cp:revision>4</cp:revision>
  <dc:subject/>
  <dc:title>Gewasbescherming</dc:title>
</cp:coreProperties>
</file>