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375-F959-4B77-A6FC-AA2B3F56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6E34-FB0B-4675-8869-EF396EFC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589-8198-4AD9-BC91-8AA1DED0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1A20-EE4B-42AC-9072-6D174A6D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2B6F-B0C9-4B52-8F60-15E7CBEE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623E-CBC0-453E-8A24-DFAC190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B45-437D-4ACD-B0A5-0E9AA7F8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C84-3142-4303-AA3B-7B04D716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E703-D38A-4D80-BB81-69EBBAB2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A135-6984-44A1-A0E8-0A2D69B2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9F0-9211-46E7-AAB0-82EC33B3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4BE-39A9-43C1-8D2B-4827015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EB88-BC0E-4387-A33A-A7DC214943F8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Schimmelziekten in grassportvegetaties</a:t>
            </a: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en andere aantasting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535800" y="5896080"/>
            <a:ext cx="1235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Samenstellin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P. Nug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7"/>
          <p:cNvSpPr/>
          <p:nvPr/>
        </p:nvSpPr>
        <p:spPr>
          <a:xfrm>
            <a:off x="2058840" y="403200"/>
            <a:ext cx="59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ladv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Drechsleria poae/Helminosporium fragr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helminthosporiumbladvlek"/>
          <p:cNvPicPr/>
          <p:nvPr/>
        </p:nvPicPr>
        <p:blipFill>
          <a:blip r:embed="rId1"/>
          <a:stretch/>
        </p:blipFill>
        <p:spPr>
          <a:xfrm>
            <a:off x="2843280" y="2286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bladvlekkena"/>
          <p:cNvPicPr/>
          <p:nvPr/>
        </p:nvPicPr>
        <p:blipFill>
          <a:blip r:embed="rId2"/>
          <a:stretch/>
        </p:blipFill>
        <p:spPr>
          <a:xfrm>
            <a:off x="0" y="1341360"/>
            <a:ext cx="281952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bladvlekkenziekte"/>
          <p:cNvPicPr/>
          <p:nvPr/>
        </p:nvPicPr>
        <p:blipFill>
          <a:blip r:embed="rId3"/>
          <a:stretch/>
        </p:blipFill>
        <p:spPr>
          <a:xfrm>
            <a:off x="0" y="3716280"/>
            <a:ext cx="280836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eldbeemdgras en Engels raaig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rfst en voorja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roge of erg natt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lempgevoelige gro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spattend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chad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ort maaien of beschadig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oge stikstofgif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fvoeren van besmet maais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odemwater beheer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m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noeien omringende beplan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aaihoogte aanpass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-69840" y="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ladvlekken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738360" y="48888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Collectotrichum graminic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5" descr="antracnose3"/>
          <p:cNvPicPr/>
          <p:nvPr/>
        </p:nvPicPr>
        <p:blipFill>
          <a:blip r:embed="rId1"/>
          <a:stretch/>
        </p:blipFill>
        <p:spPr>
          <a:xfrm>
            <a:off x="0" y="1589040"/>
            <a:ext cx="6335640" cy="5268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antracnose1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ok veldbeemd 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ate zomer en ein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echte verdich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temperat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rme bod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tensief gebrui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n de zomer wat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 verbet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-47520" y="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antracno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8" descr="DollarSpota"/>
          <p:cNvPicPr/>
          <p:nvPr/>
        </p:nvPicPr>
        <p:blipFill>
          <a:blip r:embed="rId1"/>
          <a:stretch/>
        </p:blipFill>
        <p:spPr>
          <a:xfrm>
            <a:off x="2843280" y="1844640"/>
            <a:ext cx="6121440" cy="4773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dollarspot"/>
          <p:cNvPicPr/>
          <p:nvPr/>
        </p:nvPicPr>
        <p:blipFill>
          <a:blip r:embed="rId2"/>
          <a:stretch/>
        </p:blipFill>
        <p:spPr>
          <a:xfrm>
            <a:off x="0" y="0"/>
            <a:ext cx="3425760" cy="25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dollarspotb"/>
          <p:cNvPicPr/>
          <p:nvPr/>
        </p:nvPicPr>
        <p:blipFill>
          <a:blip r:embed="rId1"/>
          <a:stretch/>
        </p:blipFill>
        <p:spPr>
          <a:xfrm>
            <a:off x="539640" y="1154160"/>
            <a:ext cx="8280360" cy="54673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930120" y="115920"/>
            <a:ext cx="354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ollarSpot1"/>
          <p:cNvPicPr/>
          <p:nvPr/>
        </p:nvPicPr>
        <p:blipFill>
          <a:blip r:embed="rId1"/>
          <a:stretch/>
        </p:blipFill>
        <p:spPr>
          <a:xfrm>
            <a:off x="0" y="1133640"/>
            <a:ext cx="7620120" cy="5724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642840" y="189000"/>
            <a:ext cx="50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ollarspot </a:t>
            </a: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Sclerotinia homoeocar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tbare rassen van Agrostis en Festu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ikstof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tek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mer/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luchtvochtigheid en hoge 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oed bemestingsreg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 in voorjaar werkt positie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jzerchel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-49320" y="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Dollarsp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sneeuwskimmel3"/>
          <p:cNvPicPr/>
          <p:nvPr/>
        </p:nvPicPr>
        <p:blipFill>
          <a:blip r:embed="rId1"/>
          <a:stretch/>
        </p:blipFill>
        <p:spPr>
          <a:xfrm>
            <a:off x="324000" y="1541520"/>
            <a:ext cx="8424720" cy="5316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2756520" y="42372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382800" y="34452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neeuwschimmel2"/>
          <p:cNvPicPr/>
          <p:nvPr/>
        </p:nvPicPr>
        <p:blipFill>
          <a:blip r:embed="rId1"/>
          <a:stretch/>
        </p:blipFill>
        <p:spPr>
          <a:xfrm>
            <a:off x="0" y="2914560"/>
            <a:ext cx="5715000" cy="394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sneeuwschimmel3"/>
          <p:cNvPicPr/>
          <p:nvPr/>
        </p:nvPicPr>
        <p:blipFill>
          <a:blip r:embed="rId2"/>
          <a:stretch/>
        </p:blipFill>
        <p:spPr>
          <a:xfrm>
            <a:off x="4343400" y="189000"/>
            <a:ext cx="4800600" cy="489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740520" y="711360"/>
            <a:ext cx="29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euwschimm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icrodochium niv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785160" y="1700280"/>
            <a:ext cx="293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etro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Tahoma"/>
              </a:rPr>
              <a:t>Fusarium culm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0" descr="028%20sneeuwschimmel-028%20sneeuwschimmel-1"/>
          <p:cNvPicPr/>
          <p:nvPr/>
        </p:nvPicPr>
        <p:blipFill>
          <a:blip r:embed="rId3"/>
          <a:stretch/>
        </p:blipFill>
        <p:spPr>
          <a:xfrm>
            <a:off x="3419640" y="4762440"/>
            <a:ext cx="2771640" cy="20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Bronn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wasbeschermingsgids 2.10.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eeldbank gewasbescherm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eenkeep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arenbru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opgreen/Advan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sectconsult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zwakt gew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ng doorgroeien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-door late stikstofgif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spreiding door versl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terperiode en warme vochtige zo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dichte 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la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ras droog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ntilati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litten om zode droog te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zichtig met stikstofgift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igiften, vooral einde groeiseizo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weep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afru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ilt bestr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eritage, Signum Caramb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-103680" y="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Sneeuwschimmel/voetr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heksenkring5"/>
          <p:cNvPicPr/>
          <p:nvPr/>
        </p:nvPicPr>
        <p:blipFill>
          <a:blip r:embed="rId1"/>
          <a:stretch/>
        </p:blipFill>
        <p:spPr>
          <a:xfrm>
            <a:off x="250920" y="2967120"/>
            <a:ext cx="5184720" cy="389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eksenkring4"/>
          <p:cNvPicPr/>
          <p:nvPr/>
        </p:nvPicPr>
        <p:blipFill>
          <a:blip r:embed="rId2"/>
          <a:stretch/>
        </p:blipFill>
        <p:spPr>
          <a:xfrm>
            <a:off x="3048120" y="0"/>
            <a:ext cx="6095880" cy="40640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9"/>
          <p:cNvSpPr/>
          <p:nvPr/>
        </p:nvSpPr>
        <p:spPr>
          <a:xfrm>
            <a:off x="3240" y="549360"/>
            <a:ext cx="285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ksenk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rasmius oread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12" descr="030%20weidekring-030%20weidekring-1"/>
          <p:cNvPicPr/>
          <p:nvPr/>
        </p:nvPicPr>
        <p:blipFill>
          <a:blip r:embed="rId3"/>
          <a:stretch/>
        </p:blipFill>
        <p:spPr>
          <a:xfrm>
            <a:off x="5724360" y="3402000"/>
            <a:ext cx="3419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ruchtlichamen in de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strijding is moeil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agelijks prikken en vochtig ma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1 maand vol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ringen verdwijnen vaak vanz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57240" y="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Heksenkr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rondeplekken"/>
          <p:cNvPicPr/>
          <p:nvPr/>
        </p:nvPicPr>
        <p:blipFill>
          <a:blip r:embed="rId1"/>
          <a:stretch/>
        </p:blipFill>
        <p:spPr>
          <a:xfrm>
            <a:off x="0" y="0"/>
            <a:ext cx="4957920" cy="6543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3423960" y="2565360"/>
            <a:ext cx="3974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ndeplekken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hiobol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Gaeumannomyces grami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takealltpddl_3057021"/>
          <p:cNvPicPr/>
          <p:nvPr/>
        </p:nvPicPr>
        <p:blipFill>
          <a:blip r:embed="rId2"/>
          <a:stretch/>
        </p:blipFill>
        <p:spPr>
          <a:xfrm>
            <a:off x="5364000" y="4022640"/>
            <a:ext cx="3780000" cy="283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rondeplekken1"/>
          <p:cNvPicPr/>
          <p:nvPr/>
        </p:nvPicPr>
        <p:blipFill>
          <a:blip r:embed="rId3"/>
          <a:stretch/>
        </p:blipFill>
        <p:spPr>
          <a:xfrm>
            <a:off x="6066000" y="0"/>
            <a:ext cx="3078000" cy="254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take all"/>
          <p:cNvPicPr/>
          <p:nvPr/>
        </p:nvPicPr>
        <p:blipFill>
          <a:blip r:embed="rId1"/>
          <a:stretch/>
        </p:blipFill>
        <p:spPr>
          <a:xfrm>
            <a:off x="250920" y="1150920"/>
            <a:ext cx="8569080" cy="5707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15080" y="13500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TakeAll1"/>
          <p:cNvPicPr/>
          <p:nvPr/>
        </p:nvPicPr>
        <p:blipFill>
          <a:blip r:embed="rId1"/>
          <a:stretch/>
        </p:blipFill>
        <p:spPr>
          <a:xfrm>
            <a:off x="250920" y="3538440"/>
            <a:ext cx="4249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takeall3"/>
          <p:cNvPicPr/>
          <p:nvPr/>
        </p:nvPicPr>
        <p:blipFill>
          <a:blip r:embed="rId2"/>
          <a:stretch/>
        </p:blipFill>
        <p:spPr>
          <a:xfrm>
            <a:off x="3348000" y="18900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Take All patch_news_6905"/>
          <p:cNvPicPr/>
          <p:nvPr/>
        </p:nvPicPr>
        <p:blipFill>
          <a:blip r:embed="rId3"/>
          <a:stretch/>
        </p:blipFill>
        <p:spPr>
          <a:xfrm>
            <a:off x="395280" y="404640"/>
            <a:ext cx="3529080" cy="26514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5583960" y="4724280"/>
            <a:ext cx="273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ake-all 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Magnaporthe po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4038480" cy="56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oodzwenkgras is re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p jonge 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oel w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- e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 en zandgr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control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nodig zure meststoff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vt. ammoniumsulfaat of 4,2 g/m ijzersulfa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alkhoudende meststoffen en dressings voork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122760" y="0"/>
            <a:ext cx="38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ndeplekkenziekte/takeall 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rooddraad"/>
          <p:cNvPicPr/>
          <p:nvPr/>
        </p:nvPicPr>
        <p:blipFill>
          <a:blip r:embed="rId1"/>
          <a:stretch/>
        </p:blipFill>
        <p:spPr>
          <a:xfrm>
            <a:off x="468360" y="404640"/>
            <a:ext cx="4044960" cy="609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8"/>
          <p:cNvSpPr/>
          <p:nvPr/>
        </p:nvSpPr>
        <p:spPr>
          <a:xfrm>
            <a:off x="4862520" y="403200"/>
            <a:ext cx="289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ooddra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Laetisaria fuciform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rooddraad1"/>
          <p:cNvPicPr/>
          <p:nvPr/>
        </p:nvPicPr>
        <p:blipFill>
          <a:blip r:embed="rId2"/>
          <a:stretch/>
        </p:blipFill>
        <p:spPr>
          <a:xfrm>
            <a:off x="5219640" y="1628640"/>
            <a:ext cx="3353040" cy="476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403848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oral in Engels raaigras en roodzwemk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oms in veldbeem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Nat weer gevoel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erder in nazomer en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r nu ook het hele 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kort aan stikst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istente rass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gelmatige aanvoer van stikstof (zwavelzure ammoniak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chimmel verdwijnt vanzelf in naja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-52920" y="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Roodddra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patch"/>
          <p:cNvPicPr/>
          <p:nvPr/>
        </p:nvPicPr>
        <p:blipFill>
          <a:blip r:embed="rId1"/>
          <a:stretch/>
        </p:blipFill>
        <p:spPr>
          <a:xfrm>
            <a:off x="1547640" y="1700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742680" y="488880"/>
            <a:ext cx="1948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ffffff"/>
                </a:solidFill>
                <a:latin typeface="Tahoma"/>
              </a:rPr>
              <a:t>Pythium Sp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Wanneer treden schimmelziekten op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schimmel moet aanwezig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er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waardplant moet ontvankelijk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e groeiomstandigheden moeten goed zij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akteparasi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em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onge plan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Evenwichtige bemesting en berege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bederf vermij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-47520" y="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Omvalziek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kroonroest"/>
          <p:cNvPicPr/>
          <p:nvPr/>
        </p:nvPicPr>
        <p:blipFill>
          <a:blip r:embed="rId1"/>
          <a:stretch/>
        </p:blipFill>
        <p:spPr>
          <a:xfrm>
            <a:off x="0" y="1268280"/>
            <a:ext cx="6227640" cy="41101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63080" y="135000"/>
            <a:ext cx="26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roo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corona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kroonroest2"/>
          <p:cNvPicPr/>
          <p:nvPr/>
        </p:nvPicPr>
        <p:blipFill>
          <a:blip r:embed="rId2"/>
          <a:stretch/>
        </p:blipFill>
        <p:spPr>
          <a:xfrm>
            <a:off x="6410160" y="1773360"/>
            <a:ext cx="2733840" cy="43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ind juni tot herf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Goed aan de groei hou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ak maai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-54720" y="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Kroo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bruinevlekroest"/>
          <p:cNvPicPr/>
          <p:nvPr/>
        </p:nvPicPr>
        <p:blipFill>
          <a:blip r:embed="rId1"/>
          <a:stretch/>
        </p:blipFill>
        <p:spPr>
          <a:xfrm>
            <a:off x="395280" y="4221000"/>
            <a:ext cx="3889440" cy="2551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uccinia poaenemo"/>
          <p:cNvPicPr/>
          <p:nvPr/>
        </p:nvPicPr>
        <p:blipFill>
          <a:blip r:embed="rId2"/>
          <a:stretch/>
        </p:blipFill>
        <p:spPr>
          <a:xfrm>
            <a:off x="395280" y="1341360"/>
            <a:ext cx="3887640" cy="25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rust1"/>
          <p:cNvPicPr/>
          <p:nvPr/>
        </p:nvPicPr>
        <p:blipFill>
          <a:blip r:embed="rId3"/>
          <a:stretch/>
        </p:blipFill>
        <p:spPr>
          <a:xfrm>
            <a:off x="4551480" y="0"/>
            <a:ext cx="45925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762480" y="260280"/>
            <a:ext cx="351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uinevlekkenro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Puccinia poae-nemo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ldbeemd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naf apr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-87120" y="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uinevlekkenro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oor ontbreken van bestijdingsmiddelen wordt het vakmanschap sterker dan ooit aangesprok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oek het antwoord op de onderstaande fout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e voed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ructuur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 fouten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Onjuist ontworpen beplanting vergroot kans o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232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233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341360"/>
          <a:ext cx="8424720" cy="4794480"/>
        </p:xfrm>
        <a:graphic>
          <a:graphicData uri="http://schemas.openxmlformats.org/drawingml/2006/table">
            <a:tbl>
              <a:tblPr/>
              <a:tblGrid>
                <a:gridCol w="1225440"/>
                <a:gridCol w="792000"/>
                <a:gridCol w="719280"/>
                <a:gridCol w="576360"/>
                <a:gridCol w="936720"/>
                <a:gridCol w="718920"/>
                <a:gridCol w="647640"/>
                <a:gridCol w="895320"/>
                <a:gridCol w="636840"/>
                <a:gridCol w="639720"/>
                <a:gridCol w="63648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neeuw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chimm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etr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o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ondep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hra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s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olla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ladvlekk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ks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r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row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a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mva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iek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cht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mpera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ochtighei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ter 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ind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kor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ikstofteve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dere voed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ai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regene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rain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onwerk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uctuu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eluch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1356"/>
          <p:cNvSpPr/>
          <p:nvPr/>
        </p:nvSpPr>
        <p:spPr>
          <a:xfrm>
            <a:off x="267840" y="27936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Oorzaak en gevolg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1358"/>
          <p:cNvSpPr/>
          <p:nvPr/>
        </p:nvSpPr>
        <p:spPr>
          <a:xfrm>
            <a:off x="1996920" y="0"/>
            <a:ext cx="6836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Geef met een kruisje aan welke omstandigheden een aantasting van onderstaade schimme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ahoma"/>
              </a:rPr>
              <a:t>kunnen veroorzaken of vererger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lagen in de gras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1013760" y="3445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ngerli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7" descr="Engerlingen_buitendienstwk42"/>
          <p:cNvPicPr/>
          <p:nvPr/>
        </p:nvPicPr>
        <p:blipFill>
          <a:blip r:embed="rId1"/>
          <a:stretch/>
        </p:blipFill>
        <p:spPr>
          <a:xfrm>
            <a:off x="0" y="1413000"/>
            <a:ext cx="3708360" cy="2781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101%20engerling%20algemeen%20d-101%20engerling%20algemeen%20d-1"/>
          <p:cNvPicPr/>
          <p:nvPr/>
        </p:nvPicPr>
        <p:blipFill>
          <a:blip r:embed="rId2"/>
          <a:stretch/>
        </p:blipFill>
        <p:spPr>
          <a:xfrm>
            <a:off x="5148360" y="3860640"/>
            <a:ext cx="3995640" cy="2997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ais_engerlingen_1-mais_engerlingen_1-1"/>
          <p:cNvPicPr/>
          <p:nvPr/>
        </p:nvPicPr>
        <p:blipFill>
          <a:blip r:embed="rId3"/>
          <a:stretch/>
        </p:blipFill>
        <p:spPr>
          <a:xfrm>
            <a:off x="4610160" y="0"/>
            <a:ext cx="45338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Groeiomstandighed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i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emperatu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ucht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voc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ant met weinig we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se bodemstructuu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srijke omgeving of extensief beheerde grasvel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regelmatig rollen belemmert de larve in zijn bewe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un bosrijke omgeving 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758880" y="2728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emelt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6" descr="emeltenschade"/>
          <p:cNvPicPr/>
          <p:nvPr/>
        </p:nvPicPr>
        <p:blipFill>
          <a:blip r:embed="rId1"/>
          <a:stretch/>
        </p:blipFill>
        <p:spPr>
          <a:xfrm>
            <a:off x="0" y="1978200"/>
            <a:ext cx="6659640" cy="4879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102%20emelt-102%20emelt-1"/>
          <p:cNvPicPr/>
          <p:nvPr/>
        </p:nvPicPr>
        <p:blipFill>
          <a:blip r:embed="rId2"/>
          <a:stretch/>
        </p:blipFill>
        <p:spPr>
          <a:xfrm>
            <a:off x="2268360" y="0"/>
            <a:ext cx="4319640" cy="1728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emelten1-emelten1-1"/>
          <p:cNvPicPr/>
          <p:nvPr/>
        </p:nvPicPr>
        <p:blipFill>
          <a:blip r:embed="rId3"/>
          <a:stretch/>
        </p:blipFill>
        <p:spPr>
          <a:xfrm>
            <a:off x="6686640" y="0"/>
            <a:ext cx="2457360" cy="3714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langpootmug%20gr-langpootmug%20gr-1"/>
          <p:cNvPicPr/>
          <p:nvPr/>
        </p:nvPicPr>
        <p:blipFill>
          <a:blip r:embed="rId4"/>
          <a:stretch/>
        </p:blipFill>
        <p:spPr>
          <a:xfrm>
            <a:off x="6026040" y="4519440"/>
            <a:ext cx="311796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los en vochtig bodemoppervla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rme en vochtige perio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zorg voor een goede ontwatering van de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chte bovenlaag door veel betreden of rollen beperkt de scha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rouwvlieg"/>
          <p:cNvPicPr/>
          <p:nvPr/>
        </p:nvPicPr>
        <p:blipFill>
          <a:blip r:embed="rId1"/>
          <a:stretch/>
        </p:blipFill>
        <p:spPr>
          <a:xfrm>
            <a:off x="5580000" y="549360"/>
            <a:ext cx="2519280" cy="19000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676800" y="6332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ouwvli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rouwvlieg1"/>
          <p:cNvPicPr/>
          <p:nvPr/>
        </p:nvPicPr>
        <p:blipFill>
          <a:blip r:embed="rId2"/>
          <a:stretch/>
        </p:blipFill>
        <p:spPr>
          <a:xfrm>
            <a:off x="250920" y="2924280"/>
            <a:ext cx="57960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el organische resten in de bovenlaa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door de mat te rollen verbetert het contact tussen wortels en gro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ien stikstof toe om grasgroei te bevorde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iologische bestrijd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emische bestrijding heeft alleen zin als de larven jong zij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regenworm"/>
          <p:cNvPicPr/>
          <p:nvPr/>
        </p:nvPicPr>
        <p:blipFill>
          <a:blip r:embed="rId1"/>
          <a:stretch/>
        </p:blipFill>
        <p:spPr>
          <a:xfrm>
            <a:off x="6192720" y="0"/>
            <a:ext cx="2951280" cy="2222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947160" y="84924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regenwor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6" descr="regenworm1"/>
          <p:cNvPicPr/>
          <p:nvPr/>
        </p:nvPicPr>
        <p:blipFill>
          <a:blip r:embed="rId2"/>
          <a:stretch/>
        </p:blipFill>
        <p:spPr>
          <a:xfrm>
            <a:off x="755640" y="1773360"/>
            <a:ext cx="4968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pH-waar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gebruik van veel organische me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sel blijft ligg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8320" y="620280"/>
            <a:ext cx="40384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 verschraling met zand in najaar en voorjaar na vochtige omstandighed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H-verlaging met zuurwerkende meststoff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Verzwakte plant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tr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aien en maaiwon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(te) veel bemest (hierdoor grotere cellen met zwakkere celwande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arm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oogtest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uurstof tekort in de g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eroverla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Beheersing van schimmels is het toepassen van kennis over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assoorten en r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odem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roei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imatologische proce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an- en afvoer van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echanisati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volgen betredingsintensite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brown_patch_rotting_for_web_at_sheath_closeup"/>
          <p:cNvPicPr/>
          <p:nvPr/>
        </p:nvPicPr>
        <p:blipFill>
          <a:blip r:embed="rId1"/>
          <a:stretch/>
        </p:blipFill>
        <p:spPr>
          <a:xfrm>
            <a:off x="324000" y="260280"/>
            <a:ext cx="2268360" cy="18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11" descr="brownpatch5"/>
          <p:cNvPicPr/>
          <p:nvPr/>
        </p:nvPicPr>
        <p:blipFill>
          <a:blip r:embed="rId2"/>
          <a:stretch/>
        </p:blipFill>
        <p:spPr>
          <a:xfrm>
            <a:off x="2124000" y="1838160"/>
            <a:ext cx="7020000" cy="501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brownpatch6"/>
          <p:cNvPicPr/>
          <p:nvPr/>
        </p:nvPicPr>
        <p:blipFill>
          <a:blip r:embed="rId1"/>
          <a:stretch/>
        </p:blipFill>
        <p:spPr>
          <a:xfrm>
            <a:off x="826920" y="1413000"/>
            <a:ext cx="7643880" cy="500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4911480" y="260280"/>
            <a:ext cx="264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rownpat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ffffff"/>
                </a:solidFill>
                <a:latin typeface="Arial"/>
              </a:rPr>
              <a:t>Rhizoctonia sola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Omstan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Juni tot septe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Engels raaigras, Veldbeemd, Roodzwenk en Struisg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dag- en nachttem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ge (lucht)vochtighe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ventilat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Tahoma"/>
              </a:rPr>
              <a:t>Wat kun je do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 morgens berege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elu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einig stikstof en goede kaligif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Bodemopbouw 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rain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-54360" y="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Brownpatc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9:02:40Z</dcterms:created>
  <dc:creator>Peter</dc:creator>
  <dc:description/>
  <dc:language>en-US</dc:language>
  <cp:lastModifiedBy>nugter</cp:lastModifiedBy>
  <dcterms:modified xsi:type="dcterms:W3CDTF">2011-02-02T09:26:26Z</dcterms:modified>
  <cp:revision>31</cp:revision>
  <dc:subject/>
  <dc:title>Schimmelziekten op de baan</dc:title>
</cp:coreProperties>
</file>