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5E96-E07D-4D68-A513-FA89E501A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8D7-3168-439A-8117-ED293151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98C-4AF9-4564-8FF8-B6185EA8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2D54-549E-41AA-AD30-C1281D8E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C850-BD56-4692-A633-65400169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5D7-73FE-44C0-92C9-1E63F4F5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43C-8A4E-400E-A920-BFE0399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AE1-B18A-4763-B913-AAE376922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5BB-8CC3-4A43-BFBF-BD7E174F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1C9-35AA-41E6-B038-69EBB78A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733F-7442-4FAA-8348-104C7B41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F7CA-D579-4717-B410-25CEC27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AF51-41D3-4B5B-A894-A03698C7B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ha e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are = 1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ha = 10.000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met liters en ml (= c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, = 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= 100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 liter per ha = 1000 ml per 10.000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liter per ha = 1000 ml per 100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 1 are is dat: (1/100 van 1000 ml =) 10 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8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n veldspuit heeft een inhoud van 1000 liter. Hiermee wordt op een perceel een bespuiting uitgevoerd. Op het etiket wordt voor het middel een dosering van 5 liter per ha aangegeven. De hoeveelheid water per ha is 400 liter. Hoeveel middel moet worden gereed gemaakt voor 1 tankvul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9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wordt een bespuiting uitgevoerd. De dosering van het middel is 5 liter per ha. De hoeveel­heid water per ha is 400 liter. De tank moet voor de laatste omgang bijgevuld worden. Er is nog 100 liter spuitvloeistof in de tank. Er moet nog 2 ha gespoten worden. De noodzakelijke hoeveelheid rest­vloeistof is 25 li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hoeveel water moet worden bijgevu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een bietenperceel van 5 ha wordt een rijenbepuiting uitge­voerd. De rijenaf­stand is 50 cm. De te bespuiten strook is 20 cm. Gerekend naar een volveldsbe­spuiting zou 300 liter per ha worden verspoten worden en de dosering van het middel zou 5 liter per ha zijn. De noodzakelijke hoeveelheid restvloei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aagt 25 liter (De veldspuit heeft een tank van 1000 li­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spuitvloeistof moet er worden gereedgemaak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middel moet hier aan worden toegevoeg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reken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  <a:hlinkClick r:id="rId1"/>
              </a:rPr>
              <a:t>rekenoef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s en kil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is 1000 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kilo is 1000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ml weegt ongeveer 1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liter weegt ongeveer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2,5 ha moet een vloeibaar onkruidgewasbeschermingsmiddel worden toegediend. Op het etiket wordt een dose­ring van 3 liter per ha vermeld.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heid water bij deze behandeling is 200 liter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middel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eken de hoeveelheid water die nodig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1500 m² moet een vloeibaar ziektebestrijdingsmiddel worden toegediend in een opgaand gewas. De `dosering' (beter: meng­verhouding of concentratie) is volgens het etiket 50 ml middel per 100 liter water. De benodigde hoeveelheid spuitvloeistof is 20 liter per 100 m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water 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benodigde hoeveelheid middel in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 een perceel van 5 ha wordt een spuitpoeder toegepast tegen bladluizen. De dosering bedraagt 0,5 kg per 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kg middel moet in totaal afgewogen word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 middel moet ook worden toegepast op een klein perce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eveel middel is er voor dit perceel nodig, uitge­drukt in gram per a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drach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meter bij 25 meter moet een onkruidbestrijding worden uitgevoerd. Voor het uitrekenen van de beno­digde hoeveelheid middel en water moet je de oppervlakte we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reken de oppervlakte van dit perce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m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5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. Bereken de hoeveelheid middel die voor deze bespuiting nodig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millili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ar hangt het van af of je de hoeveelheid uitdrukt in liters of in millili­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een perceel van 20 bij 25 meter moet een onkruidbe­strijding worden uitge­voerd. Op het etiket wordt voor het middel een dosering vermeld van 3 liter per ha en een hoeveelheid water van 200 liter per ha. Bereken de hoeveelheid water die voor de bespuiting nodig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dracht 7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een perceel van 40 bij 25 meter moet een onkruidbe­strijding worden uitge­voerd. De dosering van het middel is 3 liter per ha en de hoeveelheid water 200 liter per ha. De bestrijding wordt uitgevoerd met een rugspuit die een tankinhoud heeft van 15 l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die nodig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 met 1 tankvulling worden volst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voor de eerste tank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eken de hoeveelheid middel en water voor de tweede tank­vul­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8:48:57Z</dcterms:created>
  <dc:creator>Peter</dc:creator>
  <dc:description/>
  <dc:language>en-US</dc:language>
  <cp:lastModifiedBy>Administrator</cp:lastModifiedBy>
  <dcterms:modified xsi:type="dcterms:W3CDTF">2009-12-28T17:53:48Z</dcterms:modified>
  <cp:revision>7</cp:revision>
  <dc:subject/>
  <dc:title>Berekeningen</dc:title>
</cp:coreProperties>
</file>