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B30-C4EF-4935-B475-2D7DBFE6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C4E4-45B2-4B8A-8EC7-C7C66602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F8F-93E9-401C-8BF9-0E6D3765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8BA-E7B6-4C41-9703-331D9EFC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C599-DD2E-4AFC-A1BC-6D34019B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D38F-EAD3-4357-8093-2FA8484D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F7B3-3A8A-48D0-AFA3-9BF49DFC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3265-920E-4EFA-B549-8C4B0E60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B03D-CD23-4A34-A7D9-765D61F5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D1ED-B1AF-4143-BD20-EA790162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F8FE-9DEC-4C41-AD7D-3235E58B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54E-BD58-4E7A-99C1-EA999119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35A0-5AF5-48F1-A705-8F66F54C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7560-3559-457C-AC45-39C2042B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FF5C-8030-4F3C-9691-34677403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B7F0-6EB2-4B23-AB08-0A8A5B87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A9A4-5ABE-4121-B7B6-5A69771A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C42-B24C-4E5E-B2C6-7A4C8CA9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25B-16C5-43C6-963D-176B9A38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0D1-3D66-4EBD-9EE1-22E4B6DB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030-01F6-4356-9776-67179308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7A4-BE11-4445-88B5-FC51F3D3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611-FDE0-4C80-8299-1F2D6850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744-77D9-48AD-AD8F-28578BBF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DEAE-9179-48A1-8F28-56D09273BEA0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57A7-52DF-4A15-A32B-117DCB9EBBEC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éntha 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57200"/>
            <a:ext cx="3990960" cy="6248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536600" y="7621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mu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971440" y="1371600"/>
            <a:ext cx="5501160" cy="932400"/>
            <a:chOff x="2971440" y="1371600"/>
            <a:chExt cx="5501160" cy="932400"/>
          </a:xfrm>
        </p:grpSpPr>
        <p:sp>
          <p:nvSpPr>
            <p:cNvPr id="225" name=""/>
            <p:cNvSpPr/>
            <p:nvPr/>
          </p:nvSpPr>
          <p:spPr>
            <a:xfrm>
              <a:off x="4724280" y="1600200"/>
              <a:ext cx="374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10) in een sterk ruikende, bolvormig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971440" y="1371600"/>
              <a:ext cx="1523880" cy="4572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71800" y="1143000"/>
            <a:ext cx="5756400" cy="5334120"/>
            <a:chOff x="2971800" y="1143000"/>
            <a:chExt cx="5756400" cy="533412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23252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1800" y="1143000"/>
              <a:ext cx="15238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enyánthes trifoliá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4647960" y="3657600"/>
            <a:ext cx="2910240" cy="1008720"/>
            <a:chOff x="4647960" y="3657600"/>
            <a:chExt cx="2910240" cy="1008720"/>
          </a:xfrm>
        </p:grpSpPr>
        <p:sp>
          <p:nvSpPr>
            <p:cNvPr id="235" name=""/>
            <p:cNvSpPr/>
            <p:nvPr/>
          </p:nvSpPr>
          <p:spPr>
            <a:xfrm>
              <a:off x="5334120" y="3657600"/>
              <a:ext cx="222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bloemen (5-6) met gefranjerde kroonslipp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47960" y="4191120"/>
              <a:ext cx="5331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8320" y="2143080"/>
            <a:ext cx="4267080" cy="4200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360560" y="7621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8000"/>
                </a:solidFill>
                <a:latin typeface="Times New Roman"/>
              </a:rPr>
              <a:t>Waterdriebl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0"/>
            <a:ext cx="8610480" cy="6553080"/>
            <a:chOff x="304920" y="0"/>
            <a:chExt cx="8610480" cy="6553080"/>
          </a:xfrm>
        </p:grpSpPr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304920" y="1301760"/>
              <a:ext cx="8610480" cy="52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04920" y="0"/>
              <a:ext cx="335268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yosótis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862960" y="83808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-vergeet-me- niet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343040" y="3124080"/>
            <a:ext cx="4209480" cy="398880"/>
            <a:chOff x="4343040" y="3124080"/>
            <a:chExt cx="4209480" cy="398880"/>
          </a:xfrm>
        </p:grpSpPr>
        <p:sp>
          <p:nvSpPr>
            <p:cNvPr id="248" name=""/>
            <p:cNvSpPr/>
            <p:nvPr/>
          </p:nvSpPr>
          <p:spPr>
            <a:xfrm>
              <a:off x="5630040" y="3124080"/>
              <a:ext cx="29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6) in schi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343040" y="3352680"/>
              <a:ext cx="1219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8600" y="0"/>
            <a:ext cx="8458200" cy="6543720"/>
            <a:chOff x="228600" y="0"/>
            <a:chExt cx="8458200" cy="654372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685800" y="1295280"/>
              <a:ext cx="800100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85800" y="0"/>
              <a:ext cx="358164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1447920"/>
              <a:ext cx="457200" cy="1904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41338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33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úphar lúteu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1371600"/>
            <a:ext cx="5715000" cy="5010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543440" y="8380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plom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261" name="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1371600"/>
            <a:ext cx="8382240" cy="5280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80880" y="1295280"/>
            <a:ext cx="8382240" cy="538488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304920" y="1295280"/>
            <a:ext cx="8534160" cy="5410440"/>
            <a:chOff x="304920" y="1295280"/>
            <a:chExt cx="8534160" cy="5410440"/>
          </a:xfrm>
        </p:grpSpPr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04920" y="1295280"/>
              <a:ext cx="853416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3600" y="609588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ortelstokk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ymphaéa álba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838080"/>
            <a:ext cx="5562720" cy="5116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391520" y="838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leli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86040" y="1981080"/>
            <a:ext cx="2833920" cy="1313640"/>
            <a:chOff x="5486040" y="1981080"/>
            <a:chExt cx="2833920" cy="1313640"/>
          </a:xfrm>
        </p:grpSpPr>
        <p:sp>
          <p:nvSpPr>
            <p:cNvPr id="274" name=""/>
            <p:cNvSpPr/>
            <p:nvPr/>
          </p:nvSpPr>
          <p:spPr>
            <a:xfrm>
              <a:off x="6248520" y="1981080"/>
              <a:ext cx="2071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roonbladen groter dan kelk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86040" y="2514600"/>
              <a:ext cx="685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0880" y="685800"/>
            <a:ext cx="8153640" cy="6019920"/>
            <a:chOff x="380880" y="685800"/>
            <a:chExt cx="8153640" cy="601992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8077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80880" y="685800"/>
              <a:ext cx="4572000" cy="533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373068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162560" cy="44388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Ranúnculus aquátil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71800" y="1371600"/>
            <a:ext cx="4392000" cy="4742280"/>
            <a:chOff x="2971800" y="1371600"/>
            <a:chExt cx="4392000" cy="4742280"/>
          </a:xfrm>
        </p:grpSpPr>
        <p:sp>
          <p:nvSpPr>
            <p:cNvPr id="285" name=""/>
            <p:cNvSpPr/>
            <p:nvPr/>
          </p:nvSpPr>
          <p:spPr>
            <a:xfrm>
              <a:off x="3499920" y="1371600"/>
              <a:ext cx="20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rijvende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3400" y="5715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gedoken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24280" y="5257440"/>
              <a:ext cx="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71800" y="160020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28600" y="2514600"/>
            <a:ext cx="1919160" cy="1008720"/>
            <a:chOff x="228600" y="2514600"/>
            <a:chExt cx="1919160" cy="1008720"/>
          </a:xfrm>
        </p:grpSpPr>
        <p:sp>
          <p:nvSpPr>
            <p:cNvPr id="290" name=""/>
            <p:cNvSpPr/>
            <p:nvPr/>
          </p:nvSpPr>
          <p:spPr>
            <a:xfrm>
              <a:off x="228600" y="2514600"/>
              <a:ext cx="1919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 met witte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1600" y="304812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189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34120" y="3352680"/>
            <a:ext cx="3047760" cy="2727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246000" y="838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wone waterranonk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4870440" cy="7559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agittária sagit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85840" y="838080"/>
            <a:ext cx="3673800" cy="1999080"/>
            <a:chOff x="3885840" y="838080"/>
            <a:chExt cx="3673800" cy="1999080"/>
          </a:xfrm>
        </p:grpSpPr>
        <p:sp>
          <p:nvSpPr>
            <p:cNvPr id="300" name=""/>
            <p:cNvSpPr/>
            <p:nvPr/>
          </p:nvSpPr>
          <p:spPr>
            <a:xfrm>
              <a:off x="4716360" y="1600200"/>
              <a:ext cx="28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9) éénslach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1760" y="2438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1400" y="8380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885840" y="10666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14800" y="266688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0"/>
            <a:ext cx="8763120" cy="7178760"/>
            <a:chOff x="0" y="0"/>
            <a:chExt cx="8763120" cy="717876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52772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"/>
            <p:cNvGrpSpPr/>
            <p:nvPr/>
          </p:nvGrpSpPr>
          <p:grpSpPr>
            <a:xfrm>
              <a:off x="228600" y="0"/>
              <a:ext cx="8534520" cy="6561000"/>
              <a:chOff x="228600" y="0"/>
              <a:chExt cx="8534520" cy="6561000"/>
            </a:xfrm>
          </p:grpSpPr>
          <p:pic>
            <p:nvPicPr>
              <p:cNvPr id="3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838080"/>
                <a:ext cx="853452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228600" y="0"/>
                <a:ext cx="49528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15640" y="304920"/>
              <a:ext cx="44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iverse bladvormen, drijvend en op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28600" y="762120"/>
            <a:ext cx="8686800" cy="5802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1295280" y="76212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280" y="304920"/>
            <a:ext cx="4803840" cy="703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                              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zuring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círpus lac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-1834" t="0" r="0" b="0"/>
          <a:stretch/>
        </p:blipFill>
        <p:spPr>
          <a:xfrm>
            <a:off x="0" y="685800"/>
            <a:ext cx="7238880" cy="617364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6629400" y="1523880"/>
            <a:ext cx="2224080" cy="1008720"/>
            <a:chOff x="6629400" y="1523880"/>
            <a:chExt cx="2224080" cy="1008720"/>
          </a:xfrm>
        </p:grpSpPr>
        <p:sp>
          <p:nvSpPr>
            <p:cNvPr id="319" name=""/>
            <p:cNvSpPr/>
            <p:nvPr/>
          </p:nvSpPr>
          <p:spPr>
            <a:xfrm>
              <a:off x="7086600" y="1523880"/>
              <a:ext cx="1766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éénslachtige bloemen (7-8) in aartj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629400" y="2057400"/>
              <a:ext cx="3808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324480" y="4038480"/>
            <a:ext cx="2057400" cy="703800"/>
            <a:chOff x="6324480" y="4038480"/>
            <a:chExt cx="2057400" cy="703800"/>
          </a:xfrm>
        </p:grpSpPr>
        <p:sp>
          <p:nvSpPr>
            <p:cNvPr id="322" name=""/>
            <p:cNvSpPr/>
            <p:nvPr/>
          </p:nvSpPr>
          <p:spPr>
            <a:xfrm>
              <a:off x="7010280" y="40384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gelede stengel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324480" y="4419720"/>
              <a:ext cx="60984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686800" cy="5791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952720" y="30492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attenbies of Stoelenb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8610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1905120" y="1905120"/>
            <a:ext cx="6923520" cy="1465560"/>
            <a:chOff x="1905120" y="1905120"/>
            <a:chExt cx="6923520" cy="1465560"/>
          </a:xfrm>
        </p:grpSpPr>
        <p:sp>
          <p:nvSpPr>
            <p:cNvPr id="330" name=""/>
            <p:cNvSpPr/>
            <p:nvPr/>
          </p:nvSpPr>
          <p:spPr>
            <a:xfrm>
              <a:off x="5630400" y="2971800"/>
              <a:ext cx="31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2 schutbladen (</a:t>
              </a:r>
              <a:r>
                <a:rPr b="0" i="1" lang="en-US" sz="2000" spc="-1" strike="noStrike">
                  <a:solidFill>
                    <a:srgbClr val="5e855b"/>
                  </a:solidFill>
                  <a:latin typeface="Times New Roman"/>
                </a:rPr>
                <a:t>krabbescheer</a:t>
              </a: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581280" y="1905120"/>
              <a:ext cx="1981440" cy="12952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1905120" y="2590560"/>
              <a:ext cx="3657600" cy="6094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057040" y="1066680"/>
            <a:ext cx="5882040" cy="1313640"/>
            <a:chOff x="2057040" y="1066680"/>
            <a:chExt cx="5882040" cy="1313640"/>
          </a:xfrm>
        </p:grpSpPr>
        <p:sp>
          <p:nvSpPr>
            <p:cNvPr id="334" name=""/>
            <p:cNvSpPr/>
            <p:nvPr/>
          </p:nvSpPr>
          <p:spPr>
            <a:xfrm>
              <a:off x="5562720" y="1066680"/>
              <a:ext cx="2376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7) meestal vrouwelijk, net boven het water uitsteke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57040" y="1295280"/>
              <a:ext cx="33526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057040" y="4572000"/>
            <a:ext cx="6263280" cy="398880"/>
            <a:chOff x="2057040" y="4572000"/>
            <a:chExt cx="6263280" cy="398880"/>
          </a:xfrm>
        </p:grpSpPr>
        <p:sp>
          <p:nvSpPr>
            <p:cNvPr id="337" name=""/>
            <p:cNvSpPr/>
            <p:nvPr/>
          </p:nvSpPr>
          <p:spPr>
            <a:xfrm>
              <a:off x="5632560" y="4572000"/>
              <a:ext cx="26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scherp gezaag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057040" y="4800600"/>
              <a:ext cx="3505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0880" y="0"/>
            <a:ext cx="8991720" cy="6858000"/>
            <a:chOff x="380880" y="0"/>
            <a:chExt cx="8991720" cy="6858000"/>
          </a:xfrm>
        </p:grpSpPr>
        <p:grpSp>
          <p:nvGrpSpPr>
            <p:cNvPr id="340" name=""/>
            <p:cNvGrpSpPr/>
            <p:nvPr/>
          </p:nvGrpSpPr>
          <p:grpSpPr>
            <a:xfrm>
              <a:off x="380880" y="0"/>
              <a:ext cx="8991720" cy="6858000"/>
              <a:chOff x="380880" y="0"/>
              <a:chExt cx="8991720" cy="6858000"/>
            </a:xfrm>
          </p:grpSpPr>
          <p:pic>
            <p:nvPicPr>
              <p:cNvPr id="3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304920"/>
                <a:ext cx="5837400" cy="640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172200" y="0"/>
                <a:ext cx="3200400" cy="6858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319080" y="609588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twikkelingscyclu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28600" y="304920"/>
            <a:ext cx="8763120" cy="6292800"/>
            <a:chOff x="228600" y="304920"/>
            <a:chExt cx="8763120" cy="629280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228600" y="914400"/>
              <a:ext cx="8763120" cy="56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87280" y="39528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38640" y="304920"/>
              <a:ext cx="1676160" cy="6094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5720" y="380880"/>
            <a:ext cx="8766000" cy="6256080"/>
            <a:chOff x="225720" y="380880"/>
            <a:chExt cx="8766000" cy="6256080"/>
          </a:xfrm>
        </p:grpSpPr>
        <p:pic>
          <p:nvPicPr>
            <p:cNvPr id="349" name="" descr=""/>
            <p:cNvPicPr/>
            <p:nvPr/>
          </p:nvPicPr>
          <p:blipFill>
            <a:blip r:embed="rId4"/>
            <a:stretch/>
          </p:blipFill>
          <p:spPr>
            <a:xfrm>
              <a:off x="228600" y="9140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25720" y="380880"/>
              <a:ext cx="143496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oven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4343400" y="91440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tratiótes aloíd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3720" y="3049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rabbesche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9480" y="228600"/>
            <a:ext cx="34671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3200040" y="1066680"/>
            <a:ext cx="3416760" cy="3004200"/>
            <a:chOff x="3200040" y="1066680"/>
            <a:chExt cx="3416760" cy="3004200"/>
          </a:xfrm>
        </p:grpSpPr>
        <p:sp>
          <p:nvSpPr>
            <p:cNvPr id="358" name=""/>
            <p:cNvSpPr/>
            <p:nvPr/>
          </p:nvSpPr>
          <p:spPr>
            <a:xfrm>
              <a:off x="4110480" y="1066680"/>
              <a:ext cx="24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95360" y="3672000"/>
              <a:ext cx="25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00040" y="12952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52320" y="38862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200040" y="1828800"/>
            <a:ext cx="5585760" cy="398880"/>
            <a:chOff x="3200040" y="1828800"/>
            <a:chExt cx="5585760" cy="398880"/>
          </a:xfrm>
        </p:grpSpPr>
        <p:sp>
          <p:nvSpPr>
            <p:cNvPr id="363" name=""/>
            <p:cNvSpPr/>
            <p:nvPr/>
          </p:nvSpPr>
          <p:spPr>
            <a:xfrm flipH="1">
              <a:off x="3200040" y="20574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03280" y="1828800"/>
              <a:ext cx="468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géén of weinig ruimte tussen de bloeiwijz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200400" y="304920"/>
            <a:ext cx="5486400" cy="6172200"/>
            <a:chOff x="3200400" y="304920"/>
            <a:chExt cx="5486400" cy="617220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1148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3200400" y="914400"/>
              <a:ext cx="137160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3657600"/>
              <a:ext cx="121932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304920" y="0"/>
            <a:ext cx="8381880" cy="6477120"/>
            <a:chOff x="304920" y="0"/>
            <a:chExt cx="8381880" cy="6477120"/>
          </a:xfrm>
        </p:grpSpPr>
        <p:pic>
          <p:nvPicPr>
            <p:cNvPr id="371" name="" descr=""/>
            <p:cNvPicPr/>
            <p:nvPr/>
          </p:nvPicPr>
          <p:blipFill>
            <a:blip r:embed="rId4"/>
            <a:stretch/>
          </p:blipFill>
          <p:spPr>
            <a:xfrm>
              <a:off x="457200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30492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419720" y="1143000"/>
              <a:ext cx="152280" cy="5334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920" y="0"/>
              <a:ext cx="8381880" cy="1143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Týpha la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38160" y="304920"/>
            <a:ext cx="289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rote lisdodde, Rietsiga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lísma plantágo-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200" y="8380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weegbre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14440" y="1981080"/>
            <a:ext cx="3491280" cy="1295280"/>
            <a:chOff x="4114440" y="1981080"/>
            <a:chExt cx="3491280" cy="1295280"/>
          </a:xfrm>
        </p:grpSpPr>
        <p:sp>
          <p:nvSpPr>
            <p:cNvPr id="119" name=""/>
            <p:cNvSpPr/>
            <p:nvPr/>
          </p:nvSpPr>
          <p:spPr>
            <a:xfrm>
              <a:off x="5410080" y="1981080"/>
              <a:ext cx="2195640" cy="7038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9) in pluim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440" y="2590560"/>
              <a:ext cx="114300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1371600"/>
            <a:ext cx="4664160" cy="5257800"/>
            <a:chOff x="4114800" y="1371600"/>
            <a:chExt cx="4664160" cy="52578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5334120" y="1371600"/>
              <a:ext cx="34448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114800" y="2438280"/>
              <a:ext cx="121932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57800" y="1371600"/>
            <a:ext cx="3529080" cy="5334120"/>
            <a:chOff x="5257800" y="1371600"/>
            <a:chExt cx="3529080" cy="533412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257800" y="1371600"/>
              <a:ext cx="352908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389000" y="6172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interbeel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4400" y="6613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Cáltha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" y="152280"/>
            <a:ext cx="4854600" cy="670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85880" y="838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Dotterblo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040" y="914040"/>
            <a:ext cx="3711960" cy="1161360"/>
            <a:chOff x="4343040" y="914040"/>
            <a:chExt cx="3711960" cy="1161360"/>
          </a:xfrm>
        </p:grpSpPr>
        <p:sp>
          <p:nvSpPr>
            <p:cNvPr id="133" name=""/>
            <p:cNvSpPr/>
            <p:nvPr/>
          </p:nvSpPr>
          <p:spPr>
            <a:xfrm>
              <a:off x="5562720" y="1676520"/>
              <a:ext cx="249228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5-6 bloembladen (4-5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343040" y="914040"/>
              <a:ext cx="1066680" cy="76212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3520" y="0"/>
            <a:ext cx="8001000" cy="6629400"/>
            <a:chOff x="533520" y="0"/>
            <a:chExt cx="8001000" cy="66294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33520" y="1295280"/>
              <a:ext cx="8001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33520" y="0"/>
              <a:ext cx="487692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520" y="1295280"/>
            <a:ext cx="8001000" cy="533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800100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99760" y="457200"/>
            <a:ext cx="3362760" cy="3276360"/>
            <a:chOff x="599760" y="457200"/>
            <a:chExt cx="3362760" cy="327636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609480" y="533160"/>
              <a:ext cx="3186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9760" y="457200"/>
              <a:ext cx="336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zaden in bootvormige vru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Elodéa canadéns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4516560" cy="703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657600" cy="5209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80960" y="68580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Brede waterp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78400" y="457200"/>
            <a:ext cx="143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i (6-8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oven wat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Filipéndula ulm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98600" y="228600"/>
            <a:ext cx="3755880" cy="64771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2133360" y="2514600"/>
            <a:ext cx="6016320" cy="1479960"/>
            <a:chOff x="2133360" y="2514600"/>
            <a:chExt cx="6016320" cy="1479960"/>
          </a:xfrm>
        </p:grpSpPr>
        <p:sp>
          <p:nvSpPr>
            <p:cNvPr id="155" name=""/>
            <p:cNvSpPr/>
            <p:nvPr/>
          </p:nvSpPr>
          <p:spPr>
            <a:xfrm>
              <a:off x="5019480" y="2514600"/>
              <a:ext cx="27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in ‘speren’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360" y="2743200"/>
              <a:ext cx="2895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6160" y="3290760"/>
              <a:ext cx="314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afgebroken geveer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zijde witvil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91120" y="3581280"/>
              <a:ext cx="7617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160760" y="7621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spire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304920"/>
            <a:ext cx="8382240" cy="6324480"/>
            <a:chOff x="380880" y="304920"/>
            <a:chExt cx="8382240" cy="632448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83822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80880" y="304920"/>
              <a:ext cx="365760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Iris pseudácor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380880"/>
            <a:ext cx="340992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849080" y="76212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li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362320" y="1523880"/>
            <a:ext cx="4814640" cy="703800"/>
            <a:chOff x="2362320" y="1523880"/>
            <a:chExt cx="4814640" cy="703800"/>
          </a:xfrm>
        </p:grpSpPr>
        <p:sp>
          <p:nvSpPr>
            <p:cNvPr id="169" name=""/>
            <p:cNvSpPr/>
            <p:nvPr/>
          </p:nvSpPr>
          <p:spPr>
            <a:xfrm>
              <a:off x="4267080" y="1523880"/>
              <a:ext cx="290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drietallige bloemen (5-7) met duidelijk honingmer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62320" y="2057400"/>
              <a:ext cx="1828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90920" y="3809880"/>
            <a:ext cx="4572000" cy="2470680"/>
            <a:chOff x="2590920" y="3809880"/>
            <a:chExt cx="4572000" cy="247068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648320" y="3809880"/>
              <a:ext cx="251460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33200" y="588168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z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4876920"/>
              <a:ext cx="22860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0880" y="228600"/>
            <a:ext cx="8323560" cy="6629400"/>
            <a:chOff x="380880" y="228600"/>
            <a:chExt cx="8323560" cy="6629400"/>
          </a:xfrm>
        </p:grpSpPr>
        <p:pic>
          <p:nvPicPr>
            <p:cNvPr id="176" name="" descr=""/>
            <p:cNvPicPr/>
            <p:nvPr/>
          </p:nvPicPr>
          <p:blipFill>
            <a:blip r:embed="rId3">
              <a:lum bright="24000"/>
            </a:blip>
            <a:stretch/>
          </p:blipFill>
          <p:spPr>
            <a:xfrm>
              <a:off x="380880" y="228600"/>
              <a:ext cx="439596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5410080" y="1371600"/>
              <a:ext cx="329436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724280" y="228600"/>
              <a:ext cx="762120" cy="6629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nummul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228600"/>
            <a:ext cx="3851280" cy="6629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010280" y="7621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Penningkru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38480" y="1905120"/>
            <a:ext cx="4395960" cy="398880"/>
            <a:chOff x="4038480" y="1905120"/>
            <a:chExt cx="4395960" cy="398880"/>
          </a:xfrm>
        </p:grpSpPr>
        <p:sp>
          <p:nvSpPr>
            <p:cNvPr id="185" name=""/>
            <p:cNvSpPr/>
            <p:nvPr/>
          </p:nvSpPr>
          <p:spPr>
            <a:xfrm>
              <a:off x="5478480" y="19051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alleen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038480" y="2133720"/>
              <a:ext cx="13716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38480" y="1600200"/>
            <a:ext cx="4641840" cy="4610160"/>
            <a:chOff x="4038480" y="1600200"/>
            <a:chExt cx="4641840" cy="46101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419720" y="1600200"/>
              <a:ext cx="4260600" cy="46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038480" y="1905120"/>
              <a:ext cx="381240" cy="5331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927000"/>
            <a:ext cx="4297320" cy="5931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thyrs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4640" y="83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wederi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28640" y="4114800"/>
            <a:ext cx="4875480" cy="703800"/>
            <a:chOff x="3428640" y="4114800"/>
            <a:chExt cx="4875480" cy="703800"/>
          </a:xfrm>
        </p:grpSpPr>
        <p:sp>
          <p:nvSpPr>
            <p:cNvPr id="196" name=""/>
            <p:cNvSpPr/>
            <p:nvPr/>
          </p:nvSpPr>
          <p:spPr>
            <a:xfrm>
              <a:off x="5638680" y="4114800"/>
              <a:ext cx="26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in trossen (5-6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428640" y="4343400"/>
              <a:ext cx="19810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352680" y="1295280"/>
            <a:ext cx="5029200" cy="5257800"/>
            <a:chOff x="3352680" y="1295280"/>
            <a:chExt cx="5029200" cy="52578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419720" y="1295280"/>
              <a:ext cx="396216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52680" y="4191120"/>
              <a:ext cx="106704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ýthrum salic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" y="0"/>
            <a:ext cx="44928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466400" y="7621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attenstaa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3080" y="617220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men (6-7) in schijnkrans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14440" y="1905120"/>
            <a:ext cx="5029560" cy="3523680"/>
            <a:chOff x="4114440" y="1905120"/>
            <a:chExt cx="5029560" cy="3523680"/>
          </a:xfrm>
        </p:grpSpPr>
        <p:sp>
          <p:nvSpPr>
            <p:cNvPr id="208" name=""/>
            <p:cNvSpPr/>
            <p:nvPr/>
          </p:nvSpPr>
          <p:spPr>
            <a:xfrm>
              <a:off x="5410080" y="2895480"/>
              <a:ext cx="37339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opmerkelijk: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000" spc="-1" strike="noStrike">
                  <a:solidFill>
                    <a:srgbClr val="990033"/>
                  </a:solidFill>
                  <a:latin typeface="Times New Roman"/>
                </a:rPr>
                <a:t>trimorfie:</a:t>
              </a: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drie verschillende stijl- en meeldraadlengt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(per plant één bepaalde lengte)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Hierdoor is kruisbestuiving gegarandeerd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114440" y="3124080"/>
              <a:ext cx="1143000" cy="30492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267080" y="1905120"/>
              <a:ext cx="990720" cy="121896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114440" y="3124080"/>
              <a:ext cx="1143000" cy="160020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880" y="0"/>
            <a:ext cx="4953240" cy="6858000"/>
            <a:chOff x="380880" y="0"/>
            <a:chExt cx="4953240" cy="685800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80880" y="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114800" y="0"/>
              <a:ext cx="1219320" cy="6858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920" y="0"/>
            <a:ext cx="8610480" cy="6858000"/>
            <a:chOff x="304920" y="0"/>
            <a:chExt cx="8610480" cy="685800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861048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4920" y="0"/>
              <a:ext cx="3962160" cy="12193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20" y="6553080"/>
              <a:ext cx="396216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20:44Z</dcterms:modified>
  <cp:revision>12</cp:revision>
  <dc:subject/>
  <dc:title>Dia 1</dc:title>
</cp:coreProperties>
</file>