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937-55CA-4F90-A413-B04D818C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AE9-D588-41A1-B0BE-ABEC2BC5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6FE-97BC-4FE8-BB4B-75548728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1B6-6881-44A2-8F05-7E50B49D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65E0-EEC7-4E75-9808-CFEA5E69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6C23-DF7E-44C3-8549-A6D18C78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757F-327A-4CA6-A5A2-C8BFA3AA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E0A6-47A3-4045-BBD3-1F7FA268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A428-3EB9-4C62-8696-B270610E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3AFA-00E8-46DB-A00A-D700F2A3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7CF8-5941-43F0-B7C4-196F14E5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0BA-7458-4565-8943-3C663BC8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1D53-54BD-4DE5-B107-E99834DB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1D32-AE8C-4D3F-919F-5C9BDD53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216F-019B-46CE-8C1F-81E842C1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EBBC-2F6D-4BDF-A77E-3492DCB0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DA12-EFF7-42AC-A49C-5529AE31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6F2-02F8-4BC2-B187-828425F3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6CD-E4E3-45B8-B5F5-B2AC2C94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8FA-BC7D-4891-A593-3BECA79A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F76-8F8E-4544-8DBB-E7EA2A5C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74E-79C8-471B-BFF4-E3673ED5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499-1D09-40E8-B123-54489492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6F8-F2D9-4CD2-8E8C-973A42E7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7D65-28D2-4640-B20D-EBB1E6D197E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D68B-4AD8-4EE5-BED5-4591E397BCB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eti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ystemische werking, wordt in de sapstroom opge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ntactmiddelen, werkt alleen waar het gewas wordt geraa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electieve middelen, doodt alleen een soort of groep insecten of onkru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sdoders, maakt geen onders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reventieve middelen voorkomt een pla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uratieve middelen gene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vaarsymbo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0" descr=""/>
          <p:cNvPicPr/>
          <p:nvPr/>
        </p:nvPicPr>
        <p:blipFill>
          <a:blip r:embed="rId1"/>
          <a:stretch/>
        </p:blipFill>
        <p:spPr>
          <a:xfrm>
            <a:off x="0" y="112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0" descr=""/>
          <p:cNvPicPr/>
          <p:nvPr/>
        </p:nvPicPr>
        <p:blipFill>
          <a:blip r:embed="rId2"/>
          <a:stretch/>
        </p:blipFill>
        <p:spPr>
          <a:xfrm>
            <a:off x="0" y="191628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185" name="0" descr=""/>
          <p:cNvPicPr/>
          <p:nvPr/>
        </p:nvPicPr>
        <p:blipFill>
          <a:blip r:embed="rId3"/>
          <a:stretch/>
        </p:blipFill>
        <p:spPr>
          <a:xfrm>
            <a:off x="0" y="2708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6" name="0" descr=""/>
          <p:cNvPicPr/>
          <p:nvPr/>
        </p:nvPicPr>
        <p:blipFill>
          <a:blip r:embed="rId4"/>
          <a:stretch/>
        </p:blipFill>
        <p:spPr>
          <a:xfrm>
            <a:off x="0" y="3500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0" descr=""/>
          <p:cNvPicPr/>
          <p:nvPr/>
        </p:nvPicPr>
        <p:blipFill>
          <a:blip r:embed="rId5"/>
          <a:stretch/>
        </p:blipFill>
        <p:spPr>
          <a:xfrm>
            <a:off x="0" y="5013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8" name="0" descr=""/>
          <p:cNvPicPr/>
          <p:nvPr/>
        </p:nvPicPr>
        <p:blipFill>
          <a:blip r:embed="rId6"/>
          <a:stretch/>
        </p:blipFill>
        <p:spPr>
          <a:xfrm>
            <a:off x="0" y="580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9" name="0" descr=""/>
          <p:cNvPicPr/>
          <p:nvPr/>
        </p:nvPicPr>
        <p:blipFill>
          <a:blip r:embed="rId7"/>
          <a:stretch/>
        </p:blipFill>
        <p:spPr>
          <a:xfrm>
            <a:off x="0" y="4292640"/>
            <a:ext cx="666720" cy="65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86680" y="121608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shoofd”. Symbool voor zeer vergiftige en vergiftig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200" y="2008080"/>
            <a:ext cx="85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kruis”. Voor middelen die irriterend zijn of schadelijk voor de gezond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80044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m”. Voor licht ontvlambar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3960" y="359244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m boven cirkel”. Voor oxyderend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00" y="438480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. van inwerkend zuur op materiaal of lichaamsdeel. Voor bijtende midd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520" y="51055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ploffende bom”. Voor explosiev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720" y="5897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aarlijk voor het mili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ket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rkn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oelatingsnum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rd van het prepara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zame 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ha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houd van de verp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uwingsz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ligheidsaanbev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wettelijk gebruiksvoorschrif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schadelijke organis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gewas of gewasgro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- of verzorgingssitu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omgeving waar de teelt plaatsvin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tijdstip van bestrij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le andere toepassingen zijn verbo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veiligheidsterm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ijd tussen de laatste toepassing en de oog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is afhankelijk van de afbraaksnel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fvoeren van restanten en verpakk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 naar de leveranci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ar KCA-dep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drijfsaf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 STORL aanduiding geeft hierover inform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4552920"/>
            <a:ext cx="396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oefening etiketle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2320" y="306864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54c6"/>
                </a:solidFill>
                <a:uFillTx/>
                <a:latin typeface="Arial"/>
                <a:hlinkClick r:id="rId1"/>
              </a:rPr>
              <a:t>klik hier voor een voor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entie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felijk overdraagb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in blokk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ver niet me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maatregelen en bedrijfshygië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tige 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eringen en spuitinterv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anmaken van de spuitvloeist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etiket lez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eveelheid middel bereken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ersoonlijke beschermingsmiddelen aandoen/aanbren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apparatuur/toedieningsapparatuur klaarmak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ddel klaarmaken voor gebrui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ustreini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twoord opruimen van de verpakk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dienen mid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restant verantwoord afvoer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onmaken van apparatuur en beschermingsmidde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braak van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, zonlicht, microorganismen, chemische reac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braaksnelheid aangeduid met DT-50 waarde = halfwaardetijd in 30 d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T-waarde van meer dan 60 dagen = een moeilijk afbreekbaar product =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mt op plaatsen terecht zoals grond- en regen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nstell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kzame stof (W.S. of A.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verpakking aangegeven als percen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ak vaste stoffen of olieachtige 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oit als pure stof in verband met allerlei bez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vorm waarin de stof is gebracht is de “formuler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uit bestaan de middel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plos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raagstof of vul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pergeermiddel (de w.s. blijft zwev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mulgator (het w.s. blijft gemeng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itvloe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ch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nti-schuimmidd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- en geur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pergeer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2878" t="18276" r="27257" b="8480"/>
          <a:stretch/>
        </p:blipFill>
        <p:spPr>
          <a:xfrm>
            <a:off x="1258920" y="1768320"/>
            <a:ext cx="59770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formuler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korr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low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ngbare olië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ige oploss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uif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anul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ooi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ok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asnevelformule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eros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24000" y="43070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483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51280" y="5200560"/>
            <a:ext cx="43927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0360" y="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6160" y="609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it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2421000"/>
            <a:ext cx="214956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195640" y="1773360"/>
            <a:ext cx="206532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22160" y="220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29528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914400" cy="64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716360" y="162864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162320" y="33577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waterige oplo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8:26Z</dcterms:created>
  <dc:creator>Peter</dc:creator>
  <dc:description/>
  <dc:language>en-US</dc:language>
  <cp:lastModifiedBy>Administrator</cp:lastModifiedBy>
  <dcterms:modified xsi:type="dcterms:W3CDTF">2009-12-28T17:39:34Z</dcterms:modified>
  <cp:revision>7</cp:revision>
  <dc:subject/>
  <dc:title>Gewasbescherming</dc:title>
</cp:coreProperties>
</file>